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FBA2-5C61-4404-BB00-6A6088102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56AA6-2B22-4104-9BC8-AD46F31D3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0C20-C864-41FF-BDE3-2CD83903C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FAE3-F31A-4DB2-825E-63AE3AA1D8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2F92-9AC1-46DA-BB00-06327A6F5A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25FF-B80A-4E73-A658-3EF61B30F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46B6-E85D-483D-804A-467BC4588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F721-F25C-45EF-9540-915692AE4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88720"/>
            <a:ext cx="86040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89F3-FD81-4294-A4B6-5F38EF10D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E3BF-5AD1-4A5D-8CCC-42E0EF16A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49557-101F-44FE-B67F-50DC409A7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60DD6-F869-4F5B-B7F9-E494C8CCA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7460" r="29497" b="0"/>
          <a:stretch/>
        </p:blipFill>
        <p:spPr>
          <a:xfrm>
            <a:off x="7905600" y="0"/>
            <a:ext cx="1947960" cy="1101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058160" y="6305400"/>
            <a:ext cx="218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.</a:t>
            </a:r>
            <a:fld id="{0B5A9CF8-DF6A-4417-B014-7E7334B280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47640" y="6305400"/>
            <a:ext cx="598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SNMP &amp; Network Management, ©</a:t>
            </a:r>
            <a:r>
              <a:rPr b="0" lang="sv-SE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2010 Easy Software AB, version 6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42960" y="1150920"/>
            <a:ext cx="8364600" cy="0"/>
          </a:xfrm>
          <a:prstGeom prst="line">
            <a:avLst/>
          </a:prstGeom>
          <a:ln w="38160">
            <a:solidFill>
              <a:srgbClr val="ff0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64360"/>
            <a:ext cx="9906120" cy="0"/>
          </a:xfrm>
          <a:prstGeom prst="line">
            <a:avLst/>
          </a:prstGeom>
          <a:ln w="93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276960"/>
            <a:ext cx="9906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33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190800">
              <a:spcAft>
                <a:spcPts val="675"/>
              </a:spcAft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190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190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5. NMS Platfor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13280" y="1514520"/>
            <a:ext cx="3773520" cy="2449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Functional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NMS Platform; SNMP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Virtual Network La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Network Discove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Hands 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2308-0147-46BD-91D9-E9426226A7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Hands on  4(7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10720" y="1457280"/>
            <a:ext cx="45990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Comm T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Use Default Setting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00240" y="2948040"/>
            <a:ext cx="4514760" cy="2933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76800" y="2522520"/>
            <a:ext cx="277200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ADD6-F3E9-458D-BBD3-425042E6AE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Hands on  5(7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0720" y="1457280"/>
            <a:ext cx="45990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Filters T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Use Default Setting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19360" y="2952720"/>
            <a:ext cx="4514760" cy="293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FD5A-D3D3-474D-8373-708FC1CD03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Hands on  6(7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11080" y="1457280"/>
            <a:ext cx="660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Click OK … the process is now starting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Click the ”View All” button on Toolb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500880" y="2351160"/>
            <a:ext cx="355680" cy="31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4801-C177-4F23-93E0-CFE86DC7E7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Hands on  7(7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1080" y="1482840"/>
            <a:ext cx="60660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How does it wor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Node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ap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Impact on network and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5CFC-33D8-4670-898D-A322441619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The Discovery Proc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2600" y="1458720"/>
            <a:ext cx="701676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Broadcast (ICMP and SNM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Reverse DNS look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CP port te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For each node chec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ipAddrT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ifT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ipRouteT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ipNetToMediaTable (AR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For every node in ARP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repeat step 2-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211D-05E7-436A-B459-CEF0BD5210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Finish Lab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10720" y="1456920"/>
            <a:ext cx="668844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NMP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enu: File / Restore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Choose snmpkurs and Click Rest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re you sure?  Click Y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Click the ”Home” button on Toolb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289560" y="3178080"/>
            <a:ext cx="341280" cy="31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DEC1-0A03-43E7-AB46-F8C6990461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Functional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37280" y="1603440"/>
            <a:ext cx="339696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dd on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Not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rend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evice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12680" y="1603440"/>
            <a:ext cx="402120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Basic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ap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Network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IB 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oll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rap 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Event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Log Fil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erformance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rogramming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79C0-CAD8-4FF2-B588-E715EE11B7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NMS Platform – SNMP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2960" y="1356840"/>
            <a:ext cx="743112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Castle Rock Compu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Founded 198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Silicon Valley, Californi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Enterprise / Workgroup Ed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7A46-A47C-4D9F-96B2-926CB0BE0A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76880" y="1890720"/>
            <a:ext cx="4527360" cy="3575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Cisco Virtual Network Lab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09760" y="463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15920" y="5207040"/>
            <a:ext cx="28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67200" y="139536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69280" y="2446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router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247840" y="27050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15920" y="2908440"/>
            <a:ext cx="120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04560" y="290340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10.201.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61680" y="29034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3720" y="29034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15920" y="2908440"/>
            <a:ext cx="0" cy="22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49760" y="521496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192.10.2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62040" y="488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84480" y="433872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pc-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560" y="493560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.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870280" y="4635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22560" y="488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07080" y="493560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.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346040" y="359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761200" y="433872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pc-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28880" y="3746520"/>
            <a:ext cx="29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63880" y="332100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36840" y="3611520"/>
            <a:ext cx="12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192.10.20.4.1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74400" y="13971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route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47800" y="13953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route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63200" y="567216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uplink_switch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36240" y="567216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uplink_switc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38080" y="56721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switch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03240" y="56721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switc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52280" y="432432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.  .  .  .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65360" y="290844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079600" y="1725480"/>
            <a:ext cx="190440" cy="9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895800" y="1725480"/>
            <a:ext cx="160200" cy="85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986240" y="1725480"/>
            <a:ext cx="4050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224320" y="4833720"/>
            <a:ext cx="158760" cy="81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427800" y="4385880"/>
            <a:ext cx="245880" cy="12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7370640" y="4616280"/>
            <a:ext cx="146160" cy="9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8405640" y="5108040"/>
            <a:ext cx="98640" cy="5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84F4-4742-4723-8881-D3D6E210C3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Network Discovery  1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3440" y="1603440"/>
            <a:ext cx="290376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Find W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wi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H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k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r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13400" y="1603440"/>
            <a:ext cx="290340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est W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ICMP 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NMP ”P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CP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dvanced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Respons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B03F-95F3-413B-9AD8-F3DFF6D10C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Network Discovery  2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33440" y="1603440"/>
            <a:ext cx="290376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ap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Business 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Layer2 / Laye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E643-2629-46BE-B6E6-7EE7532F89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Hands on  1(7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06880" y="2620800"/>
            <a:ext cx="4514760" cy="2934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11080" y="1457280"/>
            <a:ext cx="663120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tartup SNMPc (no passwor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400" indent="-3654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enu: Config / Discovery/Polling Agents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520" indent="-36576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General T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520" indent="-365760">
              <a:lnSpc>
                <a:spcPct val="105000"/>
              </a:lnSpc>
              <a:spcBef>
                <a:spcPts val="751"/>
              </a:spcBef>
              <a:buClr>
                <a:srgbClr val="ff005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0055"/>
                </a:solidFill>
                <a:latin typeface="Arial"/>
              </a:rPr>
              <a:t>Enable Discove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867D-EF66-4FB8-8E6E-0CFCD514A3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Hands on  2(7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10720" y="1456920"/>
            <a:ext cx="4599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roto T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Use Default Setting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644920" y="2901960"/>
            <a:ext cx="4514760" cy="293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C6E1-86FE-4702-98DA-ED16F21FB1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Hands on  3(7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0720" y="1457280"/>
            <a:ext cx="45990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eeds T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812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Use Default Setting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644920" y="2927520"/>
            <a:ext cx="4514760" cy="293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9DD2-22CD-45EF-B551-2B8B4D446F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08:28:40Z</dcterms:created>
  <dc:creator>Leif Hagman</dc:creator>
  <dc:description/>
  <dc:language>en-US</dc:language>
  <cp:lastModifiedBy>Leif</cp:lastModifiedBy>
  <dcterms:modified xsi:type="dcterms:W3CDTF">2010-02-12T16:24:48Z</dcterms:modified>
  <cp:revision>72</cp:revision>
  <dc:subject/>
  <dc:title>PowerPoint Presentation</dc:title>
</cp:coreProperties>
</file>