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42E8-3DD7-4F05-BAD6-9803F7E28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80787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2600" y="3763080"/>
            <a:ext cx="80787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44A6-F9D2-4CED-9E12-7E04B2520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3942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2600" y="1437840"/>
            <a:ext cx="3942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2600" y="3763080"/>
            <a:ext cx="3942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2600" y="3763080"/>
            <a:ext cx="3942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2C70-58BC-47B2-88B3-AE4457DA4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2601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3920" y="1437840"/>
            <a:ext cx="2601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5600" y="1437840"/>
            <a:ext cx="2601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2600" y="3763080"/>
            <a:ext cx="2601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3920" y="3763080"/>
            <a:ext cx="2601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5600" y="3763080"/>
            <a:ext cx="2601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2B3A-B325-48CF-9127-ACE48D3E82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2600" y="1437840"/>
            <a:ext cx="80787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976D-4F9B-46BE-B808-8B529A647F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8078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A4F6-4EA4-4D6F-BE65-9F9FE2F34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39423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2600" y="1437840"/>
            <a:ext cx="39423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CF8F-5614-4438-AAC8-6F8EF2D31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AC33-38FC-4D20-965B-AA87A4071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88720"/>
            <a:ext cx="86040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94D7-5316-4E48-90BF-69AF806A8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3942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2600" y="1437840"/>
            <a:ext cx="39423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2600" y="3763080"/>
            <a:ext cx="3942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743A-3C47-4FC6-AE5F-BC477BE19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39423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2600" y="1437840"/>
            <a:ext cx="3942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2600" y="3763080"/>
            <a:ext cx="3942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4C79-20E2-43B6-8200-EA8630AD4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3942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2600" y="1437840"/>
            <a:ext cx="3942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2600" y="3763080"/>
            <a:ext cx="80787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7E3D-9549-4B7B-861C-EA71F4141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7460" r="29497" b="0"/>
          <a:stretch/>
        </p:blipFill>
        <p:spPr>
          <a:xfrm>
            <a:off x="7905600" y="0"/>
            <a:ext cx="1947960" cy="110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2600" y="1437840"/>
            <a:ext cx="8078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3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1908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1908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1908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58160" y="6305400"/>
            <a:ext cx="218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</a:t>
            </a:r>
            <a:fld id="{D012B207-102D-4C75-B0CB-7D6512746B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7640" y="6305400"/>
            <a:ext cx="598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SNMP &amp; Network Management, ©</a:t>
            </a:r>
            <a:r>
              <a:rPr b="0" lang="sv-SE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2010 Easy Software AB, version 6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2960" y="1150920"/>
            <a:ext cx="8364600" cy="0"/>
          </a:xfrm>
          <a:prstGeom prst="line">
            <a:avLst/>
          </a:prstGeom>
          <a:ln w="38160">
            <a:solidFill>
              <a:srgbClr val="ff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264360"/>
            <a:ext cx="9906120" cy="0"/>
          </a:xfrm>
          <a:prstGeom prst="line">
            <a:avLst/>
          </a:prstGeom>
          <a:ln w="93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76960"/>
            <a:ext cx="9906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Welco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36880" y="1828800"/>
            <a:ext cx="576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SNMP 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Network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27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92680" y="4402080"/>
            <a:ext cx="1977840" cy="1284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96440" y="5718240"/>
            <a:ext cx="154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är kunskap räk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DC94-3810-4E11-9FD5-0252302AE2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712620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80720" indent="-18072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he history and development of SNM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720" indent="-18072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How the SNMP protocol 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720" indent="-18072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he difference between the three ver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720" indent="-18072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How to read and understand MIB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720" indent="-18072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How to compile and integrate equipments from different vend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7E4F-CD2E-4BFA-BDF7-68A7486DF8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Prerequisi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2960" y="1437840"/>
            <a:ext cx="640224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General knowledge about network and data commun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4547-6295-413E-8AEA-626A1D6D06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ourse Materi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2960" y="1438200"/>
            <a:ext cx="685296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Copies of OH-sli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ext Chap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Hands 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57E5-E6DC-4265-8D6D-9FDC2C75A7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ractical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2960" y="1438200"/>
            <a:ext cx="7742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90520">
              <a:lnSpc>
                <a:spcPct val="8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28584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irst day 9-17, second day 9-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8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Phone and mess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28584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ontact course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8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Bathro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8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Lunch and coff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28584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Time and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8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Cellular ph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28584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With respect to other students should cellular phones and beepers be turned off in classroo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8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ire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8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ther: smoking and par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1D79-E4CE-483B-B78B-9D86BF9601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67086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orking fiel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nowledge about SNM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ectations on the cour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727E-A483-49F3-948C-11A7CEC8DF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bout Informat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1438200"/>
            <a:ext cx="785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nformator offer competence development within IT and Project Le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We contribute to increase our customers competitive through competence analysis and education within the latest techn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Our teachers keep a high pedagogical quality with good references from the indust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ompetence conveys on a number ways: guided by a teacher; scheduled or company adapted, e-learning and Personal Coach, workshops, labs and och semi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nformator operates in Sweden and Germany (Prokod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bout 40 employees and 300 teach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14EC-FC3A-4CA4-AC32-FF956C5521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Course Schedule - Day 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37479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9.30 Introdu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IETF Standa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Fields of App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MON, NetFlo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NMP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ASN.1, SMI, 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Name Space, OI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Objects and Tra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Protocol Ope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6200" y="1438200"/>
            <a:ext cx="364644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71680" indent="-19080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v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erialization; 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Excerc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Protoco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Hand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MIB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tandard MI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Private MI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17.00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9213-A650-460C-8723-9DF842AD13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92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88720"/>
            <a:ext cx="860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Course Schedule - Day 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1438200"/>
            <a:ext cx="386244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Event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Hand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NMPv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ecurity, Acces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Message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Engine Dis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Ke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Hand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16.00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2600" y="1437840"/>
            <a:ext cx="37479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9.00 NMS Platfo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Functiona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NMS; SNMP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Network Discove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Hands 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Compiling MIB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Traverse MIB Tre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Hands 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Network Monitor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1908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Health Stat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F9EA-9E5B-4B43-ABCA-81BA66B09F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8:28:40Z</dcterms:created>
  <dc:creator>Leif Hagman</dc:creator>
  <dc:description/>
  <dc:language>en-US</dc:language>
  <cp:lastModifiedBy>Leif</cp:lastModifiedBy>
  <dcterms:modified xsi:type="dcterms:W3CDTF">2010-02-12T16:18:09Z</dcterms:modified>
  <cp:revision>21</cp:revision>
  <dc:subject/>
  <dc:title>PowerPoint Presentation</dc:title>
</cp:coreProperties>
</file>