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517A-9F7D-4612-B202-B1F8CFF64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85E7-89E7-4154-9399-97CEC1B69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BB86-3591-4F7F-BBA2-0F55ACBC9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A906-E64C-4421-932B-24149416C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229D-8D29-4D9B-8E75-CEB812621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511D-78EF-4618-BFB1-4F7A3677D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2877-6B9A-47CC-8D0D-CE0DEF6F4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D5D3-8BA5-4D2C-B0BB-8A5AF26E2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2488-8215-4E87-855E-23EC78E03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CAD8-23A5-41CD-A26A-C8B16E99C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437E-7D95-4ECF-9A0F-10F102F7A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56D-D1F3-4018-A953-419CA9FE7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fld id="{EC70A4B2-5888-42AA-A590-92DE5E1DA5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7. Network Monito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onitor Health Stat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vent A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A385-CFAD-474B-9896-6D3AE1983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onitor Health Status using SN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6640" y="1450800"/>
            <a:ext cx="743112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tatus Tests from NMS based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tatus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threshol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ps from devices based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tatus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threshol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ev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end Reports based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manual threshol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baseline threshol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TopN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435C-6B97-4DCF-9CCD-4F98C63195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onitor Health Status not using SN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6640" y="1450800"/>
            <a:ext cx="743112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CP Port Tests based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YN/SYN-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tring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nsaction Tests based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MTP/POP3, FTP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Logon scri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Response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4B5F-0BEF-48A1-833F-C09CA1314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Link Test – Hands on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3400" y="1452600"/>
            <a:ext cx="697392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onitor interface status between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 uplink_switch2 and switch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 switch2 and route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poll nearest 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check slot/port connection (cd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find index number (ifInde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etup a status test on ifOperStatus.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5724-A9CB-465A-851B-302BD4B6E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Link Test – Hands on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2560" y="2351160"/>
            <a:ext cx="228924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21200" y="2389320"/>
            <a:ext cx="2292120" cy="2498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3400" y="1449360"/>
            <a:ext cx="72151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elect the link between uplink_switch2 and switch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right click and do the following chang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3400" y="5398920"/>
            <a:ext cx="7215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cont. with 1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EF47-744D-4C06-A2CA-7D428BCC3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HCP Test – Hands 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2600" y="1590840"/>
            <a:ext cx="68086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onitor free addresses in scoope 192.10.20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OK threshold value &gt; 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etup the test on device Jupi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NB! table indexing is subnetAd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E3AC-5B26-4ACA-9FC9-17B51BE85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vent 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960" y="1590840"/>
            <a:ext cx="692280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to react 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Regular Polls (p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NMP based Status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Non-SNMP based Status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Traps from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Trend Report ala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…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ll is Traps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action is controlled by fil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3B29-0446-41EA-8724-4DB947FF35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vent Action – Hands 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452600"/>
            <a:ext cx="697392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sert filters for Link Test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one filter for pollStatusTestF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one filter for pollStatusTestPa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change Message to: is $’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match on alarmVariable: *ifOper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est the new filters by acknowledge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link events in current log (right clic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322F-7755-41C0-811B-9573A54C72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6:57Z</dcterms:modified>
  <cp:revision>57</cp:revision>
  <dc:subject/>
  <dc:title>PowerPoint Presentation</dc:title>
</cp:coreProperties>
</file>