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556D-5ADC-48EB-8CF0-8482DB03E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660E-6484-4F63-B8B6-56A0BF3C2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92BF-5176-456E-B54B-A9D6AC45B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CDAD-F9D8-4256-AFD0-3B3103538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12A0-2040-4085-A83A-6B98B4750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2717-9230-4F59-B2A9-A3FDFDFDB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F628-2C07-4321-AA35-43FCE649E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6BFA-6927-4049-80D8-663449997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2445-1D18-45BC-9398-9028B8A3E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B2C3-DA26-42FE-B7E3-67F114A78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2356-28FF-4933-BEB3-B49AC2C72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CF00-ABEF-4503-8A4B-D81097219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fld id="{10E9A374-8499-43AA-AF75-B37D066619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3. Protocol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520"/>
            <a:ext cx="3773520" cy="244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Protocol Analys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82D5-4B32-43C8-A0B7-664BFA7B79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Protocol Analyz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187800" y="1390680"/>
          <a:ext cx="4381560" cy="215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7800" y="1390680"/>
                    <a:ext cx="438156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895480" y="1473120"/>
            <a:ext cx="190800" cy="681120"/>
          </a:xfrm>
          <a:custGeom>
            <a:avLst/>
            <a:gdLst>
              <a:gd name="textAreaLeft" fmla="*/ 122040 w 190800"/>
              <a:gd name="textAreaRight" fmla="*/ 191160 w 190800"/>
              <a:gd name="textAreaTop" fmla="*/ 17640 h 681120"/>
              <a:gd name="textAreaBottom" fmla="*/ 66348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4720" y="2222640"/>
            <a:ext cx="225360" cy="807840"/>
          </a:xfrm>
          <a:custGeom>
            <a:avLst/>
            <a:gdLst>
              <a:gd name="textAreaLeft" fmla="*/ 144000 w 225360"/>
              <a:gd name="textAreaRight" fmla="*/ 225720 w 225360"/>
              <a:gd name="textAreaTop" fmla="*/ 20880 h 807840"/>
              <a:gd name="textAreaBottom" fmla="*/ 786960 h 80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3086280"/>
            <a:ext cx="190800" cy="414000"/>
          </a:xfrm>
          <a:custGeom>
            <a:avLst/>
            <a:gdLst>
              <a:gd name="textAreaLeft" fmla="*/ 122040 w 190800"/>
              <a:gd name="textAreaRight" fmla="*/ 191160 w 190800"/>
              <a:gd name="textAreaTop" fmla="*/ 10800 h 414000"/>
              <a:gd name="textAreaBottom" fmla="*/ 403200 h 41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55600" y="1562040"/>
            <a:ext cx="158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5600" y="2400480"/>
            <a:ext cx="158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55600" y="3048120"/>
            <a:ext cx="158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ex D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07800" y="4168800"/>
            <a:ext cx="43326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tart Sniffer (upper right corn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ile Open – Snmp1.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ximize Wind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94FF-4034-470E-900E-D72E8F78EB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1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960" y="1603440"/>
            <a:ext cx="68212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at community name is used for communication with destination address 192.10.20.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or read acces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or write acces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o is 192.10.20.10 (sysObjectID)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at value (hex) is used for the datatype TimeTic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(remember Tag-Length-Valu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F0F8-EDE9-49E0-BF86-43987656F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2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960" y="1603080"/>
            <a:ext cx="6821280" cy="28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acket no 10 is an Authentication Failure Tr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y is this trap s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o is the target (address and port)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o (IP address) is not authoriz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o (vendor) is sending the trap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C1A0-F8B0-48D7-9087-ECE8B1F3C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3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2960" y="1590480"/>
            <a:ext cx="682128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acket no 13 is a GetBulk Request asking a Cisco router for ifDesc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many instances is reques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many instances had been optimal to reques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f we use GetNext, how many GetNext + Response packets must be s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y is packet no 14 s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CA09-B61A-4589-8B5C-306B2825E7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ands on  4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590840"/>
            <a:ext cx="720252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acket no 19 is also a GetBulk Request. In this request we ask a windows computer for installed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ow many instances is reques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at happen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acket no 92 is a Cold Start Tr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hy is this trap s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CAB4-5420-4478-9145-205CD5A35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2:22Z</dcterms:modified>
  <cp:revision>50</cp:revision>
  <dc:subject/>
  <dc:title>PowerPoint Presentation</dc:title>
</cp:coreProperties>
</file>