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518A-9923-4384-8A76-B8FE1B8CA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79E3-CE39-4FE0-B835-4D1FEF7CF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0217-AC42-4F23-B8AD-539748446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27C1-1EB3-4C9F-AB69-BFC3A280B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214D-89B2-439A-B211-E9962B5F2F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B00C-991D-48BB-B0D0-371A65514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0657-7659-49AC-A1D7-74D19E866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B941-ACEF-46E0-A77B-E038D3B9E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D6E6-3B8E-445C-BA95-7AC68D63E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0BA8-46CE-4771-98C7-82600E6BD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6AB7-D518-4A63-A530-335DD110D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88E5-9CD1-4BC7-BDCF-69BE47C95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fld id="{536391EB-1198-42A8-A85B-7B941A916F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spcAft>
                <a:spcPts val="675"/>
              </a:spcAft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6. Compiling MI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3280" y="1514520"/>
            <a:ext cx="3773520" cy="244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he Compiling Pro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raverse MIB Tre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F2AC-9762-4610-B121-20D4C322A3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Cisco Virtual Lab – Hands on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2960" y="1590840"/>
            <a:ext cx="692280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SNMPc: Right click / Tools / Connect Telnet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Username: l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Password: lab12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Command: show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MIB Tree: private/cisco/ciscoMgm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Not supported on Lab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1637-178D-4B60-8308-6849A507ED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Compiling in SNMP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51240" y="1562040"/>
            <a:ext cx="3238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nfig / MIB Databas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9080" y="2387520"/>
            <a:ext cx="379080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397A-C2FE-499C-898E-32DDE5EE70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raversing MIB Tree  1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24160" y="1562040"/>
            <a:ext cx="323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ools / MIB Brows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03520" y="2235240"/>
            <a:ext cx="4343400" cy="300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804C-5143-4598-AFF9-6F441F667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raversing MIB Tree  2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24160" y="1562040"/>
            <a:ext cx="323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View / MIB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33640" y="2146320"/>
            <a:ext cx="2720880" cy="372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0A2F-E260-41CE-8EC8-9B9823D44C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Windows Server – Jupi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2960" y="1603440"/>
            <a:ext cx="743112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he Windows 2000 Server supports the following MIB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..mgmt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Mib-2 (RFC1213-MI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Host (HOST-RESOURCES-MI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..private/lanmanager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Lan Manager (LANMAN-MI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..private/microsoft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Performance Monitor (WINDOWS-NT-PERFORMAN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Dhcp (DHCP-MI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Ftp (FTP-MI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9990-1154-4CB4-9476-4BB0A72202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Windows Server – Hands on  1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2960" y="1603440"/>
            <a:ext cx="697392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ib-2, Host, Lan Manager and Performance Monitor are included in the compiling list in SNMP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Use Internet Explorer and get the remaining mibs fro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tp://192.10.20.4/snmpk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dd the mibs to the compiling list in SNMPc and make a new compil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2809-68F7-4B84-978A-9C9D9699F1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Windows Server – Hands on  2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600" y="1590840"/>
            <a:ext cx="68086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many addresses are free in the scoope 192.10.20.0 (DHCP-MIB)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many CPU secs has SNMPc (crserv.exe) used (Host-Resources-MIB)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at’s the difference between the objects cpuPercentProcessorTime (Performance Monitor MIB) and hrProcessorLoad (Host-Resources-MIB)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ED5B-229F-4EA3-9877-7173D8F818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Windows Server – Hands on  3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2960" y="1590840"/>
            <a:ext cx="692280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many processes are running (Host-Resources-MIB)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much disk space is free on drive C: (Host-Resources-MI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n Mbyt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n Perc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at version of J2SE Runtime is installed (Host-Resources-MIB)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8844-AF88-45C7-AF5F-0E760414DD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Cisco Virtual Lab – Hands on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960" y="1590840"/>
            <a:ext cx="692280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at software image and version is runnin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) gatewa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) switch2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is switch2 connected to other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(from slot/port to slot/port)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0C63-5DCA-4596-8357-810070DFD7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25:52Z</dcterms:modified>
  <cp:revision>58</cp:revision>
  <dc:subject/>
  <dc:title>PowerPoint Presentation</dc:title>
</cp:coreProperties>
</file>