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7ADB-44E4-486C-8A7B-3DE29BBB8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D7AE-1054-4BDA-BAFC-41336B57C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8114-2CF0-4AC5-AF46-F9A72C0E0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8B05-A9BD-47DD-BB9A-E5095AF6BC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4E44-A3D2-4D29-A4A8-F15289EA5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4A06-21A3-43AF-8A4B-CBBB07037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8A77-3D3D-4F42-93A6-C3FFF7668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BD6F-FA43-41D0-9B15-63F9D3034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0FD5-D4A1-4BE7-9394-84A60E8BD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465D-7585-4BAF-8155-42D4DD0D3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D500-7F6E-4683-85D8-A53534AD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D1EE-5FF9-4E09-828B-93752EF4A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fld id="{D6FBEAB7-1B00-40FD-AA4B-AF7753E9B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spcAft>
                <a:spcPts val="675"/>
              </a:spcAft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image" Target="../media/image1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9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image" Target="../media/image1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9.wmf"/><Relationship Id="rId17" Type="http://schemas.openxmlformats.org/officeDocument/2006/relationships/image" Target="../media/image20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1.wmf"/><Relationship Id="rId20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image" Target="../media/image1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2.wmf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image" Target="../media/image1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9.wmf"/><Relationship Id="rId1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3280" y="1514520"/>
            <a:ext cx="3773520" cy="244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IETF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ield of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M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etFl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8D5D-1DAC-47F1-A9F1-7CF7142960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History 1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87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hree propos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EMS (High-level-Entity Management System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GMP (Simple Gateway Monitoring Protoc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MOT (CMIP over TC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88 Feb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AB is setting up a working gro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Instructions; a solution </a:t>
            </a:r>
            <a:r>
              <a:rPr b="1" lang="sv-SE" sz="1800" spc="-1" strike="noStrike" u="sng">
                <a:solidFill>
                  <a:srgbClr val="ffffff"/>
                </a:solidFill>
                <a:uFillTx/>
                <a:latin typeface="Arial"/>
              </a:rPr>
              <a:t>n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88 Apr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eport from the working gro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 in the short perspect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MOT in the long perspect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65E9-FCAA-4647-9E10-3A67ECBF9C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History 2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88 Aug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oposal to SNMP version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065: SMI (the structur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066: MIB (a number of objec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067: SNMP (the protoc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0 May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1 raised to Standard/Recommen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155: new SM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156: new M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157: new SNM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FB38-CDCB-415C-9B2A-BBD71B78C3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History 3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7876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1 Mar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troducing Tra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212: concise MIB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215: Trap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1 Aug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IB-II raised to Standard/Recommen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213: extention of MIB (RFC 1156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D5AF-9C3E-4E51-BB13-1FAF78CA1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History 4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3 Apr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oposal to SNMP version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441-145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6 Jan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2 Draft Standard/El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902-190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8 Jan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roposal to SNMP version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2271-22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8E16-FDC1-4159-A3B7-A03B4737A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History 5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9 Apr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3 Draft Standard/El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2571-25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999 Apr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MIv2 Standard/Recommen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2578-258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11E0-1580-4DBC-90E4-1CD12D63A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– History 6(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4680" indent="-1846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2002 Mar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3 Standard/Recommen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0: Int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1: Archite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2: Message Process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3: SNMP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4: Security (USM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5: Access Control (VACM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6: 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7: Transport Mapp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-172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3418: MIB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90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4680" indent="-18468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2003 Nov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1 Histor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7DA2-A642-4C41-9F9A-363E1C5547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versions – The Protocol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1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157 (historica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ecurity based on ”community name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5 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2p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FC 1441, 1445, 1446, 1448, 1449 (historica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ecurity based on ”partie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2 new 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684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2c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FC 1901, 1905, 1906 (exp. + draft standar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ecurity based on ”community name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2 new 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89AE-688A-4BC6-B4AB-9DB6C94514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versions – The Protocol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781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2u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905, 1906, 1909, 1910 (draft std. + exp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ecurity based on ”user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2 new 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2*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Not def. in RFC’s (experimenta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ecurity based on ”user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2 new 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3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FC 3410-3418 (standar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security based on ”user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2 new 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EDF4-2B5A-4800-B66F-265C37B8D3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versions – The Stru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MIv1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FC 1155, 1212, 1215 (standar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MIv2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RFC 2578-2580 (standar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extended defin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table hand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- one new data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D05A-1CEA-4BA1-B635-8E03CC9CC5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Standardisation Process 1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2082960" y="2082960"/>
          <a:ext cx="4889520" cy="2436480"/>
        </p:xfrm>
        <a:graphic>
          <a:graphicData uri="http://schemas.openxmlformats.org/drawingml/2006/table">
            <a:tbl>
              <a:tblPr/>
              <a:tblGrid>
                <a:gridCol w="937080"/>
                <a:gridCol w="789840"/>
                <a:gridCol w="791640"/>
                <a:gridCol w="789480"/>
                <a:gridCol w="791640"/>
                <a:gridCol w="789840"/>
              </a:tblGrid>
              <a:tr h="31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ft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r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3897360" y="1344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13280" y="2576520"/>
            <a:ext cx="34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2070000" y="1777680"/>
            <a:ext cx="490248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714680" y="2133360"/>
            <a:ext cx="0" cy="2361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057040" y="4775040"/>
            <a:ext cx="4876920" cy="12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5800" y="4633920"/>
            <a:ext cx="879480" cy="337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E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713040" y="4819680"/>
            <a:ext cx="1460520" cy="1041480"/>
            <a:chOff x="3713040" y="4819680"/>
            <a:chExt cx="1460520" cy="1041480"/>
          </a:xfrm>
        </p:grpSpPr>
        <p:sp>
          <p:nvSpPr>
            <p:cNvPr id="573" name=""/>
            <p:cNvSpPr/>
            <p:nvPr/>
          </p:nvSpPr>
          <p:spPr>
            <a:xfrm>
              <a:off x="4021200" y="547056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713040" y="5113440"/>
              <a:ext cx="146052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73480" y="527544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TF W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81600" y="5438880"/>
              <a:ext cx="15372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43440" y="5405400"/>
              <a:ext cx="153720" cy="195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05280" y="537372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981600" y="4819680"/>
              <a:ext cx="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22B6-E794-42C2-AE73-5E831020B7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What is Network Management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2960" y="1498680"/>
            <a:ext cx="365904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Fault det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raffic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ovisio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5560" y="1438200"/>
            <a:ext cx="36594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erform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P-handling (DHCP/D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onfiguration of network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203D-8ABF-4E0F-81C8-E543069E9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Standardisation Process 2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2082960" y="2082960"/>
          <a:ext cx="4889520" cy="2436480"/>
        </p:xfrm>
        <a:graphic>
          <a:graphicData uri="http://schemas.openxmlformats.org/drawingml/2006/table">
            <a:tbl>
              <a:tblPr/>
              <a:tblGrid>
                <a:gridCol w="938160"/>
                <a:gridCol w="788760"/>
                <a:gridCol w="792360"/>
                <a:gridCol w="788760"/>
                <a:gridCol w="792360"/>
                <a:gridCol w="789120"/>
              </a:tblGrid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ft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r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3897360" y="1344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13280" y="2576520"/>
            <a:ext cx="34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070000" y="1777680"/>
            <a:ext cx="490248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714680" y="2133360"/>
            <a:ext cx="0" cy="2361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2057040" y="4775040"/>
            <a:ext cx="4876920" cy="12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35800" y="4633920"/>
            <a:ext cx="879480" cy="337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E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713040" y="4819680"/>
            <a:ext cx="1460520" cy="1041480"/>
            <a:chOff x="3713040" y="4819680"/>
            <a:chExt cx="1460520" cy="1041480"/>
          </a:xfrm>
        </p:grpSpPr>
        <p:sp>
          <p:nvSpPr>
            <p:cNvPr id="589" name=""/>
            <p:cNvSpPr/>
            <p:nvPr/>
          </p:nvSpPr>
          <p:spPr>
            <a:xfrm>
              <a:off x="4021200" y="547056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13040" y="5113440"/>
              <a:ext cx="146052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73480" y="527544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TF W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81600" y="5438880"/>
              <a:ext cx="15372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43440" y="5405400"/>
              <a:ext cx="153720" cy="195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05280" y="537372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981600" y="4819680"/>
              <a:ext cx="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7605720" y="2703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098E-4714-4D7E-B872-81C844AD27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Standardisation Process 3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082960" y="2082960"/>
          <a:ext cx="4889520" cy="2436480"/>
        </p:xfrm>
        <a:graphic>
          <a:graphicData uri="http://schemas.openxmlformats.org/drawingml/2006/table">
            <a:tbl>
              <a:tblPr/>
              <a:tblGrid>
                <a:gridCol w="938160"/>
                <a:gridCol w="788760"/>
                <a:gridCol w="792360"/>
                <a:gridCol w="788760"/>
                <a:gridCol w="792360"/>
                <a:gridCol w="789120"/>
              </a:tblGrid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ft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r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3897360" y="1344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13280" y="2576520"/>
            <a:ext cx="34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2070000" y="1777680"/>
            <a:ext cx="490248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714680" y="2133360"/>
            <a:ext cx="0" cy="2361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2057040" y="4775040"/>
            <a:ext cx="4876920" cy="12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5800" y="4633920"/>
            <a:ext cx="879480" cy="337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E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713040" y="4819680"/>
            <a:ext cx="1460520" cy="1041480"/>
            <a:chOff x="3713040" y="4819680"/>
            <a:chExt cx="1460520" cy="1041480"/>
          </a:xfrm>
        </p:grpSpPr>
        <p:sp>
          <p:nvSpPr>
            <p:cNvPr id="606" name=""/>
            <p:cNvSpPr/>
            <p:nvPr/>
          </p:nvSpPr>
          <p:spPr>
            <a:xfrm>
              <a:off x="4021200" y="547056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13040" y="5113440"/>
              <a:ext cx="146052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73480" y="527544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TF W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81600" y="5438880"/>
              <a:ext cx="15372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43440" y="5405400"/>
              <a:ext cx="153720" cy="195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05280" y="537372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981600" y="4819680"/>
              <a:ext cx="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605720" y="2703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4A22-09EF-455F-A1B0-004458107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Standardisation Process 4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082960" y="2082960"/>
          <a:ext cx="4889520" cy="2436480"/>
        </p:xfrm>
        <a:graphic>
          <a:graphicData uri="http://schemas.openxmlformats.org/drawingml/2006/table">
            <a:tbl>
              <a:tblPr/>
              <a:tblGrid>
                <a:gridCol w="938160"/>
                <a:gridCol w="788760"/>
                <a:gridCol w="792360"/>
                <a:gridCol w="788760"/>
                <a:gridCol w="792360"/>
                <a:gridCol w="789120"/>
              </a:tblGrid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ft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r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>
            <a:off x="3897360" y="1344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13280" y="2576520"/>
            <a:ext cx="34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2070000" y="1777680"/>
            <a:ext cx="490248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714680" y="2133360"/>
            <a:ext cx="0" cy="2361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2057040" y="4775040"/>
            <a:ext cx="4876920" cy="12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635800" y="4633920"/>
            <a:ext cx="879480" cy="337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E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3713040" y="4819680"/>
            <a:ext cx="1460520" cy="1041480"/>
            <a:chOff x="3713040" y="4819680"/>
            <a:chExt cx="1460520" cy="1041480"/>
          </a:xfrm>
        </p:grpSpPr>
        <p:sp>
          <p:nvSpPr>
            <p:cNvPr id="623" name=""/>
            <p:cNvSpPr/>
            <p:nvPr/>
          </p:nvSpPr>
          <p:spPr>
            <a:xfrm>
              <a:off x="4021200" y="547056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3040" y="5113440"/>
              <a:ext cx="146052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73480" y="527544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TF W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81600" y="5438880"/>
              <a:ext cx="15372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43440" y="5405400"/>
              <a:ext cx="153720" cy="195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05280" y="5373720"/>
              <a:ext cx="154080" cy="19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981600" y="4819680"/>
              <a:ext cx="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7605720" y="2703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A564-A467-469B-A491-9F05F70E6E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IETF Working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6120" y="1793880"/>
            <a:ext cx="27082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pplication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71680" y="2530440"/>
            <a:ext cx="27082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eneral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6120" y="3292560"/>
            <a:ext cx="2708280" cy="703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Operation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nagement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33520" y="4308480"/>
            <a:ext cx="27082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eneral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41880" y="1793880"/>
            <a:ext cx="27082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outing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67440" y="2517840"/>
            <a:ext cx="27082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ecurit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41880" y="3317760"/>
            <a:ext cx="27082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ransport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29280" y="4156200"/>
            <a:ext cx="27082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User Servic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13E2-98C7-41A2-9FB1-37F2DCD521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perations and Management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718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rea Director(s):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Bert Wijnen, David Kess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Authentication, Authorization and Accoun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ADSL MI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Benchmarking Methodolog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Bridge MI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ontrol And Provisioning of Wireless Access Poi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Distributed Manag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Domain Name System Oper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ntity MI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Global Routing Oper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Ethernet Interfaces and Hub MI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ternet and Management Support for Stora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A1C5-F13E-4874-AD15-9F1C5851E1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perations and Management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718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P over Cable Data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P Flow Information Expo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BONE Deploy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Site Multihoming in IPv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Network Configu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perational Security Capabilities for IP Network Infrastru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Packet Sampl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RADIUS EXTens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Resource Allocation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Remote Network Monitor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onfiguration Management with SNM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Pv6 Oper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3E72-51DD-46BA-A3C0-71F7CE38BA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Manag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21000" y="16113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lat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976680" y="2335320"/>
            <a:ext cx="2922120" cy="1322280"/>
            <a:chOff x="976680" y="2335320"/>
            <a:chExt cx="2922120" cy="1322280"/>
          </a:xfrm>
        </p:grpSpPr>
        <p:sp>
          <p:nvSpPr>
            <p:cNvPr id="647" name=""/>
            <p:cNvSpPr/>
            <p:nvPr/>
          </p:nvSpPr>
          <p:spPr>
            <a:xfrm flipV="1">
              <a:off x="1384200" y="2514240"/>
              <a:ext cx="16002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84400" y="2362320"/>
              <a:ext cx="45720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22560" y="24764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41600" y="2819520"/>
              <a:ext cx="45720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79760" y="29336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08440" y="3124080"/>
              <a:ext cx="45720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46240" y="32385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8600" y="3352680"/>
              <a:ext cx="45720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36760" y="3467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60520" y="2895480"/>
              <a:ext cx="19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84200" y="2971800"/>
              <a:ext cx="914400" cy="48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22360" y="2933640"/>
              <a:ext cx="1486080" cy="266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1079640" y="2743200"/>
              <a:ext cx="380880" cy="304920"/>
              <a:chOff x="1079640" y="2743200"/>
              <a:chExt cx="380880" cy="304920"/>
            </a:xfrm>
          </p:grpSpPr>
          <p:sp>
            <p:nvSpPr>
              <p:cNvPr id="660" name=""/>
              <p:cNvSpPr/>
              <p:nvPr/>
            </p:nvSpPr>
            <p:spPr>
              <a:xfrm>
                <a:off x="1173960" y="2751480"/>
                <a:ext cx="186120" cy="1371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079640" y="2961360"/>
                <a:ext cx="380880" cy="867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1150200" y="2887920"/>
                <a:ext cx="300240" cy="93600"/>
                <a:chOff x="1150200" y="2887920"/>
                <a:chExt cx="300240" cy="9360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1369800" y="2887920"/>
                  <a:ext cx="80640" cy="9360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50200" y="2887920"/>
                  <a:ext cx="298800" cy="36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50200" y="2930760"/>
                  <a:ext cx="215640" cy="5004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6" name=""/>
                <p:cNvGrpSpPr/>
                <p:nvPr/>
              </p:nvGrpSpPr>
              <p:grpSpPr>
                <a:xfrm>
                  <a:off x="1290240" y="2944440"/>
                  <a:ext cx="60840" cy="17280"/>
                  <a:chOff x="1290240" y="2944440"/>
                  <a:chExt cx="60840" cy="172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1290240" y="2944440"/>
                    <a:ext cx="60840" cy="1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1295280" y="295344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1315080" y="2948760"/>
                    <a:ext cx="1260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0" name=""/>
                <p:cNvSpPr/>
                <p:nvPr/>
              </p:nvSpPr>
              <p:spPr>
                <a:xfrm>
                  <a:off x="1169640" y="293904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181520" y="293904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193040" y="293904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202040" y="293904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13200" y="293904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24720" y="293904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1328400" y="289656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219680" y="2900880"/>
                <a:ext cx="104760" cy="18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1082520" y="2982240"/>
                <a:ext cx="326880" cy="38520"/>
                <a:chOff x="1082520" y="2982240"/>
                <a:chExt cx="326880" cy="385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1082520" y="2982240"/>
                  <a:ext cx="323640" cy="3852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123200" y="298656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111680" y="299412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104840" y="3001320"/>
                  <a:ext cx="2610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096560" y="300888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71600" y="2983680"/>
                  <a:ext cx="37800" cy="37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1174320" y="2755800"/>
                <a:ext cx="189360" cy="13572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198440" y="2767320"/>
                <a:ext cx="1389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1360" y="2770920"/>
                <a:ext cx="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191240" y="27673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87280" y="2876760"/>
                <a:ext cx="16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 rot="5400000">
                <a:off x="1322280" y="2799000"/>
                <a:ext cx="154080" cy="42120"/>
              </a:xfrm>
              <a:custGeom>
                <a:avLst/>
                <a:gdLst>
                  <a:gd name="textAreaLeft" fmla="*/ 26640 w 154080"/>
                  <a:gd name="textAreaRight" fmla="*/ 127440 w 154080"/>
                  <a:gd name="textAreaTop" fmla="*/ 7200 h 42120"/>
                  <a:gd name="textAreaBottom" fmla="*/ 34920 h 4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164600" y="2900880"/>
                <a:ext cx="20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976680" y="233532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N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5116320" y="23734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ierarcial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4570920" y="3135240"/>
            <a:ext cx="4077720" cy="2605320"/>
            <a:chOff x="4570920" y="3135240"/>
            <a:chExt cx="4077720" cy="2605320"/>
          </a:xfrm>
        </p:grpSpPr>
        <p:sp>
          <p:nvSpPr>
            <p:cNvPr id="695" name=""/>
            <p:cNvSpPr/>
            <p:nvPr/>
          </p:nvSpPr>
          <p:spPr>
            <a:xfrm flipV="1">
              <a:off x="4991040" y="3683160"/>
              <a:ext cx="16002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34240" y="3149640"/>
              <a:ext cx="45720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72400" y="32637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10560" y="4064040"/>
              <a:ext cx="45720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48720" y="41781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15480" y="4902120"/>
              <a:ext cx="45720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53280" y="5016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91040" y="4140360"/>
              <a:ext cx="160020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886880" y="5435640"/>
              <a:ext cx="45720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924680" y="55497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96160" y="3301560"/>
              <a:ext cx="83808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96160" y="3759120"/>
              <a:ext cx="9144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19840" y="5283360"/>
              <a:ext cx="10670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6743880" y="5059440"/>
              <a:ext cx="1371600" cy="223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48440" y="4597560"/>
              <a:ext cx="45720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4711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819840" y="4901760"/>
              <a:ext cx="30492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91440" y="3606840"/>
              <a:ext cx="45720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29600" y="37209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94640" y="3708360"/>
              <a:ext cx="1396800" cy="5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515280" y="5207040"/>
              <a:ext cx="380880" cy="304920"/>
              <a:chOff x="6515280" y="5207040"/>
              <a:chExt cx="380880" cy="304920"/>
            </a:xfrm>
          </p:grpSpPr>
          <p:sp>
            <p:nvSpPr>
              <p:cNvPr id="716" name=""/>
              <p:cNvSpPr/>
              <p:nvPr/>
            </p:nvSpPr>
            <p:spPr>
              <a:xfrm>
                <a:off x="6609600" y="5215320"/>
                <a:ext cx="186120" cy="1371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15280" y="5425200"/>
                <a:ext cx="380880" cy="867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6585840" y="5351760"/>
                <a:ext cx="300240" cy="93600"/>
                <a:chOff x="6585840" y="5351760"/>
                <a:chExt cx="300240" cy="936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6805440" y="5351760"/>
                  <a:ext cx="80640" cy="9360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85840" y="5351760"/>
                  <a:ext cx="298800" cy="36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5840" y="5394600"/>
                  <a:ext cx="215640" cy="5004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6725880" y="5408280"/>
                  <a:ext cx="60840" cy="17280"/>
                  <a:chOff x="6725880" y="5408280"/>
                  <a:chExt cx="60840" cy="1728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6725880" y="5408280"/>
                    <a:ext cx="60840" cy="1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730920" y="541728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750720" y="5412600"/>
                    <a:ext cx="1260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6605280" y="540288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617160" y="540288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628680" y="540288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637680" y="540288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648840" y="540288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660360" y="540288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" name=""/>
              <p:cNvSpPr/>
              <p:nvPr/>
            </p:nvSpPr>
            <p:spPr>
              <a:xfrm>
                <a:off x="6764040" y="536040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655320" y="5364720"/>
                <a:ext cx="104760" cy="18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6518160" y="5446080"/>
                <a:ext cx="326880" cy="38520"/>
                <a:chOff x="6518160" y="5446080"/>
                <a:chExt cx="326880" cy="385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6518160" y="5446080"/>
                  <a:ext cx="323640" cy="3852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558840" y="545040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547320" y="545796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40480" y="5465160"/>
                  <a:ext cx="2610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532200" y="547272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807240" y="5447520"/>
                  <a:ext cx="37800" cy="37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1" name=""/>
              <p:cNvSpPr/>
              <p:nvPr/>
            </p:nvSpPr>
            <p:spPr>
              <a:xfrm>
                <a:off x="6609960" y="5219640"/>
                <a:ext cx="189360" cy="13572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634080" y="5231160"/>
                <a:ext cx="1389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777000" y="5234760"/>
                <a:ext cx="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26880" y="523116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622920" y="5340600"/>
                <a:ext cx="16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 rot="5400000">
                <a:off x="6757920" y="5262840"/>
                <a:ext cx="154080" cy="42120"/>
              </a:xfrm>
              <a:custGeom>
                <a:avLst/>
                <a:gdLst>
                  <a:gd name="textAreaLeft" fmla="*/ 26640 w 154080"/>
                  <a:gd name="textAreaRight" fmla="*/ 127440 w 154080"/>
                  <a:gd name="textAreaTop" fmla="*/ 7200 h 42120"/>
                  <a:gd name="textAreaBottom" fmla="*/ 34920 h 4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600240" y="5364720"/>
                <a:ext cx="20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6515280" y="3530520"/>
              <a:ext cx="380880" cy="304920"/>
              <a:chOff x="6515280" y="3530520"/>
              <a:chExt cx="380880" cy="304920"/>
            </a:xfrm>
          </p:grpSpPr>
          <p:sp>
            <p:nvSpPr>
              <p:cNvPr id="749" name=""/>
              <p:cNvSpPr/>
              <p:nvPr/>
            </p:nvSpPr>
            <p:spPr>
              <a:xfrm>
                <a:off x="6609600" y="3538800"/>
                <a:ext cx="186120" cy="1371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515280" y="3748680"/>
                <a:ext cx="380880" cy="867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6585840" y="3675240"/>
                <a:ext cx="300240" cy="93600"/>
                <a:chOff x="6585840" y="3675240"/>
                <a:chExt cx="300240" cy="936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805440" y="3675240"/>
                  <a:ext cx="80640" cy="9360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85840" y="3675240"/>
                  <a:ext cx="298800" cy="36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585840" y="3718080"/>
                  <a:ext cx="215640" cy="5004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5" name=""/>
                <p:cNvGrpSpPr/>
                <p:nvPr/>
              </p:nvGrpSpPr>
              <p:grpSpPr>
                <a:xfrm>
                  <a:off x="6725880" y="3731760"/>
                  <a:ext cx="60840" cy="17280"/>
                  <a:chOff x="6725880" y="3731760"/>
                  <a:chExt cx="60840" cy="1728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6725880" y="3731760"/>
                    <a:ext cx="60840" cy="1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730920" y="374076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750720" y="3736080"/>
                    <a:ext cx="1260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>
                  <a:off x="6605280" y="372636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617160" y="372636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628680" y="372636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637680" y="372636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648840" y="372636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660360" y="372636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6764040" y="368388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655320" y="3688200"/>
                <a:ext cx="104760" cy="18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6518160" y="3769560"/>
                <a:ext cx="326880" cy="38520"/>
                <a:chOff x="6518160" y="3769560"/>
                <a:chExt cx="326880" cy="385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518160" y="3769560"/>
                  <a:ext cx="323640" cy="3852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558840" y="377388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547320" y="378144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40480" y="3788640"/>
                  <a:ext cx="2610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532200" y="379620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07240" y="3771000"/>
                  <a:ext cx="37800" cy="37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6609960" y="3543120"/>
                <a:ext cx="189360" cy="13572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634080" y="3554640"/>
                <a:ext cx="1389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777000" y="3558240"/>
                <a:ext cx="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26880" y="35546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622920" y="3664080"/>
                <a:ext cx="16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 rot="5400000">
                <a:off x="6757920" y="3586320"/>
                <a:ext cx="154080" cy="42120"/>
              </a:xfrm>
              <a:custGeom>
                <a:avLst/>
                <a:gdLst>
                  <a:gd name="textAreaLeft" fmla="*/ 26640 w 154080"/>
                  <a:gd name="textAreaRight" fmla="*/ 127440 w 154080"/>
                  <a:gd name="textAreaTop" fmla="*/ 7200 h 42120"/>
                  <a:gd name="textAreaBottom" fmla="*/ 34920 h 4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00240" y="3688200"/>
                <a:ext cx="20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686480" y="3911040"/>
              <a:ext cx="380880" cy="304920"/>
              <a:chOff x="4686480" y="3911040"/>
              <a:chExt cx="380880" cy="304920"/>
            </a:xfrm>
          </p:grpSpPr>
          <p:sp>
            <p:nvSpPr>
              <p:cNvPr id="782" name=""/>
              <p:cNvSpPr/>
              <p:nvPr/>
            </p:nvSpPr>
            <p:spPr>
              <a:xfrm>
                <a:off x="4780800" y="3920040"/>
                <a:ext cx="186120" cy="1371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686480" y="4129560"/>
                <a:ext cx="380880" cy="8640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4757040" y="4056480"/>
                <a:ext cx="300240" cy="93240"/>
                <a:chOff x="4757040" y="4056480"/>
                <a:chExt cx="300240" cy="932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4976640" y="4056480"/>
                  <a:ext cx="80640" cy="932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757040" y="4056480"/>
                  <a:ext cx="298800" cy="36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757040" y="4099320"/>
                  <a:ext cx="215640" cy="4968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" name=""/>
                <p:cNvGrpSpPr/>
                <p:nvPr/>
              </p:nvGrpSpPr>
              <p:grpSpPr>
                <a:xfrm>
                  <a:off x="4897080" y="4113000"/>
                  <a:ext cx="60840" cy="16920"/>
                  <a:chOff x="4897080" y="4113000"/>
                  <a:chExt cx="60840" cy="169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4897080" y="4113000"/>
                    <a:ext cx="60840" cy="16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902120" y="412164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921920" y="4117320"/>
                    <a:ext cx="12600" cy="6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2" name=""/>
                <p:cNvSpPr/>
                <p:nvPr/>
              </p:nvSpPr>
              <p:spPr>
                <a:xfrm>
                  <a:off x="4776480" y="410760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788360" y="410760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799880" y="410760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808880" y="410760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820040" y="410760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831560" y="4107600"/>
                  <a:ext cx="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>
                <a:off x="4935240" y="406476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26520" y="4069080"/>
                <a:ext cx="104760" cy="18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4689360" y="4150800"/>
                <a:ext cx="326880" cy="38160"/>
                <a:chOff x="4689360" y="4150800"/>
                <a:chExt cx="326880" cy="381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689360" y="4150800"/>
                  <a:ext cx="323640" cy="3816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730040" y="415512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18520" y="416268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711680" y="4169520"/>
                  <a:ext cx="2610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703400" y="4177080"/>
                  <a:ext cx="260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978440" y="4152240"/>
                  <a:ext cx="37800" cy="3672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"/>
              <p:cNvSpPr/>
              <p:nvPr/>
            </p:nvSpPr>
            <p:spPr>
              <a:xfrm>
                <a:off x="4781160" y="3924360"/>
                <a:ext cx="189360" cy="13572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05280" y="3935880"/>
                <a:ext cx="1389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948200" y="3939480"/>
                <a:ext cx="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98080" y="393588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94120" y="4045320"/>
                <a:ext cx="16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 rot="5400000">
                <a:off x="4929480" y="3966480"/>
                <a:ext cx="153720" cy="42120"/>
              </a:xfrm>
              <a:custGeom>
                <a:avLst/>
                <a:gdLst>
                  <a:gd name="textAreaLeft" fmla="*/ 26280 w 153720"/>
                  <a:gd name="textAreaRight" fmla="*/ 127440 w 153720"/>
                  <a:gd name="textAreaTop" fmla="*/ 7200 h 42120"/>
                  <a:gd name="textAreaBottom" fmla="*/ 34920 h 4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71440" y="4069080"/>
                <a:ext cx="20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70920" y="349092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N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12320" y="31352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N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74160" y="479916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N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CBB0-83F2-4613-9E33-6EBC3036E6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NMP Ag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152360" y="1689120"/>
            <a:ext cx="7789680" cy="3951360"/>
            <a:chOff x="1152360" y="1689120"/>
            <a:chExt cx="7789680" cy="3951360"/>
          </a:xfrm>
        </p:grpSpPr>
        <p:sp>
          <p:nvSpPr>
            <p:cNvPr id="819" name=""/>
            <p:cNvSpPr/>
            <p:nvPr/>
          </p:nvSpPr>
          <p:spPr>
            <a:xfrm>
              <a:off x="3019320" y="1712880"/>
              <a:ext cx="1832040" cy="376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SNMP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19320" y="2322360"/>
              <a:ext cx="1832040" cy="376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SNMPv1/v2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19320" y="2944800"/>
              <a:ext cx="1832040" cy="376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SNMPv1/v2c/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19320" y="3529080"/>
              <a:ext cx="1832040" cy="93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Proxy 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19320" y="4684680"/>
              <a:ext cx="183204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Extens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Master 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51720" y="4964040"/>
              <a:ext cx="1336680" cy="23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Sub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63960" y="1689120"/>
              <a:ext cx="596880" cy="41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63960" y="2298600"/>
              <a:ext cx="596880" cy="416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63960" y="2921040"/>
              <a:ext cx="596880" cy="41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40360" y="3886200"/>
              <a:ext cx="596880" cy="41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51720" y="4608360"/>
              <a:ext cx="1336680" cy="23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Sub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51720" y="5345280"/>
              <a:ext cx="1336680" cy="23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Sub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013600" y="4952880"/>
              <a:ext cx="596880" cy="22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13600" y="5346720"/>
              <a:ext cx="596880" cy="225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013600" y="4572000"/>
              <a:ext cx="596880" cy="225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51360" y="5068800"/>
              <a:ext cx="180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51360" y="4764240"/>
              <a:ext cx="1790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51360" y="5437080"/>
              <a:ext cx="17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72280" y="3036960"/>
              <a:ext cx="1440" cy="2603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07560" y="3046320"/>
              <a:ext cx="2634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 SMUX, RFC 12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 DPAPI, RFC 159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 EMANATE, SNMP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 Microsoft SNMP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 AgentX, RFC 27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74920" y="191916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74920" y="247824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74920" y="311292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74920" y="395136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74920" y="511956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2361960" y="1766880"/>
              <a:ext cx="12600" cy="353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52360" y="3363840"/>
              <a:ext cx="689040" cy="376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N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54360" y="3557520"/>
              <a:ext cx="50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63960" y="3735360"/>
              <a:ext cx="34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19640" y="3517920"/>
              <a:ext cx="596880" cy="41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63960" y="4255920"/>
              <a:ext cx="34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19640" y="4038480"/>
              <a:ext cx="596880" cy="416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64D4-09C1-4962-8610-4D5325EE3D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gent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939960" y="1544760"/>
            <a:ext cx="8312040" cy="4095720"/>
            <a:chOff x="939960" y="1544760"/>
            <a:chExt cx="8312040" cy="4095720"/>
          </a:xfrm>
        </p:grpSpPr>
        <p:sp>
          <p:nvSpPr>
            <p:cNvPr id="853" name=""/>
            <p:cNvSpPr/>
            <p:nvPr/>
          </p:nvSpPr>
          <p:spPr>
            <a:xfrm>
              <a:off x="1623960" y="2136600"/>
              <a:ext cx="2428920" cy="973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Master 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51440" y="2462040"/>
              <a:ext cx="1336680" cy="23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Sub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70000" y="1714680"/>
              <a:ext cx="596880" cy="41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51440" y="2106720"/>
              <a:ext cx="1336680" cy="23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Sub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51440" y="2843280"/>
              <a:ext cx="1336680" cy="23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Sub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213680" y="2451240"/>
              <a:ext cx="596880" cy="225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13680" y="2844720"/>
              <a:ext cx="596880" cy="225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13680" y="2070000"/>
              <a:ext cx="596880" cy="225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051440" y="2567160"/>
              <a:ext cx="18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51440" y="2262240"/>
              <a:ext cx="1790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51440" y="2935440"/>
              <a:ext cx="17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41880" y="1932120"/>
              <a:ext cx="1800" cy="3073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76520" y="3298680"/>
              <a:ext cx="3975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initiate session to master-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register their MIB-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sends and receives AgentX 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MIB instru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initiate Trap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571760" y="5243400"/>
              <a:ext cx="688680" cy="376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N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76760" y="3311640"/>
              <a:ext cx="4016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accept session from sub-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accept registration of MIB-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sends and receives AgentX 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supports adm. MIB-objects (RFC 274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manage access control of MIB-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- sends and receives SNMP 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52560" y="5411880"/>
              <a:ext cx="59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39960" y="2338560"/>
              <a:ext cx="0" cy="330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52560" y="2643120"/>
              <a:ext cx="66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84240" y="154476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RFC 27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232B-9CE2-4D58-A410-F4692139D4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 flipH="1" flipV="1">
            <a:off x="5283360" y="3352680"/>
            <a:ext cx="20952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803920" y="2908440"/>
            <a:ext cx="1574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2641680" y="2984040"/>
            <a:ext cx="1396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041480" y="1359000"/>
            <a:ext cx="2349360" cy="1779120"/>
            <a:chOff x="1041480" y="1359000"/>
            <a:chExt cx="2349360" cy="1779120"/>
          </a:xfrm>
        </p:grpSpPr>
        <p:sp>
          <p:nvSpPr>
            <p:cNvPr id="877" name=""/>
            <p:cNvSpPr/>
            <p:nvPr/>
          </p:nvSpPr>
          <p:spPr>
            <a:xfrm>
              <a:off x="2489040" y="23497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1041480" y="2349720"/>
              <a:ext cx="234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1346040" y="19688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26044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1" name=""/>
            <p:cNvGraphicFramePr/>
            <p:nvPr/>
          </p:nvGraphicFramePr>
          <p:xfrm>
            <a:off x="2031840" y="1359000"/>
            <a:ext cx="457200" cy="79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1840" y="135900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3" name=""/>
            <p:cNvGrpSpPr/>
            <p:nvPr/>
          </p:nvGrpSpPr>
          <p:grpSpPr>
            <a:xfrm>
              <a:off x="1041480" y="1739520"/>
              <a:ext cx="571320" cy="457560"/>
              <a:chOff x="1041480" y="1739520"/>
              <a:chExt cx="571320" cy="457560"/>
            </a:xfrm>
          </p:grpSpPr>
          <p:sp>
            <p:nvSpPr>
              <p:cNvPr id="884" name=""/>
              <p:cNvSpPr/>
              <p:nvPr/>
            </p:nvSpPr>
            <p:spPr>
              <a:xfrm>
                <a:off x="1182600" y="1752480"/>
                <a:ext cx="279360" cy="20592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041480" y="2067120"/>
                <a:ext cx="57132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"/>
              <p:cNvGrpSpPr/>
              <p:nvPr/>
            </p:nvGrpSpPr>
            <p:grpSpPr>
              <a:xfrm>
                <a:off x="1147680" y="1957320"/>
                <a:ext cx="450000" cy="140040"/>
                <a:chOff x="1147680" y="1957320"/>
                <a:chExt cx="450000" cy="14004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476720" y="195732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147680" y="1957320"/>
                  <a:ext cx="447840" cy="54000"/>
                </a:xfrm>
                <a:prstGeom prst="parallelogram">
                  <a:avLst>
                    <a:gd name="adj" fmla="val 234671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1147680" y="202140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1357920" y="2041920"/>
                  <a:ext cx="91440" cy="25560"/>
                  <a:chOff x="1357920" y="2041920"/>
                  <a:chExt cx="91440" cy="2556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1357920" y="204192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365840" y="205524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1395000" y="204840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4" name=""/>
                <p:cNvSpPr/>
                <p:nvPr/>
              </p:nvSpPr>
              <p:spPr>
                <a:xfrm>
                  <a:off x="1176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194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2117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2254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2423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2596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>
                <a:off x="1414800" y="196992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251720" y="19767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1045800" y="2098800"/>
                <a:ext cx="489600" cy="57600"/>
                <a:chOff x="1045800" y="2098800"/>
                <a:chExt cx="489600" cy="5760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1045800" y="2098800"/>
                  <a:ext cx="48528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106640" y="210564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089720" y="21168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079640" y="2127240"/>
                  <a:ext cx="39132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067040" y="21384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478880" y="21009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9" name=""/>
              <p:cNvSpPr/>
              <p:nvPr/>
            </p:nvSpPr>
            <p:spPr>
              <a:xfrm>
                <a:off x="1183680" y="1759320"/>
                <a:ext cx="284040" cy="2034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20040" y="177660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433880" y="178200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520" y="177660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203120" y="194040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 rot="5400000">
                <a:off x="1405800" y="182268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69280" y="19767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 flipV="1">
              <a:off x="309888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7" name=""/>
            <p:cNvGraphicFramePr/>
            <p:nvPr/>
          </p:nvGraphicFramePr>
          <p:xfrm>
            <a:off x="2874960" y="1663920"/>
            <a:ext cx="484200" cy="50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74960" y="1663920"/>
                      <a:ext cx="48420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9" name=""/>
            <p:cNvGrpSpPr/>
            <p:nvPr/>
          </p:nvGrpSpPr>
          <p:grpSpPr>
            <a:xfrm>
              <a:off x="2158920" y="2786400"/>
              <a:ext cx="598320" cy="351720"/>
              <a:chOff x="2158920" y="2786400"/>
              <a:chExt cx="598320" cy="351720"/>
            </a:xfrm>
          </p:grpSpPr>
          <p:sp>
            <p:nvSpPr>
              <p:cNvPr id="920" name=""/>
              <p:cNvSpPr/>
              <p:nvPr/>
            </p:nvSpPr>
            <p:spPr>
              <a:xfrm>
                <a:off x="2161800" y="284796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65040" y="278640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2225520" y="2855880"/>
                <a:ext cx="195120" cy="99360"/>
                <a:chOff x="2225520" y="2855880"/>
                <a:chExt cx="195120" cy="9936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231732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225520" y="285588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225520" y="289512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287440" y="291744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293560" y="291744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393640" y="287280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2517480" y="2855880"/>
                <a:ext cx="182520" cy="99360"/>
                <a:chOff x="2517480" y="2855880"/>
                <a:chExt cx="182520" cy="9936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259848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1" name=""/>
                <p:cNvGrpSpPr/>
                <p:nvPr/>
              </p:nvGrpSpPr>
              <p:grpSpPr>
                <a:xfrm>
                  <a:off x="2517480" y="2855880"/>
                  <a:ext cx="182520" cy="99360"/>
                  <a:chOff x="2517480" y="2855880"/>
                  <a:chExt cx="182520" cy="99360"/>
                </a:xfrm>
              </p:grpSpPr>
              <p:sp>
                <p:nvSpPr>
                  <p:cNvPr id="932" name=""/>
                  <p:cNvSpPr/>
                  <p:nvPr/>
                </p:nvSpPr>
                <p:spPr>
                  <a:xfrm>
                    <a:off x="2517480" y="285588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638080" y="289512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26920" y="291744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28640" y="291744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17480" y="287280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7" name=""/>
              <p:cNvGrpSpPr/>
              <p:nvPr/>
            </p:nvGrpSpPr>
            <p:grpSpPr>
              <a:xfrm>
                <a:off x="2406600" y="2801880"/>
                <a:ext cx="121680" cy="102600"/>
                <a:chOff x="2406600" y="2801880"/>
                <a:chExt cx="121680" cy="1026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250164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40660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406600" y="280188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411280" y="287784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2373120" y="2909880"/>
                <a:ext cx="176040" cy="152280"/>
                <a:chOff x="2373120" y="2909880"/>
                <a:chExt cx="176040" cy="1522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2373120" y="290988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37312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46024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>
                <a:off x="2757240" y="292896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158920" y="292428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8" name=""/>
          <p:cNvGrpSpPr/>
          <p:nvPr/>
        </p:nvGrpSpPr>
        <p:grpSpPr>
          <a:xfrm>
            <a:off x="6324120" y="1460520"/>
            <a:ext cx="2362680" cy="1639080"/>
            <a:chOff x="6324120" y="1460520"/>
            <a:chExt cx="2362680" cy="1639080"/>
          </a:xfrm>
        </p:grpSpPr>
        <p:pic>
          <p:nvPicPr>
            <p:cNvPr id="949" name="" descr=""/>
            <p:cNvPicPr/>
            <p:nvPr/>
          </p:nvPicPr>
          <p:blipFill>
            <a:blip r:embed="rId6"/>
            <a:stretch/>
          </p:blipFill>
          <p:spPr>
            <a:xfrm>
              <a:off x="8001000" y="1688760"/>
              <a:ext cx="6858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H="1">
              <a:off x="6324120" y="2450880"/>
              <a:ext cx="234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6629400" y="206964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754380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3" name=""/>
            <p:cNvGraphicFramePr/>
            <p:nvPr/>
          </p:nvGraphicFramePr>
          <p:xfrm>
            <a:off x="7315200" y="1460520"/>
            <a:ext cx="457200" cy="795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5200" y="146052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55" name=""/>
            <p:cNvGrpSpPr/>
            <p:nvPr/>
          </p:nvGrpSpPr>
          <p:grpSpPr>
            <a:xfrm>
              <a:off x="6324480" y="1840680"/>
              <a:ext cx="571680" cy="457560"/>
              <a:chOff x="6324480" y="1840680"/>
              <a:chExt cx="571680" cy="457560"/>
            </a:xfrm>
          </p:grpSpPr>
          <p:sp>
            <p:nvSpPr>
              <p:cNvPr id="956" name=""/>
              <p:cNvSpPr/>
              <p:nvPr/>
            </p:nvSpPr>
            <p:spPr>
              <a:xfrm>
                <a:off x="6465960" y="1853640"/>
                <a:ext cx="279720" cy="205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324480" y="2168280"/>
                <a:ext cx="57168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6430680" y="2058480"/>
                <a:ext cx="450360" cy="140040"/>
                <a:chOff x="6430680" y="2058480"/>
                <a:chExt cx="450360" cy="14004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6760080" y="205848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430680" y="2058480"/>
                  <a:ext cx="448200" cy="54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430680" y="212256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2" name=""/>
                <p:cNvGrpSpPr/>
                <p:nvPr/>
              </p:nvGrpSpPr>
              <p:grpSpPr>
                <a:xfrm>
                  <a:off x="6641280" y="2143080"/>
                  <a:ext cx="91440" cy="25560"/>
                  <a:chOff x="6641280" y="2143080"/>
                  <a:chExt cx="91440" cy="255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>
                    <a:off x="6641280" y="214308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649200" y="215640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678360" y="214956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6" name=""/>
                <p:cNvSpPr/>
                <p:nvPr/>
              </p:nvSpPr>
              <p:spPr>
                <a:xfrm>
                  <a:off x="6460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478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4951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5084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5257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5426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6698160" y="207108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535080" y="20775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6328800" y="2199600"/>
                <a:ext cx="489960" cy="57600"/>
                <a:chOff x="6328800" y="2199600"/>
                <a:chExt cx="489960" cy="5760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328800" y="2199600"/>
                  <a:ext cx="48564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389640" y="2206440"/>
                  <a:ext cx="390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372720" y="22176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362640" y="2228040"/>
                  <a:ext cx="3916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350040" y="22392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762240" y="22017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6467040" y="1860480"/>
                <a:ext cx="284040" cy="20340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03040" y="187776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717240" y="188316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91880" y="187776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486120" y="204156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 rot="5400000">
                <a:off x="6688800" y="192384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452280" y="20775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 flipV="1">
              <a:off x="838188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543800" y="245088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7162920" y="2747880"/>
              <a:ext cx="598320" cy="351720"/>
              <a:chOff x="7162920" y="2747880"/>
              <a:chExt cx="598320" cy="351720"/>
            </a:xfrm>
          </p:grpSpPr>
          <p:sp>
            <p:nvSpPr>
              <p:cNvPr id="991" name=""/>
              <p:cNvSpPr/>
              <p:nvPr/>
            </p:nvSpPr>
            <p:spPr>
              <a:xfrm>
                <a:off x="7165800" y="280944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69040" y="274788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3" name=""/>
              <p:cNvGrpSpPr/>
              <p:nvPr/>
            </p:nvGrpSpPr>
            <p:grpSpPr>
              <a:xfrm>
                <a:off x="7229520" y="2817360"/>
                <a:ext cx="195120" cy="99360"/>
                <a:chOff x="7229520" y="2817360"/>
                <a:chExt cx="195120" cy="9936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732132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229520" y="281736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229520" y="285660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291440" y="287892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297560" y="287892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397640" y="283428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7521480" y="2817360"/>
                <a:ext cx="182520" cy="99360"/>
                <a:chOff x="7521480" y="2817360"/>
                <a:chExt cx="182520" cy="9936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760248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2" name=""/>
                <p:cNvGrpSpPr/>
                <p:nvPr/>
              </p:nvGrpSpPr>
              <p:grpSpPr>
                <a:xfrm>
                  <a:off x="7521480" y="2817360"/>
                  <a:ext cx="182520" cy="99360"/>
                  <a:chOff x="7521480" y="2817360"/>
                  <a:chExt cx="182520" cy="9936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7521480" y="281736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7642080" y="285660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7630920" y="287892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7532640" y="287892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7521480" y="283428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7410600" y="2763360"/>
                <a:ext cx="121680" cy="102600"/>
                <a:chOff x="7410600" y="2763360"/>
                <a:chExt cx="121680" cy="10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750564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060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410600" y="276336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415280" y="283932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7377120" y="2871360"/>
                <a:ext cx="176040" cy="152280"/>
                <a:chOff x="7377120" y="2871360"/>
                <a:chExt cx="176040" cy="1522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7377120" y="287136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7712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46424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>
                <a:off x="7761240" y="289044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2920" y="288576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19" name=""/>
          <p:cNvGraphicFramePr/>
          <p:nvPr/>
        </p:nvGraphicFramePr>
        <p:xfrm>
          <a:off x="3809880" y="2908440"/>
          <a:ext cx="2260800" cy="73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908440"/>
                    <a:ext cx="226080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1" name=""/>
          <p:cNvGrpSpPr/>
          <p:nvPr/>
        </p:nvGrpSpPr>
        <p:grpSpPr>
          <a:xfrm>
            <a:off x="1411560" y="4089240"/>
            <a:ext cx="1229400" cy="654120"/>
            <a:chOff x="1411560" y="4089240"/>
            <a:chExt cx="1229400" cy="654120"/>
          </a:xfrm>
        </p:grpSpPr>
        <p:sp>
          <p:nvSpPr>
            <p:cNvPr id="1022" name=""/>
            <p:cNvSpPr/>
            <p:nvPr/>
          </p:nvSpPr>
          <p:spPr>
            <a:xfrm>
              <a:off x="1467000" y="4100400"/>
              <a:ext cx="1104840" cy="6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619280" y="4422600"/>
              <a:ext cx="0" cy="214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1924200" y="4422600"/>
              <a:ext cx="304560" cy="21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619280" y="4422600"/>
              <a:ext cx="3049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1924200" y="4422600"/>
              <a:ext cx="0" cy="214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411560" y="4089240"/>
              <a:ext cx="122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r>
                <a:rPr b="1" lang="sv-SE" sz="1000" spc="-1" strike="noStrike">
                  <a:solidFill>
                    <a:srgbClr val="ffffff"/>
                  </a:solidFill>
                  <a:latin typeface="Arial"/>
                </a:rPr>
                <a:t>The Real World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7480440" y="55065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1536840" y="5811840"/>
            <a:ext cx="650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34672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7360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94040" y="5494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676520" y="4952160"/>
            <a:ext cx="704880" cy="541800"/>
            <a:chOff x="1676520" y="4952160"/>
            <a:chExt cx="704880" cy="541800"/>
          </a:xfrm>
        </p:grpSpPr>
        <p:sp>
          <p:nvSpPr>
            <p:cNvPr id="1034" name=""/>
            <p:cNvSpPr/>
            <p:nvPr/>
          </p:nvSpPr>
          <p:spPr>
            <a:xfrm>
              <a:off x="1850760" y="4967640"/>
              <a:ext cx="344520" cy="24372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676520" y="5340240"/>
              <a:ext cx="704880" cy="153720"/>
            </a:xfrm>
            <a:custGeom>
              <a:avLst/>
              <a:gdLst/>
              <a:ahLst/>
              <a:rect l="l" t="t" r="r" b="b"/>
              <a:pathLst>
                <a:path w="505" h="115">
                  <a:moveTo>
                    <a:pt x="504" y="0"/>
                  </a:moveTo>
                  <a:lnTo>
                    <a:pt x="133" y="1"/>
                  </a:lnTo>
                  <a:lnTo>
                    <a:pt x="43" y="76"/>
                  </a:lnTo>
                  <a:lnTo>
                    <a:pt x="0" y="114"/>
                  </a:lnTo>
                  <a:lnTo>
                    <a:pt x="397" y="114"/>
                  </a:lnTo>
                  <a:lnTo>
                    <a:pt x="454" y="63"/>
                  </a:lnTo>
                  <a:lnTo>
                    <a:pt x="436" y="58"/>
                  </a:lnTo>
                  <a:lnTo>
                    <a:pt x="442" y="41"/>
                  </a:lnTo>
                  <a:lnTo>
                    <a:pt x="504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1807560" y="5209920"/>
              <a:ext cx="555480" cy="165960"/>
              <a:chOff x="1807560" y="5209920"/>
              <a:chExt cx="555480" cy="165960"/>
            </a:xfrm>
          </p:grpSpPr>
          <p:sp>
            <p:nvSpPr>
              <p:cNvPr id="1037" name=""/>
              <p:cNvSpPr/>
              <p:nvPr/>
            </p:nvSpPr>
            <p:spPr>
              <a:xfrm>
                <a:off x="2213640" y="5209920"/>
                <a:ext cx="149400" cy="165960"/>
              </a:xfrm>
              <a:custGeom>
                <a:avLst/>
                <a:gdLst/>
                <a:ahLst/>
                <a:rect l="l" t="t" r="r" b="b"/>
                <a:pathLst>
                  <a:path w="107" h="124">
                    <a:moveTo>
                      <a:pt x="106" y="0"/>
                    </a:moveTo>
                    <a:lnTo>
                      <a:pt x="0" y="52"/>
                    </a:lnTo>
                    <a:lnTo>
                      <a:pt x="0" y="123"/>
                    </a:lnTo>
                    <a:lnTo>
                      <a:pt x="106" y="57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807560" y="5209920"/>
                <a:ext cx="552600" cy="64080"/>
              </a:xfrm>
              <a:prstGeom prst="parallelogram">
                <a:avLst>
                  <a:gd name="adj" fmla="val 244016"/>
                </a:avLst>
              </a:prstGeom>
              <a:solidFill>
                <a:srgbClr val="b2b2b2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807560" y="5285880"/>
                <a:ext cx="398880" cy="88560"/>
              </a:xfrm>
              <a:prstGeom prst="rect">
                <a:avLst/>
              </a:prstGeom>
              <a:solidFill>
                <a:srgbClr val="c3c3c3"/>
              </a:solidFill>
              <a:ln w="12600">
                <a:solidFill>
                  <a:srgbClr val="c3c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2067120" y="5310360"/>
                <a:ext cx="112680" cy="30600"/>
                <a:chOff x="2067120" y="5310360"/>
                <a:chExt cx="112680" cy="3060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2067120" y="5310360"/>
                  <a:ext cx="112680" cy="30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076840" y="5326200"/>
                  <a:ext cx="90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113200" y="5317920"/>
                  <a:ext cx="23400" cy="118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184392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658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867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9036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9245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94580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2136960" y="5225040"/>
              <a:ext cx="87840" cy="38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1" y="28"/>
                  </a:moveTo>
                  <a:lnTo>
                    <a:pt x="62" y="0"/>
                  </a:lnTo>
                  <a:lnTo>
                    <a:pt x="0" y="8"/>
                  </a:lnTo>
                  <a:lnTo>
                    <a:pt x="1" y="2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36080" y="5232960"/>
              <a:ext cx="194040" cy="3204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3"/>
                  </a:moveTo>
                  <a:lnTo>
                    <a:pt x="138" y="23"/>
                  </a:lnTo>
                  <a:lnTo>
                    <a:pt x="137" y="0"/>
                  </a:lnTo>
                  <a:lnTo>
                    <a:pt x="0" y="1"/>
                  </a:lnTo>
                  <a:lnTo>
                    <a:pt x="0" y="23"/>
                  </a:lnTo>
                </a:path>
              </a:pathLst>
            </a:custGeom>
            <a:solidFill>
              <a:srgbClr val="bcbcbc"/>
            </a:solidFill>
            <a:ln cap="rnd" w="1260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1681560" y="5377680"/>
              <a:ext cx="604440" cy="68040"/>
              <a:chOff x="1681560" y="5377680"/>
              <a:chExt cx="604440" cy="68040"/>
            </a:xfrm>
          </p:grpSpPr>
          <p:sp>
            <p:nvSpPr>
              <p:cNvPr id="1053" name=""/>
              <p:cNvSpPr/>
              <p:nvPr/>
            </p:nvSpPr>
            <p:spPr>
              <a:xfrm>
                <a:off x="1681560" y="5377680"/>
                <a:ext cx="599040" cy="68040"/>
              </a:xfrm>
              <a:prstGeom prst="cube">
                <a:avLst>
                  <a:gd name="adj" fmla="val 85481"/>
                </a:avLst>
              </a:prstGeom>
              <a:solidFill>
                <a:srgbClr val="b2b2b2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756800" y="5385600"/>
                <a:ext cx="481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35920" y="539892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723320" y="5411160"/>
                <a:ext cx="483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707840" y="542448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16160" y="538020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1" y="46"/>
                    </a:moveTo>
                    <a:lnTo>
                      <a:pt x="0" y="48"/>
                    </a:lnTo>
                    <a:lnTo>
                      <a:pt x="49" y="0"/>
                    </a:lnTo>
                    <a:lnTo>
                      <a:pt x="44" y="9"/>
                    </a:lnTo>
                    <a:lnTo>
                      <a:pt x="1" y="4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1852200" y="4975560"/>
              <a:ext cx="350280" cy="2412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96840" y="4995720"/>
              <a:ext cx="257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60720" y="5002560"/>
              <a:ext cx="0" cy="181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82800" y="49957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75960" y="5190120"/>
              <a:ext cx="29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 rot="5400000">
              <a:off x="2131560" y="5049360"/>
              <a:ext cx="273240" cy="78120"/>
            </a:xfrm>
            <a:custGeom>
              <a:avLst/>
              <a:gdLst>
                <a:gd name="textAreaLeft" fmla="*/ 47160 w 273240"/>
                <a:gd name="textAreaRight" fmla="*/ 226080 w 273240"/>
                <a:gd name="textAreaTop" fmla="*/ 13320 h 78120"/>
                <a:gd name="textAreaBottom" fmla="*/ 64800 h 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39" y="21600"/>
                  </a:lnTo>
                  <a:lnTo>
                    <a:pt x="3561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34200" y="5232960"/>
              <a:ext cx="383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073520" y="49150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N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7188120" y="5135400"/>
            <a:ext cx="598320" cy="352440"/>
            <a:chOff x="7188120" y="5135400"/>
            <a:chExt cx="598320" cy="352440"/>
          </a:xfrm>
        </p:grpSpPr>
        <p:sp>
          <p:nvSpPr>
            <p:cNvPr id="1068" name=""/>
            <p:cNvSpPr/>
            <p:nvPr/>
          </p:nvSpPr>
          <p:spPr>
            <a:xfrm>
              <a:off x="7191000" y="519732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94240" y="513540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7254720" y="5205240"/>
              <a:ext cx="195120" cy="100080"/>
              <a:chOff x="7254720" y="5205240"/>
              <a:chExt cx="195120" cy="100080"/>
            </a:xfrm>
          </p:grpSpPr>
          <p:sp>
            <p:nvSpPr>
              <p:cNvPr id="1071" name=""/>
              <p:cNvSpPr/>
              <p:nvPr/>
            </p:nvSpPr>
            <p:spPr>
              <a:xfrm>
                <a:off x="734652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54720" y="520524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254720" y="524484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316640" y="52671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322760" y="526716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22840" y="52225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7546680" y="5205240"/>
              <a:ext cx="182520" cy="100080"/>
              <a:chOff x="7546680" y="5205240"/>
              <a:chExt cx="182520" cy="100080"/>
            </a:xfrm>
          </p:grpSpPr>
          <p:sp>
            <p:nvSpPr>
              <p:cNvPr id="1078" name=""/>
              <p:cNvSpPr/>
              <p:nvPr/>
            </p:nvSpPr>
            <p:spPr>
              <a:xfrm>
                <a:off x="762768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7546680" y="5205240"/>
                <a:ext cx="182520" cy="100080"/>
                <a:chOff x="7546680" y="5205240"/>
                <a:chExt cx="182520" cy="1000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7546680" y="520524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667280" y="524484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656120" y="5267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557840" y="526716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546680" y="522252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5" name=""/>
            <p:cNvGrpSpPr/>
            <p:nvPr/>
          </p:nvGrpSpPr>
          <p:grpSpPr>
            <a:xfrm>
              <a:off x="7435800" y="5151240"/>
              <a:ext cx="121680" cy="103320"/>
              <a:chOff x="7435800" y="5151240"/>
              <a:chExt cx="121680" cy="103320"/>
            </a:xfrm>
          </p:grpSpPr>
          <p:sp>
            <p:nvSpPr>
              <p:cNvPr id="1086" name=""/>
              <p:cNvSpPr/>
              <p:nvPr/>
            </p:nvSpPr>
            <p:spPr>
              <a:xfrm>
                <a:off x="753084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43580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435800" y="515124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440480" y="522756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7402320" y="5259240"/>
              <a:ext cx="176040" cy="152280"/>
              <a:chOff x="7402320" y="5259240"/>
              <a:chExt cx="176040" cy="152280"/>
            </a:xfrm>
          </p:grpSpPr>
          <p:sp>
            <p:nvSpPr>
              <p:cNvPr id="1091" name=""/>
              <p:cNvSpPr/>
              <p:nvPr/>
            </p:nvSpPr>
            <p:spPr>
              <a:xfrm>
                <a:off x="7402320" y="525924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40232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48944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7786440" y="52783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88120" y="527364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6" name=""/>
          <p:cNvGraphicFramePr/>
          <p:nvPr/>
        </p:nvGraphicFramePr>
        <p:xfrm>
          <a:off x="5130720" y="4724280"/>
          <a:ext cx="457200" cy="79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30720" y="4724280"/>
                    <a:ext cx="4572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8" name=""/>
          <p:cNvGraphicFramePr/>
          <p:nvPr/>
        </p:nvGraphicFramePr>
        <p:xfrm>
          <a:off x="3432240" y="5065560"/>
          <a:ext cx="920520" cy="454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32240" y="5065560"/>
                    <a:ext cx="920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56BD-E4E7-4EC6-B0EA-C833EC6648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reas according to ISO 7498-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 – Faul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 – Configuration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 – Accounting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 – Performance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 – Security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D898-9253-491E-BF1C-65F99680CD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Event Triggering 1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739880" y="5538960"/>
            <a:ext cx="4977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739880" y="2553840"/>
            <a:ext cx="0" cy="298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739880" y="3087720"/>
            <a:ext cx="4886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39880" y="3513240"/>
            <a:ext cx="4886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49760" y="28940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037160" y="33051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739880" y="2873520"/>
            <a:ext cx="4797360" cy="1172880"/>
          </a:xfrm>
          <a:custGeom>
            <a:avLst/>
            <a:gdLst/>
            <a:ahLst/>
            <a:rect l="l" t="t" r="r" b="b"/>
            <a:pathLst>
              <a:path w="2544" h="528">
                <a:moveTo>
                  <a:pt x="0" y="528"/>
                </a:moveTo>
                <a:lnTo>
                  <a:pt x="240" y="384"/>
                </a:lnTo>
                <a:lnTo>
                  <a:pt x="432" y="336"/>
                </a:lnTo>
                <a:lnTo>
                  <a:pt x="528" y="192"/>
                </a:lnTo>
                <a:lnTo>
                  <a:pt x="624" y="144"/>
                </a:lnTo>
                <a:lnTo>
                  <a:pt x="768" y="0"/>
                </a:lnTo>
                <a:lnTo>
                  <a:pt x="912" y="48"/>
                </a:lnTo>
                <a:lnTo>
                  <a:pt x="1056" y="192"/>
                </a:lnTo>
                <a:lnTo>
                  <a:pt x="1344" y="0"/>
                </a:lnTo>
                <a:lnTo>
                  <a:pt x="1584" y="384"/>
                </a:lnTo>
                <a:lnTo>
                  <a:pt x="1776" y="240"/>
                </a:lnTo>
                <a:lnTo>
                  <a:pt x="2016" y="192"/>
                </a:lnTo>
                <a:lnTo>
                  <a:pt x="2208" y="0"/>
                </a:lnTo>
                <a:lnTo>
                  <a:pt x="2448" y="48"/>
                </a:lnTo>
                <a:lnTo>
                  <a:pt x="2544" y="192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181560" y="5535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29880" y="20718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k u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752880" y="286704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vent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771960" y="331956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rm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289320" y="144792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Trigger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469E-6CB4-46C8-A9E7-40610A2D00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Event Triggering 2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739880" y="5538960"/>
            <a:ext cx="4977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739880" y="2553840"/>
            <a:ext cx="0" cy="298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739880" y="3087720"/>
            <a:ext cx="4886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49760" y="28940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739880" y="2873520"/>
            <a:ext cx="4797360" cy="1172880"/>
          </a:xfrm>
          <a:custGeom>
            <a:avLst/>
            <a:gdLst/>
            <a:ahLst/>
            <a:rect l="l" t="t" r="r" b="b"/>
            <a:pathLst>
              <a:path w="2544" h="528">
                <a:moveTo>
                  <a:pt x="0" y="528"/>
                </a:moveTo>
                <a:lnTo>
                  <a:pt x="240" y="384"/>
                </a:lnTo>
                <a:lnTo>
                  <a:pt x="432" y="336"/>
                </a:lnTo>
                <a:lnTo>
                  <a:pt x="528" y="192"/>
                </a:lnTo>
                <a:lnTo>
                  <a:pt x="624" y="144"/>
                </a:lnTo>
                <a:lnTo>
                  <a:pt x="768" y="0"/>
                </a:lnTo>
                <a:lnTo>
                  <a:pt x="912" y="48"/>
                </a:lnTo>
                <a:lnTo>
                  <a:pt x="1056" y="192"/>
                </a:lnTo>
                <a:lnTo>
                  <a:pt x="1344" y="0"/>
                </a:lnTo>
                <a:lnTo>
                  <a:pt x="1584" y="384"/>
                </a:lnTo>
                <a:lnTo>
                  <a:pt x="1776" y="240"/>
                </a:lnTo>
                <a:lnTo>
                  <a:pt x="2016" y="192"/>
                </a:lnTo>
                <a:lnTo>
                  <a:pt x="2208" y="0"/>
                </a:lnTo>
                <a:lnTo>
                  <a:pt x="2448" y="48"/>
                </a:lnTo>
                <a:lnTo>
                  <a:pt x="2544" y="192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181560" y="5535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929880" y="20718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k u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51800" y="29052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vent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88240" y="144792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vel Trigger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2577960" y="2579760"/>
            <a:ext cx="0" cy="2946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3435480" y="2560320"/>
            <a:ext cx="0" cy="296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4273560" y="2553840"/>
            <a:ext cx="0" cy="298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5156280" y="2553840"/>
            <a:ext cx="0" cy="298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6032520" y="2560320"/>
            <a:ext cx="0" cy="296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5480" y="5710320"/>
            <a:ext cx="823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16600" y="57484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ock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6111-7519-4D61-82D0-B540D822A2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Fault Det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5283360" y="3352680"/>
            <a:ext cx="20952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03920" y="2908440"/>
            <a:ext cx="1574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2641680" y="2984040"/>
            <a:ext cx="1396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041480" y="1359000"/>
            <a:ext cx="2349360" cy="1779120"/>
            <a:chOff x="1041480" y="1359000"/>
            <a:chExt cx="2349360" cy="1779120"/>
          </a:xfrm>
        </p:grpSpPr>
        <p:sp>
          <p:nvSpPr>
            <p:cNvPr id="1135" name=""/>
            <p:cNvSpPr/>
            <p:nvPr/>
          </p:nvSpPr>
          <p:spPr>
            <a:xfrm>
              <a:off x="2489040" y="23497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041480" y="2349720"/>
              <a:ext cx="234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1346040" y="19688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226044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9" name=""/>
            <p:cNvGraphicFramePr/>
            <p:nvPr/>
          </p:nvGraphicFramePr>
          <p:xfrm>
            <a:off x="2031840" y="1359000"/>
            <a:ext cx="457200" cy="79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1840" y="135900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41" name=""/>
            <p:cNvGrpSpPr/>
            <p:nvPr/>
          </p:nvGrpSpPr>
          <p:grpSpPr>
            <a:xfrm>
              <a:off x="1041480" y="1739520"/>
              <a:ext cx="571320" cy="457560"/>
              <a:chOff x="1041480" y="1739520"/>
              <a:chExt cx="571320" cy="457560"/>
            </a:xfrm>
          </p:grpSpPr>
          <p:sp>
            <p:nvSpPr>
              <p:cNvPr id="1142" name=""/>
              <p:cNvSpPr/>
              <p:nvPr/>
            </p:nvSpPr>
            <p:spPr>
              <a:xfrm>
                <a:off x="1182600" y="1752480"/>
                <a:ext cx="279360" cy="20592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041480" y="2067120"/>
                <a:ext cx="57132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1147680" y="1957320"/>
                <a:ext cx="450000" cy="140040"/>
                <a:chOff x="1147680" y="1957320"/>
                <a:chExt cx="450000" cy="14004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1476720" y="195732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147680" y="1957320"/>
                  <a:ext cx="447840" cy="54000"/>
                </a:xfrm>
                <a:prstGeom prst="parallelogram">
                  <a:avLst>
                    <a:gd name="adj" fmla="val 234671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147680" y="202140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8" name=""/>
                <p:cNvGrpSpPr/>
                <p:nvPr/>
              </p:nvGrpSpPr>
              <p:grpSpPr>
                <a:xfrm>
                  <a:off x="1357920" y="2041920"/>
                  <a:ext cx="91440" cy="25560"/>
                  <a:chOff x="1357920" y="2041920"/>
                  <a:chExt cx="91440" cy="2556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1357920" y="204192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1365840" y="205524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1395000" y="204840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2" name=""/>
                <p:cNvSpPr/>
                <p:nvPr/>
              </p:nvSpPr>
              <p:spPr>
                <a:xfrm>
                  <a:off x="1176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194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2117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2254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2423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2596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"/>
              <p:cNvSpPr/>
              <p:nvPr/>
            </p:nvSpPr>
            <p:spPr>
              <a:xfrm>
                <a:off x="1414800" y="196992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251720" y="19767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0" name=""/>
              <p:cNvGrpSpPr/>
              <p:nvPr/>
            </p:nvGrpSpPr>
            <p:grpSpPr>
              <a:xfrm>
                <a:off x="1045800" y="2098800"/>
                <a:ext cx="489600" cy="57600"/>
                <a:chOff x="1045800" y="2098800"/>
                <a:chExt cx="489600" cy="5760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1045800" y="2098800"/>
                  <a:ext cx="48528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1106640" y="210564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1089720" y="21168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079640" y="2127240"/>
                  <a:ext cx="39132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067040" y="21384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478880" y="21009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7" name=""/>
              <p:cNvSpPr/>
              <p:nvPr/>
            </p:nvSpPr>
            <p:spPr>
              <a:xfrm>
                <a:off x="1183680" y="1759320"/>
                <a:ext cx="284040" cy="2034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220040" y="177660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33880" y="178200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08520" y="177660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203120" y="194040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 rot="5400000">
                <a:off x="1405800" y="182268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169280" y="19767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 flipV="1">
              <a:off x="309888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5" name=""/>
            <p:cNvGraphicFramePr/>
            <p:nvPr/>
          </p:nvGraphicFramePr>
          <p:xfrm>
            <a:off x="2874960" y="1663920"/>
            <a:ext cx="484200" cy="50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74960" y="1663920"/>
                      <a:ext cx="48420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77" name=""/>
            <p:cNvGrpSpPr/>
            <p:nvPr/>
          </p:nvGrpSpPr>
          <p:grpSpPr>
            <a:xfrm>
              <a:off x="2158920" y="2786400"/>
              <a:ext cx="598320" cy="351720"/>
              <a:chOff x="2158920" y="2786400"/>
              <a:chExt cx="598320" cy="351720"/>
            </a:xfrm>
          </p:grpSpPr>
          <p:sp>
            <p:nvSpPr>
              <p:cNvPr id="1178" name=""/>
              <p:cNvSpPr/>
              <p:nvPr/>
            </p:nvSpPr>
            <p:spPr>
              <a:xfrm>
                <a:off x="2161800" y="284796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165040" y="278640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0" name=""/>
              <p:cNvGrpSpPr/>
              <p:nvPr/>
            </p:nvGrpSpPr>
            <p:grpSpPr>
              <a:xfrm>
                <a:off x="2225520" y="2855880"/>
                <a:ext cx="195120" cy="99360"/>
                <a:chOff x="2225520" y="2855880"/>
                <a:chExt cx="195120" cy="9936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231732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25520" y="285588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25520" y="289512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87440" y="291744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93560" y="291744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393640" y="287280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2517480" y="2855880"/>
                <a:ext cx="182520" cy="99360"/>
                <a:chOff x="2517480" y="2855880"/>
                <a:chExt cx="182520" cy="9936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259848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2517480" y="2855880"/>
                  <a:ext cx="182520" cy="99360"/>
                  <a:chOff x="2517480" y="2855880"/>
                  <a:chExt cx="182520" cy="9936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2517480" y="285588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638080" y="289512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626920" y="291744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528640" y="291744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517480" y="287280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5" name=""/>
              <p:cNvGrpSpPr/>
              <p:nvPr/>
            </p:nvGrpSpPr>
            <p:grpSpPr>
              <a:xfrm>
                <a:off x="2406600" y="2801880"/>
                <a:ext cx="121680" cy="102600"/>
                <a:chOff x="2406600" y="2801880"/>
                <a:chExt cx="121680" cy="10260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250164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40660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406600" y="280188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411280" y="287784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2373120" y="2909880"/>
                <a:ext cx="176040" cy="152280"/>
                <a:chOff x="2373120" y="2909880"/>
                <a:chExt cx="176040" cy="1522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2373120" y="290988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7312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46024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2757240" y="292896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158920" y="292428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6" name=""/>
          <p:cNvGrpSpPr/>
          <p:nvPr/>
        </p:nvGrpSpPr>
        <p:grpSpPr>
          <a:xfrm>
            <a:off x="6324120" y="1460520"/>
            <a:ext cx="2362680" cy="1639080"/>
            <a:chOff x="6324120" y="1460520"/>
            <a:chExt cx="2362680" cy="1639080"/>
          </a:xfrm>
        </p:grpSpPr>
        <p:pic>
          <p:nvPicPr>
            <p:cNvPr id="1207" name="" descr=""/>
            <p:cNvPicPr/>
            <p:nvPr/>
          </p:nvPicPr>
          <p:blipFill>
            <a:blip r:embed="rId6"/>
            <a:stretch/>
          </p:blipFill>
          <p:spPr>
            <a:xfrm>
              <a:off x="8001000" y="1688760"/>
              <a:ext cx="6858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"/>
            <p:cNvSpPr/>
            <p:nvPr/>
          </p:nvSpPr>
          <p:spPr>
            <a:xfrm flipH="1">
              <a:off x="6324120" y="2450880"/>
              <a:ext cx="234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6629400" y="206964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54380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1" name=""/>
            <p:cNvGraphicFramePr/>
            <p:nvPr/>
          </p:nvGraphicFramePr>
          <p:xfrm>
            <a:off x="7315200" y="1460520"/>
            <a:ext cx="457200" cy="795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5200" y="146052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13" name=""/>
            <p:cNvGrpSpPr/>
            <p:nvPr/>
          </p:nvGrpSpPr>
          <p:grpSpPr>
            <a:xfrm>
              <a:off x="6324480" y="1840680"/>
              <a:ext cx="571680" cy="457560"/>
              <a:chOff x="6324480" y="1840680"/>
              <a:chExt cx="571680" cy="457560"/>
            </a:xfrm>
          </p:grpSpPr>
          <p:sp>
            <p:nvSpPr>
              <p:cNvPr id="1214" name=""/>
              <p:cNvSpPr/>
              <p:nvPr/>
            </p:nvSpPr>
            <p:spPr>
              <a:xfrm>
                <a:off x="6465960" y="1853640"/>
                <a:ext cx="279720" cy="205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324480" y="2168280"/>
                <a:ext cx="57168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6430680" y="2058480"/>
                <a:ext cx="450360" cy="140040"/>
                <a:chOff x="6430680" y="2058480"/>
                <a:chExt cx="450360" cy="1400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6760080" y="205848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430680" y="2058480"/>
                  <a:ext cx="448200" cy="54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430680" y="212256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0" name=""/>
                <p:cNvGrpSpPr/>
                <p:nvPr/>
              </p:nvGrpSpPr>
              <p:grpSpPr>
                <a:xfrm>
                  <a:off x="6641280" y="2143080"/>
                  <a:ext cx="91440" cy="25560"/>
                  <a:chOff x="6641280" y="2143080"/>
                  <a:chExt cx="91440" cy="2556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>
                    <a:off x="6641280" y="214308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6649200" y="215640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6678360" y="214956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4" name=""/>
                <p:cNvSpPr/>
                <p:nvPr/>
              </p:nvSpPr>
              <p:spPr>
                <a:xfrm>
                  <a:off x="6460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478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4951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5084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65257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5426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0" name=""/>
              <p:cNvSpPr/>
              <p:nvPr/>
            </p:nvSpPr>
            <p:spPr>
              <a:xfrm>
                <a:off x="6698160" y="207108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535080" y="20775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2" name=""/>
              <p:cNvGrpSpPr/>
              <p:nvPr/>
            </p:nvGrpSpPr>
            <p:grpSpPr>
              <a:xfrm>
                <a:off x="6328800" y="2199600"/>
                <a:ext cx="489960" cy="57600"/>
                <a:chOff x="6328800" y="2199600"/>
                <a:chExt cx="489960" cy="5760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6328800" y="2199600"/>
                  <a:ext cx="48564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389640" y="2206440"/>
                  <a:ext cx="390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372720" y="22176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62640" y="2228040"/>
                  <a:ext cx="3916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350040" y="22392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762240" y="22017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6467040" y="1860480"/>
                <a:ext cx="284040" cy="20340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503040" y="187776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717240" y="188316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491880" y="187776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486120" y="204156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 rot="5400000">
                <a:off x="6688800" y="192384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452280" y="20775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 flipV="1">
              <a:off x="838188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43800" y="245088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7162920" y="2747880"/>
              <a:ext cx="598320" cy="351720"/>
              <a:chOff x="7162920" y="2747880"/>
              <a:chExt cx="598320" cy="351720"/>
            </a:xfrm>
          </p:grpSpPr>
          <p:sp>
            <p:nvSpPr>
              <p:cNvPr id="1249" name=""/>
              <p:cNvSpPr/>
              <p:nvPr/>
            </p:nvSpPr>
            <p:spPr>
              <a:xfrm>
                <a:off x="7165800" y="280944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69040" y="274788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1" name=""/>
              <p:cNvGrpSpPr/>
              <p:nvPr/>
            </p:nvGrpSpPr>
            <p:grpSpPr>
              <a:xfrm>
                <a:off x="7229520" y="2817360"/>
                <a:ext cx="195120" cy="99360"/>
                <a:chOff x="7229520" y="2817360"/>
                <a:chExt cx="195120" cy="9936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732132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229520" y="281736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7229520" y="285660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291440" y="287892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7297560" y="287892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7397640" y="283428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7521480" y="2817360"/>
                <a:ext cx="182520" cy="99360"/>
                <a:chOff x="7521480" y="2817360"/>
                <a:chExt cx="182520" cy="9936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760248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0" name=""/>
                <p:cNvGrpSpPr/>
                <p:nvPr/>
              </p:nvGrpSpPr>
              <p:grpSpPr>
                <a:xfrm>
                  <a:off x="7521480" y="2817360"/>
                  <a:ext cx="182520" cy="99360"/>
                  <a:chOff x="7521480" y="2817360"/>
                  <a:chExt cx="182520" cy="99360"/>
                </a:xfrm>
              </p:grpSpPr>
              <p:sp>
                <p:nvSpPr>
                  <p:cNvPr id="1261" name=""/>
                  <p:cNvSpPr/>
                  <p:nvPr/>
                </p:nvSpPr>
                <p:spPr>
                  <a:xfrm>
                    <a:off x="7521480" y="281736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7642080" y="285660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7630920" y="287892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7532640" y="287892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521480" y="283428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6" name=""/>
              <p:cNvGrpSpPr/>
              <p:nvPr/>
            </p:nvGrpSpPr>
            <p:grpSpPr>
              <a:xfrm>
                <a:off x="7410600" y="2763360"/>
                <a:ext cx="121680" cy="102600"/>
                <a:chOff x="7410600" y="2763360"/>
                <a:chExt cx="121680" cy="1026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750564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741060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7410600" y="276336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7415280" y="283932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7377120" y="2871360"/>
                <a:ext cx="176040" cy="152280"/>
                <a:chOff x="7377120" y="2871360"/>
                <a:chExt cx="176040" cy="15228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7377120" y="287136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737712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746424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"/>
              <p:cNvSpPr/>
              <p:nvPr/>
            </p:nvSpPr>
            <p:spPr>
              <a:xfrm>
                <a:off x="7761240" y="289044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62920" y="288576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77" name=""/>
          <p:cNvGraphicFramePr/>
          <p:nvPr/>
        </p:nvGraphicFramePr>
        <p:xfrm>
          <a:off x="3809880" y="2908440"/>
          <a:ext cx="2260800" cy="73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908440"/>
                    <a:ext cx="226080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9" name=""/>
          <p:cNvSpPr/>
          <p:nvPr/>
        </p:nvSpPr>
        <p:spPr>
          <a:xfrm flipV="1">
            <a:off x="7480440" y="55065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536840" y="5811840"/>
            <a:ext cx="650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4672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7360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994040" y="5494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676520" y="4952160"/>
            <a:ext cx="704880" cy="541800"/>
            <a:chOff x="1676520" y="4952160"/>
            <a:chExt cx="704880" cy="541800"/>
          </a:xfrm>
        </p:grpSpPr>
        <p:sp>
          <p:nvSpPr>
            <p:cNvPr id="1285" name=""/>
            <p:cNvSpPr/>
            <p:nvPr/>
          </p:nvSpPr>
          <p:spPr>
            <a:xfrm>
              <a:off x="1850760" y="4967640"/>
              <a:ext cx="344520" cy="24372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676520" y="5340240"/>
              <a:ext cx="704880" cy="153720"/>
            </a:xfrm>
            <a:custGeom>
              <a:avLst/>
              <a:gdLst/>
              <a:ahLst/>
              <a:rect l="l" t="t" r="r" b="b"/>
              <a:pathLst>
                <a:path w="505" h="115">
                  <a:moveTo>
                    <a:pt x="504" y="0"/>
                  </a:moveTo>
                  <a:lnTo>
                    <a:pt x="133" y="1"/>
                  </a:lnTo>
                  <a:lnTo>
                    <a:pt x="43" y="76"/>
                  </a:lnTo>
                  <a:lnTo>
                    <a:pt x="0" y="114"/>
                  </a:lnTo>
                  <a:lnTo>
                    <a:pt x="397" y="114"/>
                  </a:lnTo>
                  <a:lnTo>
                    <a:pt x="454" y="63"/>
                  </a:lnTo>
                  <a:lnTo>
                    <a:pt x="436" y="58"/>
                  </a:lnTo>
                  <a:lnTo>
                    <a:pt x="442" y="41"/>
                  </a:lnTo>
                  <a:lnTo>
                    <a:pt x="504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1807560" y="5209920"/>
              <a:ext cx="555480" cy="165960"/>
              <a:chOff x="1807560" y="5209920"/>
              <a:chExt cx="555480" cy="165960"/>
            </a:xfrm>
          </p:grpSpPr>
          <p:sp>
            <p:nvSpPr>
              <p:cNvPr id="1288" name=""/>
              <p:cNvSpPr/>
              <p:nvPr/>
            </p:nvSpPr>
            <p:spPr>
              <a:xfrm>
                <a:off x="2213640" y="5209920"/>
                <a:ext cx="149400" cy="165960"/>
              </a:xfrm>
              <a:custGeom>
                <a:avLst/>
                <a:gdLst/>
                <a:ahLst/>
                <a:rect l="l" t="t" r="r" b="b"/>
                <a:pathLst>
                  <a:path w="107" h="124">
                    <a:moveTo>
                      <a:pt x="106" y="0"/>
                    </a:moveTo>
                    <a:lnTo>
                      <a:pt x="0" y="52"/>
                    </a:lnTo>
                    <a:lnTo>
                      <a:pt x="0" y="123"/>
                    </a:lnTo>
                    <a:lnTo>
                      <a:pt x="106" y="57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807560" y="5209920"/>
                <a:ext cx="552600" cy="64080"/>
              </a:xfrm>
              <a:prstGeom prst="parallelogram">
                <a:avLst>
                  <a:gd name="adj" fmla="val 244016"/>
                </a:avLst>
              </a:prstGeom>
              <a:solidFill>
                <a:srgbClr val="b2b2b2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807560" y="5285880"/>
                <a:ext cx="398880" cy="88560"/>
              </a:xfrm>
              <a:prstGeom prst="rect">
                <a:avLst/>
              </a:prstGeom>
              <a:solidFill>
                <a:srgbClr val="c3c3c3"/>
              </a:solidFill>
              <a:ln w="12600">
                <a:solidFill>
                  <a:srgbClr val="c3c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2067120" y="5310360"/>
                <a:ext cx="112680" cy="30600"/>
                <a:chOff x="2067120" y="5310360"/>
                <a:chExt cx="112680" cy="306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2067120" y="5310360"/>
                  <a:ext cx="112680" cy="30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076840" y="5326200"/>
                  <a:ext cx="90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113200" y="5317920"/>
                  <a:ext cx="23400" cy="118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"/>
              <p:cNvSpPr/>
              <p:nvPr/>
            </p:nvSpPr>
            <p:spPr>
              <a:xfrm>
                <a:off x="184392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8658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8867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9036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9245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94580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2136960" y="5225040"/>
              <a:ext cx="87840" cy="38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1" y="28"/>
                  </a:moveTo>
                  <a:lnTo>
                    <a:pt x="62" y="0"/>
                  </a:lnTo>
                  <a:lnTo>
                    <a:pt x="0" y="8"/>
                  </a:lnTo>
                  <a:lnTo>
                    <a:pt x="1" y="2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936080" y="5232960"/>
              <a:ext cx="194040" cy="3204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3"/>
                  </a:moveTo>
                  <a:lnTo>
                    <a:pt x="138" y="23"/>
                  </a:lnTo>
                  <a:lnTo>
                    <a:pt x="137" y="0"/>
                  </a:lnTo>
                  <a:lnTo>
                    <a:pt x="0" y="1"/>
                  </a:lnTo>
                  <a:lnTo>
                    <a:pt x="0" y="23"/>
                  </a:lnTo>
                </a:path>
              </a:pathLst>
            </a:custGeom>
            <a:solidFill>
              <a:srgbClr val="bcbcbc"/>
            </a:solidFill>
            <a:ln cap="rnd" w="1260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1681560" y="5377680"/>
              <a:ext cx="604440" cy="68040"/>
              <a:chOff x="1681560" y="5377680"/>
              <a:chExt cx="604440" cy="68040"/>
            </a:xfrm>
          </p:grpSpPr>
          <p:sp>
            <p:nvSpPr>
              <p:cNvPr id="1304" name=""/>
              <p:cNvSpPr/>
              <p:nvPr/>
            </p:nvSpPr>
            <p:spPr>
              <a:xfrm>
                <a:off x="1681560" y="5377680"/>
                <a:ext cx="599040" cy="68040"/>
              </a:xfrm>
              <a:prstGeom prst="cube">
                <a:avLst>
                  <a:gd name="adj" fmla="val 85481"/>
                </a:avLst>
              </a:prstGeom>
              <a:solidFill>
                <a:srgbClr val="b2b2b2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756800" y="5385600"/>
                <a:ext cx="481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35920" y="539892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723320" y="5411160"/>
                <a:ext cx="483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707840" y="542448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216160" y="538020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1" y="46"/>
                    </a:moveTo>
                    <a:lnTo>
                      <a:pt x="0" y="48"/>
                    </a:lnTo>
                    <a:lnTo>
                      <a:pt x="49" y="0"/>
                    </a:lnTo>
                    <a:lnTo>
                      <a:pt x="44" y="9"/>
                    </a:lnTo>
                    <a:lnTo>
                      <a:pt x="1" y="4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0" name=""/>
            <p:cNvSpPr/>
            <p:nvPr/>
          </p:nvSpPr>
          <p:spPr>
            <a:xfrm>
              <a:off x="1852200" y="4975560"/>
              <a:ext cx="350280" cy="2412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896840" y="4995720"/>
              <a:ext cx="257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160720" y="5002560"/>
              <a:ext cx="0" cy="181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882800" y="49957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75960" y="5190120"/>
              <a:ext cx="29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 rot="5400000">
              <a:off x="2131560" y="5049360"/>
              <a:ext cx="273240" cy="78120"/>
            </a:xfrm>
            <a:custGeom>
              <a:avLst/>
              <a:gdLst>
                <a:gd name="textAreaLeft" fmla="*/ 47160 w 273240"/>
                <a:gd name="textAreaRight" fmla="*/ 226080 w 273240"/>
                <a:gd name="textAreaTop" fmla="*/ 13320 h 78120"/>
                <a:gd name="textAreaBottom" fmla="*/ 64800 h 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39" y="21600"/>
                  </a:lnTo>
                  <a:lnTo>
                    <a:pt x="3561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834200" y="5232960"/>
              <a:ext cx="383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1073520" y="49150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N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7188120" y="5135400"/>
            <a:ext cx="598320" cy="352440"/>
            <a:chOff x="7188120" y="5135400"/>
            <a:chExt cx="598320" cy="352440"/>
          </a:xfrm>
        </p:grpSpPr>
        <p:sp>
          <p:nvSpPr>
            <p:cNvPr id="1319" name=""/>
            <p:cNvSpPr/>
            <p:nvPr/>
          </p:nvSpPr>
          <p:spPr>
            <a:xfrm>
              <a:off x="7191000" y="519732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94240" y="513540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7254720" y="5205240"/>
              <a:ext cx="195120" cy="100080"/>
              <a:chOff x="7254720" y="5205240"/>
              <a:chExt cx="195120" cy="100080"/>
            </a:xfrm>
          </p:grpSpPr>
          <p:sp>
            <p:nvSpPr>
              <p:cNvPr id="1322" name=""/>
              <p:cNvSpPr/>
              <p:nvPr/>
            </p:nvSpPr>
            <p:spPr>
              <a:xfrm>
                <a:off x="734652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54720" y="520524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254720" y="524484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316640" y="52671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22760" y="526716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422840" y="52225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7546680" y="5205240"/>
              <a:ext cx="182520" cy="100080"/>
              <a:chOff x="7546680" y="5205240"/>
              <a:chExt cx="182520" cy="100080"/>
            </a:xfrm>
          </p:grpSpPr>
          <p:sp>
            <p:nvSpPr>
              <p:cNvPr id="1329" name=""/>
              <p:cNvSpPr/>
              <p:nvPr/>
            </p:nvSpPr>
            <p:spPr>
              <a:xfrm>
                <a:off x="762768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7546680" y="5205240"/>
                <a:ext cx="182520" cy="100080"/>
                <a:chOff x="7546680" y="5205240"/>
                <a:chExt cx="182520" cy="10008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7546680" y="520524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667280" y="524484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656120" y="5267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7557840" y="526716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546680" y="522252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6" name=""/>
            <p:cNvGrpSpPr/>
            <p:nvPr/>
          </p:nvGrpSpPr>
          <p:grpSpPr>
            <a:xfrm>
              <a:off x="7435800" y="5151240"/>
              <a:ext cx="121680" cy="103320"/>
              <a:chOff x="7435800" y="5151240"/>
              <a:chExt cx="121680" cy="103320"/>
            </a:xfrm>
          </p:grpSpPr>
          <p:sp>
            <p:nvSpPr>
              <p:cNvPr id="1337" name=""/>
              <p:cNvSpPr/>
              <p:nvPr/>
            </p:nvSpPr>
            <p:spPr>
              <a:xfrm>
                <a:off x="753084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43580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435800" y="515124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440480" y="522756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7402320" y="5259240"/>
              <a:ext cx="176040" cy="152280"/>
              <a:chOff x="7402320" y="5259240"/>
              <a:chExt cx="176040" cy="152280"/>
            </a:xfrm>
          </p:grpSpPr>
          <p:sp>
            <p:nvSpPr>
              <p:cNvPr id="1342" name=""/>
              <p:cNvSpPr/>
              <p:nvPr/>
            </p:nvSpPr>
            <p:spPr>
              <a:xfrm>
                <a:off x="7402320" y="525924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40232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48944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5" name=""/>
            <p:cNvSpPr/>
            <p:nvPr/>
          </p:nvSpPr>
          <p:spPr>
            <a:xfrm>
              <a:off x="7786440" y="52783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188120" y="527364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7" name=""/>
          <p:cNvGraphicFramePr/>
          <p:nvPr/>
        </p:nvGraphicFramePr>
        <p:xfrm>
          <a:off x="5130720" y="4724280"/>
          <a:ext cx="457200" cy="79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30720" y="4724280"/>
                    <a:ext cx="4572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9" name=""/>
          <p:cNvGraphicFramePr/>
          <p:nvPr/>
        </p:nvGraphicFramePr>
        <p:xfrm>
          <a:off x="3432240" y="5065560"/>
          <a:ext cx="920520" cy="454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32240" y="5065560"/>
                    <a:ext cx="920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1" name="" descr=""/>
          <p:cNvPicPr/>
          <p:nvPr/>
        </p:nvPicPr>
        <p:blipFill>
          <a:blip r:embed="rId17"/>
          <a:stretch/>
        </p:blipFill>
        <p:spPr>
          <a:xfrm>
            <a:off x="2120760" y="431784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2" name=""/>
          <p:cNvGraphicFramePr/>
          <p:nvPr/>
        </p:nvGraphicFramePr>
        <p:xfrm>
          <a:off x="1555920" y="4319640"/>
          <a:ext cx="380880" cy="485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555920" y="431964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4" name=""/>
          <p:cNvSpPr/>
          <p:nvPr/>
        </p:nvSpPr>
        <p:spPr>
          <a:xfrm>
            <a:off x="1486080" y="4241880"/>
            <a:ext cx="10666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3615-E75C-441E-8F48-70621A5A9D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Configu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 flipV="1">
            <a:off x="5283360" y="3352680"/>
            <a:ext cx="20952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5803920" y="2908440"/>
            <a:ext cx="1574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 flipV="1">
            <a:off x="2641680" y="2984040"/>
            <a:ext cx="1396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041480" y="1359000"/>
            <a:ext cx="2349360" cy="1779120"/>
            <a:chOff x="1041480" y="1359000"/>
            <a:chExt cx="2349360" cy="1779120"/>
          </a:xfrm>
        </p:grpSpPr>
        <p:sp>
          <p:nvSpPr>
            <p:cNvPr id="1360" name=""/>
            <p:cNvSpPr/>
            <p:nvPr/>
          </p:nvSpPr>
          <p:spPr>
            <a:xfrm>
              <a:off x="2489040" y="23497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1041480" y="2349720"/>
              <a:ext cx="234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1346040" y="19688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226044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4" name=""/>
            <p:cNvGraphicFramePr/>
            <p:nvPr/>
          </p:nvGraphicFramePr>
          <p:xfrm>
            <a:off x="2031840" y="1359000"/>
            <a:ext cx="457200" cy="79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1840" y="135900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66" name=""/>
            <p:cNvGrpSpPr/>
            <p:nvPr/>
          </p:nvGrpSpPr>
          <p:grpSpPr>
            <a:xfrm>
              <a:off x="1041480" y="1739520"/>
              <a:ext cx="571320" cy="457560"/>
              <a:chOff x="1041480" y="1739520"/>
              <a:chExt cx="571320" cy="457560"/>
            </a:xfrm>
          </p:grpSpPr>
          <p:sp>
            <p:nvSpPr>
              <p:cNvPr id="1367" name=""/>
              <p:cNvSpPr/>
              <p:nvPr/>
            </p:nvSpPr>
            <p:spPr>
              <a:xfrm>
                <a:off x="1182600" y="1752480"/>
                <a:ext cx="279360" cy="20592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041480" y="2067120"/>
                <a:ext cx="57132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1147680" y="1957320"/>
                <a:ext cx="450000" cy="140040"/>
                <a:chOff x="1147680" y="1957320"/>
                <a:chExt cx="450000" cy="140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1476720" y="195732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147680" y="1957320"/>
                  <a:ext cx="447840" cy="54000"/>
                </a:xfrm>
                <a:prstGeom prst="parallelogram">
                  <a:avLst>
                    <a:gd name="adj" fmla="val 234671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147680" y="202140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3" name=""/>
                <p:cNvGrpSpPr/>
                <p:nvPr/>
              </p:nvGrpSpPr>
              <p:grpSpPr>
                <a:xfrm>
                  <a:off x="1357920" y="2041920"/>
                  <a:ext cx="91440" cy="25560"/>
                  <a:chOff x="1357920" y="2041920"/>
                  <a:chExt cx="91440" cy="2556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>
                    <a:off x="1357920" y="204192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1365840" y="205524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1395000" y="204840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7" name=""/>
                <p:cNvSpPr/>
                <p:nvPr/>
              </p:nvSpPr>
              <p:spPr>
                <a:xfrm>
                  <a:off x="1176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194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2117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2254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12423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12596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>
                <a:off x="1414800" y="196992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251720" y="19767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5" name=""/>
              <p:cNvGrpSpPr/>
              <p:nvPr/>
            </p:nvGrpSpPr>
            <p:grpSpPr>
              <a:xfrm>
                <a:off x="1045800" y="2098800"/>
                <a:ext cx="489600" cy="57600"/>
                <a:chOff x="1045800" y="2098800"/>
                <a:chExt cx="489600" cy="5760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1045800" y="2098800"/>
                  <a:ext cx="48528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1106640" y="210564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1089720" y="21168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1079640" y="2127240"/>
                  <a:ext cx="39132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067040" y="21384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478880" y="21009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2" name=""/>
              <p:cNvSpPr/>
              <p:nvPr/>
            </p:nvSpPr>
            <p:spPr>
              <a:xfrm>
                <a:off x="1183680" y="1759320"/>
                <a:ext cx="284040" cy="2034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220040" y="177660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433880" y="178200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208520" y="177660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203120" y="194040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 rot="5400000">
                <a:off x="1405800" y="182268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169280" y="19767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 flipV="1">
              <a:off x="309888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0" name=""/>
            <p:cNvGraphicFramePr/>
            <p:nvPr/>
          </p:nvGraphicFramePr>
          <p:xfrm>
            <a:off x="2874960" y="1663920"/>
            <a:ext cx="484200" cy="50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0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74960" y="1663920"/>
                      <a:ext cx="48420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02" name=""/>
            <p:cNvGrpSpPr/>
            <p:nvPr/>
          </p:nvGrpSpPr>
          <p:grpSpPr>
            <a:xfrm>
              <a:off x="2158920" y="2786400"/>
              <a:ext cx="598320" cy="351720"/>
              <a:chOff x="2158920" y="2786400"/>
              <a:chExt cx="598320" cy="351720"/>
            </a:xfrm>
          </p:grpSpPr>
          <p:sp>
            <p:nvSpPr>
              <p:cNvPr id="1403" name=""/>
              <p:cNvSpPr/>
              <p:nvPr/>
            </p:nvSpPr>
            <p:spPr>
              <a:xfrm>
                <a:off x="2161800" y="284796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165040" y="278640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5" name=""/>
              <p:cNvGrpSpPr/>
              <p:nvPr/>
            </p:nvGrpSpPr>
            <p:grpSpPr>
              <a:xfrm>
                <a:off x="2225520" y="2855880"/>
                <a:ext cx="195120" cy="99360"/>
                <a:chOff x="2225520" y="2855880"/>
                <a:chExt cx="195120" cy="993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231732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2225520" y="285588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225520" y="289512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287440" y="291744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293560" y="291744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393640" y="287280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2517480" y="2855880"/>
                <a:ext cx="182520" cy="99360"/>
                <a:chOff x="2517480" y="2855880"/>
                <a:chExt cx="182520" cy="9936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259848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4" name=""/>
                <p:cNvGrpSpPr/>
                <p:nvPr/>
              </p:nvGrpSpPr>
              <p:grpSpPr>
                <a:xfrm>
                  <a:off x="2517480" y="2855880"/>
                  <a:ext cx="182520" cy="99360"/>
                  <a:chOff x="2517480" y="2855880"/>
                  <a:chExt cx="182520" cy="99360"/>
                </a:xfrm>
              </p:grpSpPr>
              <p:sp>
                <p:nvSpPr>
                  <p:cNvPr id="1415" name=""/>
                  <p:cNvSpPr/>
                  <p:nvPr/>
                </p:nvSpPr>
                <p:spPr>
                  <a:xfrm>
                    <a:off x="2517480" y="285588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2638080" y="289512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2626920" y="291744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2528640" y="291744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2517480" y="287280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0" name=""/>
              <p:cNvGrpSpPr/>
              <p:nvPr/>
            </p:nvGrpSpPr>
            <p:grpSpPr>
              <a:xfrm>
                <a:off x="2406600" y="2801880"/>
                <a:ext cx="121680" cy="102600"/>
                <a:chOff x="2406600" y="2801880"/>
                <a:chExt cx="121680" cy="10260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250164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40660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406600" y="280188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411280" y="287784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2373120" y="2909880"/>
                <a:ext cx="176040" cy="152280"/>
                <a:chOff x="2373120" y="2909880"/>
                <a:chExt cx="176040" cy="15228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2373120" y="290988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37312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46024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>
                <a:off x="2757240" y="292896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158920" y="292428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6324120" y="1460520"/>
            <a:ext cx="2362680" cy="1639080"/>
            <a:chOff x="6324120" y="1460520"/>
            <a:chExt cx="2362680" cy="1639080"/>
          </a:xfrm>
        </p:grpSpPr>
        <p:pic>
          <p:nvPicPr>
            <p:cNvPr id="1432" name="" descr=""/>
            <p:cNvPicPr/>
            <p:nvPr/>
          </p:nvPicPr>
          <p:blipFill>
            <a:blip r:embed="rId6"/>
            <a:stretch/>
          </p:blipFill>
          <p:spPr>
            <a:xfrm>
              <a:off x="8001000" y="1688760"/>
              <a:ext cx="6858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"/>
            <p:cNvSpPr/>
            <p:nvPr/>
          </p:nvSpPr>
          <p:spPr>
            <a:xfrm flipH="1">
              <a:off x="6324120" y="2450880"/>
              <a:ext cx="234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629400" y="206964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754380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6" name=""/>
            <p:cNvGraphicFramePr/>
            <p:nvPr/>
          </p:nvGraphicFramePr>
          <p:xfrm>
            <a:off x="7315200" y="1460520"/>
            <a:ext cx="457200" cy="795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5200" y="146052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38" name=""/>
            <p:cNvGrpSpPr/>
            <p:nvPr/>
          </p:nvGrpSpPr>
          <p:grpSpPr>
            <a:xfrm>
              <a:off x="6324480" y="1840680"/>
              <a:ext cx="571680" cy="457560"/>
              <a:chOff x="6324480" y="1840680"/>
              <a:chExt cx="571680" cy="457560"/>
            </a:xfrm>
          </p:grpSpPr>
          <p:sp>
            <p:nvSpPr>
              <p:cNvPr id="1439" name=""/>
              <p:cNvSpPr/>
              <p:nvPr/>
            </p:nvSpPr>
            <p:spPr>
              <a:xfrm>
                <a:off x="6465960" y="1853640"/>
                <a:ext cx="279720" cy="205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324480" y="2168280"/>
                <a:ext cx="57168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1" name=""/>
              <p:cNvGrpSpPr/>
              <p:nvPr/>
            </p:nvGrpSpPr>
            <p:grpSpPr>
              <a:xfrm>
                <a:off x="6430680" y="2058480"/>
                <a:ext cx="450360" cy="140040"/>
                <a:chOff x="6430680" y="2058480"/>
                <a:chExt cx="450360" cy="14004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6760080" y="205848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430680" y="2058480"/>
                  <a:ext cx="448200" cy="54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430680" y="212256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5" name=""/>
                <p:cNvGrpSpPr/>
                <p:nvPr/>
              </p:nvGrpSpPr>
              <p:grpSpPr>
                <a:xfrm>
                  <a:off x="6641280" y="2143080"/>
                  <a:ext cx="91440" cy="25560"/>
                  <a:chOff x="6641280" y="2143080"/>
                  <a:chExt cx="91440" cy="25560"/>
                </a:xfrm>
              </p:grpSpPr>
              <p:sp>
                <p:nvSpPr>
                  <p:cNvPr id="1446" name=""/>
                  <p:cNvSpPr/>
                  <p:nvPr/>
                </p:nvSpPr>
                <p:spPr>
                  <a:xfrm>
                    <a:off x="6641280" y="214308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6649200" y="215640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6678360" y="214956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9" name=""/>
                <p:cNvSpPr/>
                <p:nvPr/>
              </p:nvSpPr>
              <p:spPr>
                <a:xfrm>
                  <a:off x="6460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478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4951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5084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5257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5426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6698160" y="207108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535080" y="20775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6328800" y="2199600"/>
                <a:ext cx="489960" cy="57600"/>
                <a:chOff x="6328800" y="2199600"/>
                <a:chExt cx="489960" cy="576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6328800" y="2199600"/>
                  <a:ext cx="48564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389640" y="2206440"/>
                  <a:ext cx="390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6372720" y="22176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362640" y="2228040"/>
                  <a:ext cx="3916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350040" y="22392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762240" y="22017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6467040" y="1860480"/>
                <a:ext cx="284040" cy="20340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503040" y="187776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717240" y="188316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491880" y="187776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486120" y="204156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 rot="5400000">
                <a:off x="6688800" y="192384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452280" y="20775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 flipV="1">
              <a:off x="838188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543800" y="245088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7162920" y="2747880"/>
              <a:ext cx="598320" cy="351720"/>
              <a:chOff x="7162920" y="2747880"/>
              <a:chExt cx="598320" cy="351720"/>
            </a:xfrm>
          </p:grpSpPr>
          <p:sp>
            <p:nvSpPr>
              <p:cNvPr id="1474" name=""/>
              <p:cNvSpPr/>
              <p:nvPr/>
            </p:nvSpPr>
            <p:spPr>
              <a:xfrm>
                <a:off x="7165800" y="280944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169040" y="274788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6" name=""/>
              <p:cNvGrpSpPr/>
              <p:nvPr/>
            </p:nvGrpSpPr>
            <p:grpSpPr>
              <a:xfrm>
                <a:off x="7229520" y="2817360"/>
                <a:ext cx="195120" cy="99360"/>
                <a:chOff x="7229520" y="2817360"/>
                <a:chExt cx="195120" cy="9936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732132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229520" y="281736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229520" y="285660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7291440" y="287892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7297560" y="287892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7397640" y="283428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3" name=""/>
              <p:cNvGrpSpPr/>
              <p:nvPr/>
            </p:nvGrpSpPr>
            <p:grpSpPr>
              <a:xfrm>
                <a:off x="7521480" y="2817360"/>
                <a:ext cx="182520" cy="99360"/>
                <a:chOff x="7521480" y="2817360"/>
                <a:chExt cx="182520" cy="9936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760248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7521480" y="2817360"/>
                  <a:ext cx="182520" cy="99360"/>
                  <a:chOff x="7521480" y="2817360"/>
                  <a:chExt cx="182520" cy="9936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7521480" y="281736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7642080" y="285660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7630920" y="287892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7532640" y="287892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7521480" y="283428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1" name=""/>
              <p:cNvGrpSpPr/>
              <p:nvPr/>
            </p:nvGrpSpPr>
            <p:grpSpPr>
              <a:xfrm>
                <a:off x="7410600" y="2763360"/>
                <a:ext cx="121680" cy="102600"/>
                <a:chOff x="7410600" y="2763360"/>
                <a:chExt cx="121680" cy="10260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750564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41060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410600" y="276336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415280" y="283932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377120" y="2871360"/>
                <a:ext cx="176040" cy="152280"/>
                <a:chOff x="7377120" y="2871360"/>
                <a:chExt cx="176040" cy="15228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377120" y="287136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37712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46424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0" name=""/>
              <p:cNvSpPr/>
              <p:nvPr/>
            </p:nvSpPr>
            <p:spPr>
              <a:xfrm>
                <a:off x="7761240" y="289044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162920" y="288576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02" name=""/>
          <p:cNvGraphicFramePr/>
          <p:nvPr/>
        </p:nvGraphicFramePr>
        <p:xfrm>
          <a:off x="3809880" y="2908440"/>
          <a:ext cx="2260800" cy="73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908440"/>
                    <a:ext cx="226080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4" name=""/>
          <p:cNvSpPr/>
          <p:nvPr/>
        </p:nvSpPr>
        <p:spPr>
          <a:xfrm flipV="1">
            <a:off x="7480440" y="55065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1536840" y="5811840"/>
            <a:ext cx="650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4672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87360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94040" y="5494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1676520" y="4952160"/>
            <a:ext cx="704880" cy="541800"/>
            <a:chOff x="1676520" y="4952160"/>
            <a:chExt cx="704880" cy="541800"/>
          </a:xfrm>
        </p:grpSpPr>
        <p:sp>
          <p:nvSpPr>
            <p:cNvPr id="1510" name=""/>
            <p:cNvSpPr/>
            <p:nvPr/>
          </p:nvSpPr>
          <p:spPr>
            <a:xfrm>
              <a:off x="1850760" y="4967640"/>
              <a:ext cx="344520" cy="24372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76520" y="5340240"/>
              <a:ext cx="704880" cy="153720"/>
            </a:xfrm>
            <a:custGeom>
              <a:avLst/>
              <a:gdLst/>
              <a:ahLst/>
              <a:rect l="l" t="t" r="r" b="b"/>
              <a:pathLst>
                <a:path w="505" h="115">
                  <a:moveTo>
                    <a:pt x="504" y="0"/>
                  </a:moveTo>
                  <a:lnTo>
                    <a:pt x="133" y="1"/>
                  </a:lnTo>
                  <a:lnTo>
                    <a:pt x="43" y="76"/>
                  </a:lnTo>
                  <a:lnTo>
                    <a:pt x="0" y="114"/>
                  </a:lnTo>
                  <a:lnTo>
                    <a:pt x="397" y="114"/>
                  </a:lnTo>
                  <a:lnTo>
                    <a:pt x="454" y="63"/>
                  </a:lnTo>
                  <a:lnTo>
                    <a:pt x="436" y="58"/>
                  </a:lnTo>
                  <a:lnTo>
                    <a:pt x="442" y="41"/>
                  </a:lnTo>
                  <a:lnTo>
                    <a:pt x="504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1807560" y="5209920"/>
              <a:ext cx="555480" cy="165960"/>
              <a:chOff x="1807560" y="5209920"/>
              <a:chExt cx="555480" cy="165960"/>
            </a:xfrm>
          </p:grpSpPr>
          <p:sp>
            <p:nvSpPr>
              <p:cNvPr id="1513" name=""/>
              <p:cNvSpPr/>
              <p:nvPr/>
            </p:nvSpPr>
            <p:spPr>
              <a:xfrm>
                <a:off x="2213640" y="5209920"/>
                <a:ext cx="149400" cy="165960"/>
              </a:xfrm>
              <a:custGeom>
                <a:avLst/>
                <a:gdLst/>
                <a:ahLst/>
                <a:rect l="l" t="t" r="r" b="b"/>
                <a:pathLst>
                  <a:path w="107" h="124">
                    <a:moveTo>
                      <a:pt x="106" y="0"/>
                    </a:moveTo>
                    <a:lnTo>
                      <a:pt x="0" y="52"/>
                    </a:lnTo>
                    <a:lnTo>
                      <a:pt x="0" y="123"/>
                    </a:lnTo>
                    <a:lnTo>
                      <a:pt x="106" y="57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07560" y="5209920"/>
                <a:ext cx="552600" cy="64080"/>
              </a:xfrm>
              <a:prstGeom prst="parallelogram">
                <a:avLst>
                  <a:gd name="adj" fmla="val 244016"/>
                </a:avLst>
              </a:prstGeom>
              <a:solidFill>
                <a:srgbClr val="b2b2b2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07560" y="5285880"/>
                <a:ext cx="398880" cy="88560"/>
              </a:xfrm>
              <a:prstGeom prst="rect">
                <a:avLst/>
              </a:prstGeom>
              <a:solidFill>
                <a:srgbClr val="c3c3c3"/>
              </a:solidFill>
              <a:ln w="12600">
                <a:solidFill>
                  <a:srgbClr val="c3c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6" name=""/>
              <p:cNvGrpSpPr/>
              <p:nvPr/>
            </p:nvGrpSpPr>
            <p:grpSpPr>
              <a:xfrm>
                <a:off x="2067120" y="5310360"/>
                <a:ext cx="112680" cy="30600"/>
                <a:chOff x="2067120" y="5310360"/>
                <a:chExt cx="112680" cy="30600"/>
              </a:xfrm>
            </p:grpSpPr>
            <p:sp>
              <p:nvSpPr>
                <p:cNvPr id="1517" name=""/>
                <p:cNvSpPr/>
                <p:nvPr/>
              </p:nvSpPr>
              <p:spPr>
                <a:xfrm>
                  <a:off x="2067120" y="5310360"/>
                  <a:ext cx="112680" cy="30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2076840" y="5326200"/>
                  <a:ext cx="90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2113200" y="5317920"/>
                  <a:ext cx="23400" cy="118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0" name=""/>
              <p:cNvSpPr/>
              <p:nvPr/>
            </p:nvSpPr>
            <p:spPr>
              <a:xfrm>
                <a:off x="184392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8658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867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9036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9245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94580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>
              <a:off x="2136960" y="5225040"/>
              <a:ext cx="87840" cy="38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1" y="28"/>
                  </a:moveTo>
                  <a:lnTo>
                    <a:pt x="62" y="0"/>
                  </a:lnTo>
                  <a:lnTo>
                    <a:pt x="0" y="8"/>
                  </a:lnTo>
                  <a:lnTo>
                    <a:pt x="1" y="2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36080" y="5232960"/>
              <a:ext cx="194040" cy="3204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3"/>
                  </a:moveTo>
                  <a:lnTo>
                    <a:pt x="138" y="23"/>
                  </a:lnTo>
                  <a:lnTo>
                    <a:pt x="137" y="0"/>
                  </a:lnTo>
                  <a:lnTo>
                    <a:pt x="0" y="1"/>
                  </a:lnTo>
                  <a:lnTo>
                    <a:pt x="0" y="23"/>
                  </a:lnTo>
                </a:path>
              </a:pathLst>
            </a:custGeom>
            <a:solidFill>
              <a:srgbClr val="bcbcbc"/>
            </a:solidFill>
            <a:ln cap="rnd" w="1260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1681560" y="5377680"/>
              <a:ext cx="604440" cy="68040"/>
              <a:chOff x="1681560" y="5377680"/>
              <a:chExt cx="604440" cy="68040"/>
            </a:xfrm>
          </p:grpSpPr>
          <p:sp>
            <p:nvSpPr>
              <p:cNvPr id="1529" name=""/>
              <p:cNvSpPr/>
              <p:nvPr/>
            </p:nvSpPr>
            <p:spPr>
              <a:xfrm>
                <a:off x="1681560" y="5377680"/>
                <a:ext cx="599040" cy="68040"/>
              </a:xfrm>
              <a:prstGeom prst="cube">
                <a:avLst>
                  <a:gd name="adj" fmla="val 85481"/>
                </a:avLst>
              </a:prstGeom>
              <a:solidFill>
                <a:srgbClr val="b2b2b2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56800" y="5385600"/>
                <a:ext cx="481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920" y="539892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23320" y="5411160"/>
                <a:ext cx="483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07840" y="542448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216160" y="538020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1" y="46"/>
                    </a:moveTo>
                    <a:lnTo>
                      <a:pt x="0" y="48"/>
                    </a:lnTo>
                    <a:lnTo>
                      <a:pt x="49" y="0"/>
                    </a:lnTo>
                    <a:lnTo>
                      <a:pt x="44" y="9"/>
                    </a:lnTo>
                    <a:lnTo>
                      <a:pt x="1" y="4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1852200" y="4975560"/>
              <a:ext cx="350280" cy="2412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896840" y="4995720"/>
              <a:ext cx="257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160720" y="5002560"/>
              <a:ext cx="0" cy="181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82800" y="49957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75960" y="5190120"/>
              <a:ext cx="29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 rot="5400000">
              <a:off x="2131560" y="5049360"/>
              <a:ext cx="273240" cy="78120"/>
            </a:xfrm>
            <a:custGeom>
              <a:avLst/>
              <a:gdLst>
                <a:gd name="textAreaLeft" fmla="*/ 47160 w 273240"/>
                <a:gd name="textAreaRight" fmla="*/ 226080 w 273240"/>
                <a:gd name="textAreaTop" fmla="*/ 13320 h 78120"/>
                <a:gd name="textAreaBottom" fmla="*/ 64800 h 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39" y="21600"/>
                  </a:lnTo>
                  <a:lnTo>
                    <a:pt x="3561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834200" y="5232960"/>
              <a:ext cx="383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"/>
          <p:cNvSpPr/>
          <p:nvPr/>
        </p:nvSpPr>
        <p:spPr>
          <a:xfrm>
            <a:off x="1073520" y="49150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N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7188120" y="5135400"/>
            <a:ext cx="598320" cy="352440"/>
            <a:chOff x="7188120" y="5135400"/>
            <a:chExt cx="598320" cy="352440"/>
          </a:xfrm>
        </p:grpSpPr>
        <p:sp>
          <p:nvSpPr>
            <p:cNvPr id="1544" name=""/>
            <p:cNvSpPr/>
            <p:nvPr/>
          </p:nvSpPr>
          <p:spPr>
            <a:xfrm>
              <a:off x="7191000" y="519732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194240" y="513540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7254720" y="5205240"/>
              <a:ext cx="195120" cy="100080"/>
              <a:chOff x="7254720" y="5205240"/>
              <a:chExt cx="195120" cy="100080"/>
            </a:xfrm>
          </p:grpSpPr>
          <p:sp>
            <p:nvSpPr>
              <p:cNvPr id="1547" name=""/>
              <p:cNvSpPr/>
              <p:nvPr/>
            </p:nvSpPr>
            <p:spPr>
              <a:xfrm>
                <a:off x="734652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254720" y="520524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254720" y="524484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316640" y="52671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322760" y="526716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422840" y="52225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7546680" y="5205240"/>
              <a:ext cx="182520" cy="100080"/>
              <a:chOff x="7546680" y="5205240"/>
              <a:chExt cx="182520" cy="100080"/>
            </a:xfrm>
          </p:grpSpPr>
          <p:sp>
            <p:nvSpPr>
              <p:cNvPr id="1554" name=""/>
              <p:cNvSpPr/>
              <p:nvPr/>
            </p:nvSpPr>
            <p:spPr>
              <a:xfrm>
                <a:off x="762768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5" name=""/>
              <p:cNvGrpSpPr/>
              <p:nvPr/>
            </p:nvGrpSpPr>
            <p:grpSpPr>
              <a:xfrm>
                <a:off x="7546680" y="5205240"/>
                <a:ext cx="182520" cy="100080"/>
                <a:chOff x="7546680" y="5205240"/>
                <a:chExt cx="182520" cy="10008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7546680" y="520524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7667280" y="524484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7656120" y="5267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7557840" y="526716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546680" y="522252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1" name=""/>
            <p:cNvGrpSpPr/>
            <p:nvPr/>
          </p:nvGrpSpPr>
          <p:grpSpPr>
            <a:xfrm>
              <a:off x="7435800" y="5151240"/>
              <a:ext cx="121680" cy="103320"/>
              <a:chOff x="7435800" y="5151240"/>
              <a:chExt cx="121680" cy="103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753084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43580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435800" y="515124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440480" y="522756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7402320" y="5259240"/>
              <a:ext cx="176040" cy="152280"/>
              <a:chOff x="7402320" y="5259240"/>
              <a:chExt cx="176040" cy="152280"/>
            </a:xfrm>
          </p:grpSpPr>
          <p:sp>
            <p:nvSpPr>
              <p:cNvPr id="1567" name=""/>
              <p:cNvSpPr/>
              <p:nvPr/>
            </p:nvSpPr>
            <p:spPr>
              <a:xfrm>
                <a:off x="7402320" y="525924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40232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8944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7786440" y="52783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188120" y="527364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2" name=""/>
          <p:cNvGraphicFramePr/>
          <p:nvPr/>
        </p:nvGraphicFramePr>
        <p:xfrm>
          <a:off x="5130720" y="4724280"/>
          <a:ext cx="457200" cy="79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30720" y="4724280"/>
                    <a:ext cx="4572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4" name=""/>
          <p:cNvGraphicFramePr/>
          <p:nvPr/>
        </p:nvGraphicFramePr>
        <p:xfrm>
          <a:off x="3432240" y="5065560"/>
          <a:ext cx="920520" cy="454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32240" y="5065560"/>
                    <a:ext cx="920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6" name=""/>
          <p:cNvGraphicFramePr/>
          <p:nvPr/>
        </p:nvGraphicFramePr>
        <p:xfrm>
          <a:off x="1530360" y="4281480"/>
          <a:ext cx="406440" cy="51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30360" y="4281480"/>
                    <a:ext cx="4064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8" name=""/>
          <p:cNvSpPr/>
          <p:nvPr/>
        </p:nvSpPr>
        <p:spPr>
          <a:xfrm>
            <a:off x="1486080" y="4241880"/>
            <a:ext cx="10666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9" name="" descr=""/>
          <p:cNvPicPr/>
          <p:nvPr/>
        </p:nvPicPr>
        <p:blipFill>
          <a:blip r:embed="rId19"/>
          <a:stretch/>
        </p:blipFill>
        <p:spPr>
          <a:xfrm>
            <a:off x="2108160" y="4330800"/>
            <a:ext cx="304920" cy="30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6ED0-19E8-4D5B-AE09-804A980A86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rend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 flipV="1">
            <a:off x="5283360" y="3352680"/>
            <a:ext cx="20952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5803920" y="2908440"/>
            <a:ext cx="1574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 flipV="1">
            <a:off x="2641680" y="2984040"/>
            <a:ext cx="1396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041480" y="1359000"/>
            <a:ext cx="2349360" cy="1779120"/>
            <a:chOff x="1041480" y="1359000"/>
            <a:chExt cx="2349360" cy="1779120"/>
          </a:xfrm>
        </p:grpSpPr>
        <p:sp>
          <p:nvSpPr>
            <p:cNvPr id="1585" name=""/>
            <p:cNvSpPr/>
            <p:nvPr/>
          </p:nvSpPr>
          <p:spPr>
            <a:xfrm>
              <a:off x="2489040" y="23497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1041480" y="2349720"/>
              <a:ext cx="234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1346040" y="19688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226044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9" name=""/>
            <p:cNvGraphicFramePr/>
            <p:nvPr/>
          </p:nvGraphicFramePr>
          <p:xfrm>
            <a:off x="2031840" y="1359000"/>
            <a:ext cx="457200" cy="79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1840" y="135900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1" name=""/>
            <p:cNvGrpSpPr/>
            <p:nvPr/>
          </p:nvGrpSpPr>
          <p:grpSpPr>
            <a:xfrm>
              <a:off x="1041480" y="1739520"/>
              <a:ext cx="571320" cy="457560"/>
              <a:chOff x="1041480" y="1739520"/>
              <a:chExt cx="571320" cy="457560"/>
            </a:xfrm>
          </p:grpSpPr>
          <p:sp>
            <p:nvSpPr>
              <p:cNvPr id="1592" name=""/>
              <p:cNvSpPr/>
              <p:nvPr/>
            </p:nvSpPr>
            <p:spPr>
              <a:xfrm>
                <a:off x="1182600" y="1752480"/>
                <a:ext cx="279360" cy="20592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041480" y="2067120"/>
                <a:ext cx="57132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1147680" y="1957320"/>
                <a:ext cx="450000" cy="140040"/>
                <a:chOff x="1147680" y="1957320"/>
                <a:chExt cx="450000" cy="14004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1476720" y="195732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1147680" y="1957320"/>
                  <a:ext cx="447840" cy="54000"/>
                </a:xfrm>
                <a:prstGeom prst="parallelogram">
                  <a:avLst>
                    <a:gd name="adj" fmla="val 234671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1147680" y="202140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8" name=""/>
                <p:cNvGrpSpPr/>
                <p:nvPr/>
              </p:nvGrpSpPr>
              <p:grpSpPr>
                <a:xfrm>
                  <a:off x="1357920" y="2041920"/>
                  <a:ext cx="91440" cy="25560"/>
                  <a:chOff x="1357920" y="2041920"/>
                  <a:chExt cx="91440" cy="2556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1357920" y="204192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1365840" y="205524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1395000" y="204840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2" name=""/>
                <p:cNvSpPr/>
                <p:nvPr/>
              </p:nvSpPr>
              <p:spPr>
                <a:xfrm>
                  <a:off x="1176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1948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12117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2254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124236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1259640" y="203400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8" name=""/>
              <p:cNvSpPr/>
              <p:nvPr/>
            </p:nvSpPr>
            <p:spPr>
              <a:xfrm>
                <a:off x="1414800" y="196992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51720" y="19767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1045800" y="2098800"/>
                <a:ext cx="489600" cy="57600"/>
                <a:chOff x="1045800" y="2098800"/>
                <a:chExt cx="489600" cy="5760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1045800" y="2098800"/>
                  <a:ext cx="48528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1106640" y="210564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1089720" y="21168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1079640" y="2127240"/>
                  <a:ext cx="39132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1067040" y="21384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1478880" y="21009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7" name=""/>
              <p:cNvSpPr/>
              <p:nvPr/>
            </p:nvSpPr>
            <p:spPr>
              <a:xfrm>
                <a:off x="1183680" y="1759320"/>
                <a:ext cx="284040" cy="2034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220040" y="177660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33880" y="178200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208520" y="177660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203120" y="194040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 rot="5400000">
                <a:off x="1405800" y="182268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169280" y="19767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 flipV="1">
              <a:off x="3098880" y="2044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5" name=""/>
            <p:cNvGraphicFramePr/>
            <p:nvPr/>
          </p:nvGraphicFramePr>
          <p:xfrm>
            <a:off x="2874960" y="1663920"/>
            <a:ext cx="484200" cy="50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74960" y="1663920"/>
                      <a:ext cx="48420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27" name=""/>
            <p:cNvGrpSpPr/>
            <p:nvPr/>
          </p:nvGrpSpPr>
          <p:grpSpPr>
            <a:xfrm>
              <a:off x="2158920" y="2786400"/>
              <a:ext cx="598320" cy="351720"/>
              <a:chOff x="2158920" y="2786400"/>
              <a:chExt cx="598320" cy="351720"/>
            </a:xfrm>
          </p:grpSpPr>
          <p:sp>
            <p:nvSpPr>
              <p:cNvPr id="1628" name=""/>
              <p:cNvSpPr/>
              <p:nvPr/>
            </p:nvSpPr>
            <p:spPr>
              <a:xfrm>
                <a:off x="2161800" y="284796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165040" y="278640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0" name=""/>
              <p:cNvGrpSpPr/>
              <p:nvPr/>
            </p:nvGrpSpPr>
            <p:grpSpPr>
              <a:xfrm>
                <a:off x="2225520" y="2855880"/>
                <a:ext cx="195120" cy="99360"/>
                <a:chOff x="2225520" y="2855880"/>
                <a:chExt cx="195120" cy="993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231732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2225520" y="285588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2225520" y="289512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287440" y="291744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2293560" y="291744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393640" y="287280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2517480" y="2855880"/>
                <a:ext cx="182520" cy="99360"/>
                <a:chOff x="2517480" y="2855880"/>
                <a:chExt cx="182520" cy="9936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2598480" y="28558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9" name=""/>
                <p:cNvGrpSpPr/>
                <p:nvPr/>
              </p:nvGrpSpPr>
              <p:grpSpPr>
                <a:xfrm>
                  <a:off x="2517480" y="2855880"/>
                  <a:ext cx="182520" cy="99360"/>
                  <a:chOff x="2517480" y="2855880"/>
                  <a:chExt cx="182520" cy="993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2517480" y="285588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2638080" y="289512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2626920" y="291744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2528640" y="291744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2517480" y="287280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5" name=""/>
              <p:cNvGrpSpPr/>
              <p:nvPr/>
            </p:nvGrpSpPr>
            <p:grpSpPr>
              <a:xfrm>
                <a:off x="2406600" y="2801880"/>
                <a:ext cx="121680" cy="102600"/>
                <a:chOff x="2406600" y="2801880"/>
                <a:chExt cx="121680" cy="10260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250164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2406600" y="282528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406600" y="280188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2411280" y="287784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2373120" y="2909880"/>
                <a:ext cx="176040" cy="152280"/>
                <a:chOff x="2373120" y="2909880"/>
                <a:chExt cx="176040" cy="15228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2373120" y="290988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237312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2460240" y="29779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4" name=""/>
              <p:cNvSpPr/>
              <p:nvPr/>
            </p:nvSpPr>
            <p:spPr>
              <a:xfrm>
                <a:off x="2757240" y="292896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158920" y="292428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6" name=""/>
          <p:cNvGrpSpPr/>
          <p:nvPr/>
        </p:nvGrpSpPr>
        <p:grpSpPr>
          <a:xfrm>
            <a:off x="6324120" y="1460520"/>
            <a:ext cx="2362680" cy="1639080"/>
            <a:chOff x="6324120" y="1460520"/>
            <a:chExt cx="2362680" cy="1639080"/>
          </a:xfrm>
        </p:grpSpPr>
        <p:pic>
          <p:nvPicPr>
            <p:cNvPr id="1657" name="" descr=""/>
            <p:cNvPicPr/>
            <p:nvPr/>
          </p:nvPicPr>
          <p:blipFill>
            <a:blip r:embed="rId6"/>
            <a:stretch/>
          </p:blipFill>
          <p:spPr>
            <a:xfrm>
              <a:off x="8001000" y="1688760"/>
              <a:ext cx="6858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>
              <a:off x="6324120" y="2450880"/>
              <a:ext cx="234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6629400" y="206964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754380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1" name=""/>
            <p:cNvGraphicFramePr/>
            <p:nvPr/>
          </p:nvGraphicFramePr>
          <p:xfrm>
            <a:off x="7315200" y="1460520"/>
            <a:ext cx="457200" cy="795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5200" y="1460520"/>
                      <a:ext cx="45720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3" name=""/>
            <p:cNvGrpSpPr/>
            <p:nvPr/>
          </p:nvGrpSpPr>
          <p:grpSpPr>
            <a:xfrm>
              <a:off x="6324480" y="1840680"/>
              <a:ext cx="571680" cy="457560"/>
              <a:chOff x="6324480" y="1840680"/>
              <a:chExt cx="571680" cy="457560"/>
            </a:xfrm>
          </p:grpSpPr>
          <p:sp>
            <p:nvSpPr>
              <p:cNvPr id="1664" name=""/>
              <p:cNvSpPr/>
              <p:nvPr/>
            </p:nvSpPr>
            <p:spPr>
              <a:xfrm>
                <a:off x="6465960" y="1853640"/>
                <a:ext cx="279720" cy="205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324480" y="2168280"/>
                <a:ext cx="571680" cy="129960"/>
              </a:xfrm>
              <a:custGeom>
                <a:avLst/>
                <a:gdLst/>
                <a:ahLst/>
                <a:rect l="l" t="t" r="r" b="b"/>
                <a:pathLst>
                  <a:path w="505" h="115">
                    <a:moveTo>
                      <a:pt x="504" y="0"/>
                    </a:moveTo>
                    <a:lnTo>
                      <a:pt x="133" y="1"/>
                    </a:lnTo>
                    <a:lnTo>
                      <a:pt x="43" y="76"/>
                    </a:lnTo>
                    <a:lnTo>
                      <a:pt x="0" y="114"/>
                    </a:lnTo>
                    <a:lnTo>
                      <a:pt x="397" y="114"/>
                    </a:lnTo>
                    <a:lnTo>
                      <a:pt x="454" y="63"/>
                    </a:lnTo>
                    <a:lnTo>
                      <a:pt x="436" y="58"/>
                    </a:lnTo>
                    <a:lnTo>
                      <a:pt x="442" y="41"/>
                    </a:lnTo>
                    <a:lnTo>
                      <a:pt x="504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6" name=""/>
              <p:cNvGrpSpPr/>
              <p:nvPr/>
            </p:nvGrpSpPr>
            <p:grpSpPr>
              <a:xfrm>
                <a:off x="6430680" y="2058480"/>
                <a:ext cx="450360" cy="140040"/>
                <a:chOff x="6430680" y="2058480"/>
                <a:chExt cx="450360" cy="140040"/>
              </a:xfrm>
            </p:grpSpPr>
            <p:sp>
              <p:nvSpPr>
                <p:cNvPr id="1667" name=""/>
                <p:cNvSpPr/>
                <p:nvPr/>
              </p:nvSpPr>
              <p:spPr>
                <a:xfrm>
                  <a:off x="6760080" y="2058480"/>
                  <a:ext cx="120960" cy="14004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106" y="0"/>
                      </a:moveTo>
                      <a:lnTo>
                        <a:pt x="0" y="52"/>
                      </a:lnTo>
                      <a:lnTo>
                        <a:pt x="0" y="123"/>
                      </a:lnTo>
                      <a:lnTo>
                        <a:pt x="106" y="57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6430680" y="2058480"/>
                  <a:ext cx="448200" cy="54000"/>
                </a:xfrm>
                <a:prstGeom prst="parallelogram">
                  <a:avLst>
                    <a:gd name="adj" fmla="val 234859"/>
                  </a:avLst>
                </a:prstGeom>
                <a:solidFill>
                  <a:srgbClr val="b2b2b2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430680" y="2122560"/>
                  <a:ext cx="323640" cy="74520"/>
                </a:xfrm>
                <a:prstGeom prst="rect">
                  <a:avLst/>
                </a:prstGeom>
                <a:solidFill>
                  <a:srgbClr val="c3c3c3"/>
                </a:solidFill>
                <a:ln w="12600">
                  <a:solidFill>
                    <a:srgbClr val="c3c3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6641280" y="2143080"/>
                  <a:ext cx="91440" cy="25560"/>
                  <a:chOff x="6641280" y="2143080"/>
                  <a:chExt cx="91440" cy="2556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6641280" y="2143080"/>
                    <a:ext cx="91440" cy="25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6649200" y="2156400"/>
                    <a:ext cx="73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6678360" y="2149560"/>
                    <a:ext cx="19080" cy="10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4" name=""/>
                <p:cNvSpPr/>
                <p:nvPr/>
              </p:nvSpPr>
              <p:spPr>
                <a:xfrm>
                  <a:off x="6460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47820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64951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65084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652572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542640" y="213516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0" name=""/>
              <p:cNvSpPr/>
              <p:nvPr/>
            </p:nvSpPr>
            <p:spPr>
              <a:xfrm>
                <a:off x="6698160" y="2071080"/>
                <a:ext cx="71280" cy="3276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" y="28"/>
                    </a:moveTo>
                    <a:lnTo>
                      <a:pt x="62" y="0"/>
                    </a:lnTo>
                    <a:lnTo>
                      <a:pt x="0" y="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535080" y="20775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3"/>
                    </a:moveTo>
                    <a:lnTo>
                      <a:pt x="138" y="23"/>
                    </a:lnTo>
                    <a:lnTo>
                      <a:pt x="137" y="0"/>
                    </a:lnTo>
                    <a:lnTo>
                      <a:pt x="0" y="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bcbcbc"/>
              </a:solidFill>
              <a:ln cap="rnd" w="1260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2" name=""/>
              <p:cNvGrpSpPr/>
              <p:nvPr/>
            </p:nvGrpSpPr>
            <p:grpSpPr>
              <a:xfrm>
                <a:off x="6328800" y="2199600"/>
                <a:ext cx="489960" cy="57600"/>
                <a:chOff x="6328800" y="2199600"/>
                <a:chExt cx="489960" cy="5760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328800" y="2199600"/>
                  <a:ext cx="485640" cy="57600"/>
                </a:xfrm>
                <a:prstGeom prst="cube">
                  <a:avLst>
                    <a:gd name="adj" fmla="val 85481"/>
                  </a:avLst>
                </a:prstGeom>
                <a:solidFill>
                  <a:srgbClr val="b2b2b2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389640" y="2206440"/>
                  <a:ext cx="390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6372720" y="22176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6362640" y="2228040"/>
                  <a:ext cx="3916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6350040" y="2239200"/>
                  <a:ext cx="3902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6762240" y="2201760"/>
                  <a:ext cx="56520" cy="5508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1" y="46"/>
                      </a:moveTo>
                      <a:lnTo>
                        <a:pt x="0" y="48"/>
                      </a:lnTo>
                      <a:lnTo>
                        <a:pt x="49" y="0"/>
                      </a:lnTo>
                      <a:lnTo>
                        <a:pt x="44" y="9"/>
                      </a:lnTo>
                      <a:lnTo>
                        <a:pt x="1" y="46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9" name=""/>
              <p:cNvSpPr/>
              <p:nvPr/>
            </p:nvSpPr>
            <p:spPr>
              <a:xfrm>
                <a:off x="6467040" y="1860480"/>
                <a:ext cx="284040" cy="20340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503040" y="1877760"/>
                <a:ext cx="2084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717240" y="1883160"/>
                <a:ext cx="0" cy="15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491880" y="187776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486120" y="2041560"/>
                <a:ext cx="240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 rot="5400000">
                <a:off x="6688800" y="1923840"/>
                <a:ext cx="230760" cy="63360"/>
              </a:xfrm>
              <a:custGeom>
                <a:avLst/>
                <a:gdLst>
                  <a:gd name="textAreaLeft" fmla="*/ 39600 w 230760"/>
                  <a:gd name="textAreaRight" fmla="*/ 191160 w 230760"/>
                  <a:gd name="textAreaTop" fmla="*/ 10800 h 63360"/>
                  <a:gd name="textAreaBottom" fmla="*/ 5256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39" y="21600"/>
                    </a:lnTo>
                    <a:lnTo>
                      <a:pt x="356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452280" y="2077560"/>
                <a:ext cx="3110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6" name=""/>
            <p:cNvSpPr/>
            <p:nvPr/>
          </p:nvSpPr>
          <p:spPr>
            <a:xfrm flipV="1">
              <a:off x="8381880" y="21459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543800" y="2450880"/>
              <a:ext cx="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7162920" y="2747880"/>
              <a:ext cx="598320" cy="351720"/>
              <a:chOff x="7162920" y="2747880"/>
              <a:chExt cx="598320" cy="351720"/>
            </a:xfrm>
          </p:grpSpPr>
          <p:sp>
            <p:nvSpPr>
              <p:cNvPr id="1699" name=""/>
              <p:cNvSpPr/>
              <p:nvPr/>
            </p:nvSpPr>
            <p:spPr>
              <a:xfrm>
                <a:off x="7165800" y="2809440"/>
                <a:ext cx="590760" cy="29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169040" y="2747880"/>
                <a:ext cx="584280" cy="285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7229520" y="2817360"/>
                <a:ext cx="195120" cy="99360"/>
                <a:chOff x="7229520" y="2817360"/>
                <a:chExt cx="195120" cy="9936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732132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6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7229520" y="2817360"/>
                  <a:ext cx="180720" cy="788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63" y="0"/>
                      </a:moveTo>
                      <a:lnTo>
                        <a:pt x="0" y="25"/>
                      </a:lnTo>
                      <a:lnTo>
                        <a:pt x="38" y="49"/>
                      </a:lnTo>
                      <a:lnTo>
                        <a:pt x="43" y="38"/>
                      </a:lnTo>
                      <a:lnTo>
                        <a:pt x="107" y="38"/>
                      </a:lnTo>
                      <a:lnTo>
                        <a:pt x="113" y="11"/>
                      </a:lnTo>
                      <a:lnTo>
                        <a:pt x="58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7229520" y="2856600"/>
                  <a:ext cx="63360" cy="6012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0" y="0"/>
                      </a:moveTo>
                      <a:lnTo>
                        <a:pt x="39" y="26"/>
                      </a:lnTo>
                      <a:lnTo>
                        <a:pt x="39" y="37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291440" y="287892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16" y="12"/>
                      </a:lnTo>
                      <a:lnTo>
                        <a:pt x="0" y="2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297560" y="2878920"/>
                  <a:ext cx="101880" cy="26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397640" y="2834280"/>
                  <a:ext cx="27000" cy="6156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16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7521480" y="2817360"/>
                <a:ext cx="182520" cy="99360"/>
                <a:chOff x="7521480" y="2817360"/>
                <a:chExt cx="182520" cy="9936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7602480" y="28173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16" y="2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0" name=""/>
                <p:cNvGrpSpPr/>
                <p:nvPr/>
              </p:nvGrpSpPr>
              <p:grpSpPr>
                <a:xfrm>
                  <a:off x="7521480" y="2817360"/>
                  <a:ext cx="182520" cy="99360"/>
                  <a:chOff x="7521480" y="2817360"/>
                  <a:chExt cx="182520" cy="99360"/>
                </a:xfrm>
              </p:grpSpPr>
              <p:sp>
                <p:nvSpPr>
                  <p:cNvPr id="1711" name=""/>
                  <p:cNvSpPr/>
                  <p:nvPr/>
                </p:nvSpPr>
                <p:spPr>
                  <a:xfrm>
                    <a:off x="7521480" y="2817360"/>
                    <a:ext cx="1825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0">
                        <a:moveTo>
                          <a:pt x="50" y="0"/>
                        </a:moveTo>
                        <a:lnTo>
                          <a:pt x="114" y="25"/>
                        </a:lnTo>
                        <a:lnTo>
                          <a:pt x="75" y="49"/>
                        </a:lnTo>
                        <a:lnTo>
                          <a:pt x="70" y="38"/>
                        </a:lnTo>
                        <a:lnTo>
                          <a:pt x="7" y="38"/>
                        </a:lnTo>
                        <a:lnTo>
                          <a:pt x="0" y="11"/>
                        </a:lnTo>
                        <a:lnTo>
                          <a:pt x="55" y="11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7642080" y="2856600"/>
                    <a:ext cx="61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8" y="0"/>
                        </a:moveTo>
                        <a:lnTo>
                          <a:pt x="0" y="26"/>
                        </a:lnTo>
                        <a:lnTo>
                          <a:pt x="0" y="37"/>
                        </a:lnTo>
                        <a:lnTo>
                          <a:pt x="38" y="11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7630920" y="2878920"/>
                    <a:ext cx="270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6" y="12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6" y="23"/>
                        </a:lnTo>
                        <a:lnTo>
                          <a:pt x="16" y="12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7532640" y="2878920"/>
                    <a:ext cx="100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7">
                        <a:moveTo>
                          <a:pt x="62" y="1"/>
                        </a:moveTo>
                        <a:lnTo>
                          <a:pt x="6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62" y="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7521480" y="283428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0"/>
                        </a:moveTo>
                        <a:lnTo>
                          <a:pt x="16" y="27"/>
                        </a:lnTo>
                        <a:lnTo>
                          <a:pt x="16" y="38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16" name=""/>
              <p:cNvGrpSpPr/>
              <p:nvPr/>
            </p:nvGrpSpPr>
            <p:grpSpPr>
              <a:xfrm>
                <a:off x="7410600" y="2763360"/>
                <a:ext cx="121680" cy="102600"/>
                <a:chOff x="7410600" y="2763360"/>
                <a:chExt cx="121680" cy="10260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750564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7410600" y="27867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410600" y="2763360"/>
                  <a:ext cx="112320" cy="77400"/>
                </a:xfrm>
                <a:custGeom>
                  <a:avLst/>
                  <a:gdLst/>
                  <a:ahLst/>
                  <a:rect l="l" t="t" r="r" b="b"/>
                  <a:pathLst>
                    <a:path w="71" h="49">
                      <a:moveTo>
                        <a:pt x="35" y="0"/>
                      </a:move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3" y="48"/>
                      </a:lnTo>
                      <a:lnTo>
                        <a:pt x="67" y="48"/>
                      </a:lnTo>
                      <a:lnTo>
                        <a:pt x="60" y="15"/>
                      </a:lnTo>
                      <a:lnTo>
                        <a:pt x="70" y="15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415280" y="2839320"/>
                  <a:ext cx="9936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7377120" y="2871360"/>
                <a:ext cx="176040" cy="152280"/>
                <a:chOff x="7377120" y="2871360"/>
                <a:chExt cx="176040" cy="152280"/>
              </a:xfrm>
            </p:grpSpPr>
            <p:sp>
              <p:nvSpPr>
                <p:cNvPr id="1722" name=""/>
                <p:cNvSpPr/>
                <p:nvPr/>
              </p:nvSpPr>
              <p:spPr>
                <a:xfrm>
                  <a:off x="7377120" y="2871360"/>
                  <a:ext cx="176040" cy="12852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23" y="0"/>
                      </a:moveTo>
                      <a:lnTo>
                        <a:pt x="87" y="0"/>
                      </a:lnTo>
                      <a:lnTo>
                        <a:pt x="93" y="44"/>
                      </a:lnTo>
                      <a:lnTo>
                        <a:pt x="110" y="44"/>
                      </a:lnTo>
                      <a:lnTo>
                        <a:pt x="55" y="80"/>
                      </a:lnTo>
                      <a:lnTo>
                        <a:pt x="0" y="44"/>
                      </a:lnTo>
                      <a:lnTo>
                        <a:pt x="17" y="4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37712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0"/>
                      </a:moveTo>
                      <a:lnTo>
                        <a:pt x="55" y="37"/>
                      </a:lnTo>
                      <a:lnTo>
                        <a:pt x="55" y="52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464240" y="29394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0" y="37"/>
                      </a:moveTo>
                      <a:lnTo>
                        <a:pt x="0" y="52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5" name=""/>
              <p:cNvSpPr/>
              <p:nvPr/>
            </p:nvSpPr>
            <p:spPr>
              <a:xfrm>
                <a:off x="7761240" y="289044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62920" y="2885760"/>
                <a:ext cx="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27" name=""/>
          <p:cNvGraphicFramePr/>
          <p:nvPr/>
        </p:nvGraphicFramePr>
        <p:xfrm>
          <a:off x="3809880" y="2908440"/>
          <a:ext cx="2260800" cy="73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908440"/>
                    <a:ext cx="226080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9" name=""/>
          <p:cNvSpPr/>
          <p:nvPr/>
        </p:nvSpPr>
        <p:spPr>
          <a:xfrm flipV="1">
            <a:off x="7480440" y="55065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1536840" y="5811840"/>
            <a:ext cx="650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34672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73600" y="5506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994040" y="5494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676520" y="4952160"/>
            <a:ext cx="704880" cy="541800"/>
            <a:chOff x="1676520" y="4952160"/>
            <a:chExt cx="704880" cy="541800"/>
          </a:xfrm>
        </p:grpSpPr>
        <p:sp>
          <p:nvSpPr>
            <p:cNvPr id="1735" name=""/>
            <p:cNvSpPr/>
            <p:nvPr/>
          </p:nvSpPr>
          <p:spPr>
            <a:xfrm>
              <a:off x="1850760" y="4967640"/>
              <a:ext cx="344520" cy="24372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676520" y="5340240"/>
              <a:ext cx="704880" cy="153720"/>
            </a:xfrm>
            <a:custGeom>
              <a:avLst/>
              <a:gdLst/>
              <a:ahLst/>
              <a:rect l="l" t="t" r="r" b="b"/>
              <a:pathLst>
                <a:path w="505" h="115">
                  <a:moveTo>
                    <a:pt x="504" y="0"/>
                  </a:moveTo>
                  <a:lnTo>
                    <a:pt x="133" y="1"/>
                  </a:lnTo>
                  <a:lnTo>
                    <a:pt x="43" y="76"/>
                  </a:lnTo>
                  <a:lnTo>
                    <a:pt x="0" y="114"/>
                  </a:lnTo>
                  <a:lnTo>
                    <a:pt x="397" y="114"/>
                  </a:lnTo>
                  <a:lnTo>
                    <a:pt x="454" y="63"/>
                  </a:lnTo>
                  <a:lnTo>
                    <a:pt x="436" y="58"/>
                  </a:lnTo>
                  <a:lnTo>
                    <a:pt x="442" y="41"/>
                  </a:lnTo>
                  <a:lnTo>
                    <a:pt x="504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1807560" y="5209920"/>
              <a:ext cx="555480" cy="165960"/>
              <a:chOff x="1807560" y="5209920"/>
              <a:chExt cx="555480" cy="165960"/>
            </a:xfrm>
          </p:grpSpPr>
          <p:sp>
            <p:nvSpPr>
              <p:cNvPr id="1738" name=""/>
              <p:cNvSpPr/>
              <p:nvPr/>
            </p:nvSpPr>
            <p:spPr>
              <a:xfrm>
                <a:off x="2213640" y="5209920"/>
                <a:ext cx="149400" cy="165960"/>
              </a:xfrm>
              <a:custGeom>
                <a:avLst/>
                <a:gdLst/>
                <a:ahLst/>
                <a:rect l="l" t="t" r="r" b="b"/>
                <a:pathLst>
                  <a:path w="107" h="124">
                    <a:moveTo>
                      <a:pt x="106" y="0"/>
                    </a:moveTo>
                    <a:lnTo>
                      <a:pt x="0" y="52"/>
                    </a:lnTo>
                    <a:lnTo>
                      <a:pt x="0" y="123"/>
                    </a:lnTo>
                    <a:lnTo>
                      <a:pt x="106" y="57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807560" y="5209920"/>
                <a:ext cx="552600" cy="64080"/>
              </a:xfrm>
              <a:prstGeom prst="parallelogram">
                <a:avLst>
                  <a:gd name="adj" fmla="val 244016"/>
                </a:avLst>
              </a:prstGeom>
              <a:solidFill>
                <a:srgbClr val="b2b2b2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807560" y="5285880"/>
                <a:ext cx="398880" cy="88560"/>
              </a:xfrm>
              <a:prstGeom prst="rect">
                <a:avLst/>
              </a:prstGeom>
              <a:solidFill>
                <a:srgbClr val="c3c3c3"/>
              </a:solidFill>
              <a:ln w="12600">
                <a:solidFill>
                  <a:srgbClr val="c3c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1" name=""/>
              <p:cNvGrpSpPr/>
              <p:nvPr/>
            </p:nvGrpSpPr>
            <p:grpSpPr>
              <a:xfrm>
                <a:off x="2067120" y="5310360"/>
                <a:ext cx="112680" cy="30600"/>
                <a:chOff x="2067120" y="5310360"/>
                <a:chExt cx="112680" cy="3060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067120" y="5310360"/>
                  <a:ext cx="112680" cy="30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076840" y="5326200"/>
                  <a:ext cx="90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2113200" y="5317920"/>
                  <a:ext cx="23400" cy="118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5" name=""/>
              <p:cNvSpPr/>
              <p:nvPr/>
            </p:nvSpPr>
            <p:spPr>
              <a:xfrm>
                <a:off x="184392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8658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8867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90368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92456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945800" y="530064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2136960" y="5225040"/>
              <a:ext cx="87840" cy="38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1" y="28"/>
                  </a:moveTo>
                  <a:lnTo>
                    <a:pt x="62" y="0"/>
                  </a:lnTo>
                  <a:lnTo>
                    <a:pt x="0" y="8"/>
                  </a:lnTo>
                  <a:lnTo>
                    <a:pt x="1" y="2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936080" y="5232960"/>
              <a:ext cx="194040" cy="3204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3"/>
                  </a:moveTo>
                  <a:lnTo>
                    <a:pt x="138" y="23"/>
                  </a:lnTo>
                  <a:lnTo>
                    <a:pt x="137" y="0"/>
                  </a:lnTo>
                  <a:lnTo>
                    <a:pt x="0" y="1"/>
                  </a:lnTo>
                  <a:lnTo>
                    <a:pt x="0" y="23"/>
                  </a:lnTo>
                </a:path>
              </a:pathLst>
            </a:custGeom>
            <a:solidFill>
              <a:srgbClr val="bcbcbc"/>
            </a:solidFill>
            <a:ln cap="rnd" w="1260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3" name=""/>
            <p:cNvGrpSpPr/>
            <p:nvPr/>
          </p:nvGrpSpPr>
          <p:grpSpPr>
            <a:xfrm>
              <a:off x="1681560" y="5377680"/>
              <a:ext cx="604440" cy="68040"/>
              <a:chOff x="1681560" y="5377680"/>
              <a:chExt cx="604440" cy="68040"/>
            </a:xfrm>
          </p:grpSpPr>
          <p:sp>
            <p:nvSpPr>
              <p:cNvPr id="1754" name=""/>
              <p:cNvSpPr/>
              <p:nvPr/>
            </p:nvSpPr>
            <p:spPr>
              <a:xfrm>
                <a:off x="1681560" y="5377680"/>
                <a:ext cx="599040" cy="68040"/>
              </a:xfrm>
              <a:prstGeom prst="cube">
                <a:avLst>
                  <a:gd name="adj" fmla="val 85481"/>
                </a:avLst>
              </a:prstGeom>
              <a:solidFill>
                <a:srgbClr val="b2b2b2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756800" y="5385600"/>
                <a:ext cx="481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735920" y="539892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723320" y="5411160"/>
                <a:ext cx="483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707840" y="542448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16160" y="538020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1" y="46"/>
                    </a:moveTo>
                    <a:lnTo>
                      <a:pt x="0" y="48"/>
                    </a:lnTo>
                    <a:lnTo>
                      <a:pt x="49" y="0"/>
                    </a:lnTo>
                    <a:lnTo>
                      <a:pt x="44" y="9"/>
                    </a:lnTo>
                    <a:lnTo>
                      <a:pt x="1" y="4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0" name=""/>
            <p:cNvSpPr/>
            <p:nvPr/>
          </p:nvSpPr>
          <p:spPr>
            <a:xfrm>
              <a:off x="1852200" y="4975560"/>
              <a:ext cx="350280" cy="2412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96840" y="4995720"/>
              <a:ext cx="257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160720" y="5002560"/>
              <a:ext cx="0" cy="181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882800" y="49957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875960" y="5190120"/>
              <a:ext cx="29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 rot="5400000">
              <a:off x="2131560" y="5049360"/>
              <a:ext cx="273240" cy="78120"/>
            </a:xfrm>
            <a:custGeom>
              <a:avLst/>
              <a:gdLst>
                <a:gd name="textAreaLeft" fmla="*/ 47160 w 273240"/>
                <a:gd name="textAreaRight" fmla="*/ 226080 w 273240"/>
                <a:gd name="textAreaTop" fmla="*/ 13320 h 78120"/>
                <a:gd name="textAreaBottom" fmla="*/ 64800 h 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39" y="21600"/>
                  </a:lnTo>
                  <a:lnTo>
                    <a:pt x="3561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834200" y="5232960"/>
              <a:ext cx="383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1073520" y="49150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N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7188120" y="5135400"/>
            <a:ext cx="598320" cy="352440"/>
            <a:chOff x="7188120" y="5135400"/>
            <a:chExt cx="598320" cy="352440"/>
          </a:xfrm>
        </p:grpSpPr>
        <p:sp>
          <p:nvSpPr>
            <p:cNvPr id="1769" name=""/>
            <p:cNvSpPr/>
            <p:nvPr/>
          </p:nvSpPr>
          <p:spPr>
            <a:xfrm>
              <a:off x="7191000" y="519732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194240" y="513540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7254720" y="5205240"/>
              <a:ext cx="195120" cy="100080"/>
              <a:chOff x="7254720" y="5205240"/>
              <a:chExt cx="195120" cy="100080"/>
            </a:xfrm>
          </p:grpSpPr>
          <p:sp>
            <p:nvSpPr>
              <p:cNvPr id="1772" name=""/>
              <p:cNvSpPr/>
              <p:nvPr/>
            </p:nvSpPr>
            <p:spPr>
              <a:xfrm>
                <a:off x="734652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254720" y="520524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254720" y="524484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316640" y="52671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322760" y="526716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422840" y="52225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7546680" y="5205240"/>
              <a:ext cx="182520" cy="100080"/>
              <a:chOff x="7546680" y="5205240"/>
              <a:chExt cx="182520" cy="100080"/>
            </a:xfrm>
          </p:grpSpPr>
          <p:sp>
            <p:nvSpPr>
              <p:cNvPr id="1779" name=""/>
              <p:cNvSpPr/>
              <p:nvPr/>
            </p:nvSpPr>
            <p:spPr>
              <a:xfrm>
                <a:off x="7627680" y="52052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7546680" y="5205240"/>
                <a:ext cx="182520" cy="100080"/>
                <a:chOff x="7546680" y="5205240"/>
                <a:chExt cx="182520" cy="1000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7546680" y="520524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667280" y="524484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656120" y="5267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557840" y="526716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546680" y="522252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6" name=""/>
            <p:cNvGrpSpPr/>
            <p:nvPr/>
          </p:nvGrpSpPr>
          <p:grpSpPr>
            <a:xfrm>
              <a:off x="7435800" y="5151240"/>
              <a:ext cx="121680" cy="103320"/>
              <a:chOff x="7435800" y="5151240"/>
              <a:chExt cx="121680" cy="103320"/>
            </a:xfrm>
          </p:grpSpPr>
          <p:sp>
            <p:nvSpPr>
              <p:cNvPr id="1787" name=""/>
              <p:cNvSpPr/>
              <p:nvPr/>
            </p:nvSpPr>
            <p:spPr>
              <a:xfrm>
                <a:off x="753084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435800" y="5175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435800" y="515124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440480" y="522756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"/>
            <p:cNvGrpSpPr/>
            <p:nvPr/>
          </p:nvGrpSpPr>
          <p:grpSpPr>
            <a:xfrm>
              <a:off x="7402320" y="5259240"/>
              <a:ext cx="176040" cy="152280"/>
              <a:chOff x="7402320" y="5259240"/>
              <a:chExt cx="176040" cy="152280"/>
            </a:xfrm>
          </p:grpSpPr>
          <p:sp>
            <p:nvSpPr>
              <p:cNvPr id="1792" name=""/>
              <p:cNvSpPr/>
              <p:nvPr/>
            </p:nvSpPr>
            <p:spPr>
              <a:xfrm>
                <a:off x="7402320" y="525924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40232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489440" y="53272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7786440" y="52783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188120" y="527364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7" name=""/>
          <p:cNvGraphicFramePr/>
          <p:nvPr/>
        </p:nvGraphicFramePr>
        <p:xfrm>
          <a:off x="5130720" y="4724280"/>
          <a:ext cx="457200" cy="79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30720" y="4724280"/>
                    <a:ext cx="4572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9" name=""/>
          <p:cNvGraphicFramePr/>
          <p:nvPr/>
        </p:nvGraphicFramePr>
        <p:xfrm>
          <a:off x="3432240" y="5065560"/>
          <a:ext cx="920520" cy="454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32240" y="5065560"/>
                    <a:ext cx="920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1" name=""/>
          <p:cNvGrpSpPr/>
          <p:nvPr/>
        </p:nvGrpSpPr>
        <p:grpSpPr>
          <a:xfrm>
            <a:off x="1460520" y="4216320"/>
            <a:ext cx="1066680" cy="457200"/>
            <a:chOff x="1460520" y="4216320"/>
            <a:chExt cx="1066680" cy="457200"/>
          </a:xfrm>
        </p:grpSpPr>
        <p:sp>
          <p:nvSpPr>
            <p:cNvPr id="1802" name=""/>
            <p:cNvSpPr/>
            <p:nvPr/>
          </p:nvSpPr>
          <p:spPr>
            <a:xfrm>
              <a:off x="1460520" y="4216320"/>
              <a:ext cx="106668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62040" y="459108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1562040" y="4285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62040" y="4332240"/>
              <a:ext cx="762120" cy="226800"/>
            </a:xfrm>
            <a:custGeom>
              <a:avLst/>
              <a:gdLst/>
              <a:ahLst/>
              <a:rect l="l" t="t" r="r" b="b"/>
              <a:pathLst>
                <a:path w="424" h="143">
                  <a:moveTo>
                    <a:pt x="0" y="143"/>
                  </a:moveTo>
                  <a:cubicBezTo>
                    <a:pt x="5" y="124"/>
                    <a:pt x="10" y="81"/>
                    <a:pt x="28" y="67"/>
                  </a:cubicBezTo>
                  <a:cubicBezTo>
                    <a:pt x="35" y="61"/>
                    <a:pt x="45" y="60"/>
                    <a:pt x="52" y="55"/>
                  </a:cubicBezTo>
                  <a:cubicBezTo>
                    <a:pt x="94" y="60"/>
                    <a:pt x="75" y="53"/>
                    <a:pt x="108" y="75"/>
                  </a:cubicBezTo>
                  <a:cubicBezTo>
                    <a:pt x="116" y="80"/>
                    <a:pt x="132" y="91"/>
                    <a:pt x="132" y="91"/>
                  </a:cubicBezTo>
                  <a:cubicBezTo>
                    <a:pt x="188" y="84"/>
                    <a:pt x="145" y="86"/>
                    <a:pt x="184" y="67"/>
                  </a:cubicBezTo>
                  <a:cubicBezTo>
                    <a:pt x="202" y="40"/>
                    <a:pt x="178" y="70"/>
                    <a:pt x="220" y="51"/>
                  </a:cubicBezTo>
                  <a:cubicBezTo>
                    <a:pt x="231" y="46"/>
                    <a:pt x="234" y="15"/>
                    <a:pt x="236" y="7"/>
                  </a:cubicBezTo>
                  <a:cubicBezTo>
                    <a:pt x="243" y="8"/>
                    <a:pt x="249" y="9"/>
                    <a:pt x="256" y="11"/>
                  </a:cubicBezTo>
                  <a:cubicBezTo>
                    <a:pt x="264" y="13"/>
                    <a:pt x="280" y="19"/>
                    <a:pt x="280" y="19"/>
                  </a:cubicBezTo>
                  <a:cubicBezTo>
                    <a:pt x="281" y="23"/>
                    <a:pt x="280" y="29"/>
                    <a:pt x="284" y="31"/>
                  </a:cubicBezTo>
                  <a:cubicBezTo>
                    <a:pt x="296" y="37"/>
                    <a:pt x="324" y="39"/>
                    <a:pt x="324" y="39"/>
                  </a:cubicBezTo>
                  <a:cubicBezTo>
                    <a:pt x="348" y="55"/>
                    <a:pt x="352" y="51"/>
                    <a:pt x="384" y="47"/>
                  </a:cubicBezTo>
                  <a:cubicBezTo>
                    <a:pt x="415" y="0"/>
                    <a:pt x="382" y="35"/>
                    <a:pt x="424" y="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3352680" y="1612800"/>
            <a:ext cx="887400" cy="393840"/>
            <a:chOff x="3352680" y="1612800"/>
            <a:chExt cx="887400" cy="393840"/>
          </a:xfrm>
        </p:grpSpPr>
        <p:sp>
          <p:nvSpPr>
            <p:cNvPr id="1807" name=""/>
            <p:cNvSpPr/>
            <p:nvPr/>
          </p:nvSpPr>
          <p:spPr>
            <a:xfrm>
              <a:off x="3352680" y="1612800"/>
              <a:ext cx="887400" cy="393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427560" y="164952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RM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CF49-4580-4B88-8A89-A64E80667B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 flipV="1">
            <a:off x="1587600" y="2298240"/>
            <a:ext cx="0" cy="241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emote Monitoring (RM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1" name=""/>
          <p:cNvGraphicFramePr/>
          <p:nvPr/>
        </p:nvGraphicFramePr>
        <p:xfrm>
          <a:off x="5143680" y="3683160"/>
          <a:ext cx="3797280" cy="1911240"/>
        </p:xfrm>
        <a:graphic>
          <a:graphicData uri="http://schemas.openxmlformats.org/drawingml/2006/table">
            <a:tbl>
              <a:tblPr/>
              <a:tblGrid>
                <a:gridCol w="660240"/>
                <a:gridCol w="851040"/>
                <a:gridCol w="799920"/>
                <a:gridCol w="927360"/>
                <a:gridCol w="558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lti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03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3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12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23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2" name=""/>
          <p:cNvSpPr/>
          <p:nvPr/>
        </p:nvSpPr>
        <p:spPr>
          <a:xfrm>
            <a:off x="6211800" y="31989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371600" y="4292640"/>
            <a:ext cx="0" cy="1308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1054080" y="254016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3340080" y="2234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6" name=""/>
          <p:cNvGraphicFramePr/>
          <p:nvPr/>
        </p:nvGraphicFramePr>
        <p:xfrm>
          <a:off x="3116160" y="1854360"/>
          <a:ext cx="484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6160" y="1854360"/>
                    <a:ext cx="484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5143680" y="3683160"/>
          <a:ext cx="3797280" cy="1911240"/>
        </p:xfrm>
        <a:graphic>
          <a:graphicData uri="http://schemas.openxmlformats.org/drawingml/2006/table">
            <a:tbl>
              <a:tblPr/>
              <a:tblGrid>
                <a:gridCol w="660240"/>
                <a:gridCol w="851040"/>
                <a:gridCol w="799920"/>
                <a:gridCol w="927360"/>
                <a:gridCol w="558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lti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03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3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12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23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9" name=""/>
          <p:cNvGraphicFramePr/>
          <p:nvPr/>
        </p:nvGraphicFramePr>
        <p:xfrm>
          <a:off x="5486400" y="1930320"/>
          <a:ext cx="2959200" cy="819000"/>
        </p:xfrm>
        <a:graphic>
          <a:graphicData uri="http://schemas.openxmlformats.org/drawingml/2006/table">
            <a:tbl>
              <a:tblPr/>
              <a:tblGrid>
                <a:gridCol w="1079640"/>
                <a:gridCol w="1066680"/>
                <a:gridCol w="812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cketsRe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0" name=""/>
          <p:cNvSpPr/>
          <p:nvPr/>
        </p:nvSpPr>
        <p:spPr>
          <a:xfrm>
            <a:off x="6058440" y="1459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235160" y="1979640"/>
            <a:ext cx="72324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R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3365640" y="1486080"/>
            <a:ext cx="887400" cy="393480"/>
            <a:chOff x="3365640" y="1486080"/>
            <a:chExt cx="887400" cy="393480"/>
          </a:xfrm>
        </p:grpSpPr>
        <p:sp>
          <p:nvSpPr>
            <p:cNvPr id="1823" name=""/>
            <p:cNvSpPr/>
            <p:nvPr/>
          </p:nvSpPr>
          <p:spPr>
            <a:xfrm>
              <a:off x="3365640" y="1486080"/>
              <a:ext cx="887400" cy="3934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40520" y="152244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RM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25" name=""/>
          <p:cNvGraphicFramePr/>
          <p:nvPr/>
        </p:nvGraphicFramePr>
        <p:xfrm>
          <a:off x="2882880" y="4292640"/>
          <a:ext cx="850680" cy="1278000"/>
        </p:xfrm>
        <a:graphic>
          <a:graphicData uri="http://schemas.openxmlformats.org/drawingml/2006/table">
            <a:tbl>
              <a:tblPr/>
              <a:tblGrid>
                <a:gridCol w="8506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6" name=""/>
          <p:cNvGraphicFramePr/>
          <p:nvPr/>
        </p:nvGraphicFramePr>
        <p:xfrm>
          <a:off x="1612800" y="4292640"/>
          <a:ext cx="850680" cy="1278000"/>
        </p:xfrm>
        <a:graphic>
          <a:graphicData uri="http://schemas.openxmlformats.org/drawingml/2006/table">
            <a:tbl>
              <a:tblPr/>
              <a:tblGrid>
                <a:gridCol w="8506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929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929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929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929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929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827" name=""/>
          <p:cNvSpPr/>
          <p:nvPr/>
        </p:nvSpPr>
        <p:spPr>
          <a:xfrm>
            <a:off x="1598040" y="38847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RMO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880720" y="38847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RMON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86600" y="47847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C45F-A4CC-45DC-8828-70583F3E5D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MON-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12960" y="1438200"/>
            <a:ext cx="3301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tatistics (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history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rm (3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 (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TopN (5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x (6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ter (7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capture (8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 (9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Ring (10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61D0-C84E-4A9E-9DC8-DBA835E6DC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RMON-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40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 directory (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 distribution (1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ress mapping (13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layer host (1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layer matrix (15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layer host (16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layer matrix (17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history (18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e configuration (19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D76D-B48A-4ADC-836E-594F864C4B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tFlo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raffic analysis without prob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eveloped by Ci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IOS 12.03(T) (1999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work level (rout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oposed IETF Stand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RFC 3955 (Oct 2004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459A-6598-4ACC-AFF5-A917A2C58F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hat is a Flow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10920" y="1438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7 unique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ource IP add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stination IP add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Layer 3 protocol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OS byte (DSC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put logical interface (ifInde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8" name=""/>
          <p:cNvGraphicFramePr/>
          <p:nvPr/>
        </p:nvGraphicFramePr>
        <p:xfrm>
          <a:off x="6622920" y="3530520"/>
          <a:ext cx="55728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2920" y="3530520"/>
                    <a:ext cx="5572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0" name=""/>
          <p:cNvGrpSpPr/>
          <p:nvPr/>
        </p:nvGrpSpPr>
        <p:grpSpPr>
          <a:xfrm>
            <a:off x="7912080" y="4545720"/>
            <a:ext cx="704880" cy="541800"/>
            <a:chOff x="7912080" y="4545720"/>
            <a:chExt cx="704880" cy="541800"/>
          </a:xfrm>
        </p:grpSpPr>
        <p:sp>
          <p:nvSpPr>
            <p:cNvPr id="1841" name=""/>
            <p:cNvSpPr/>
            <p:nvPr/>
          </p:nvSpPr>
          <p:spPr>
            <a:xfrm>
              <a:off x="8086320" y="4561200"/>
              <a:ext cx="344520" cy="24372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912080" y="4933800"/>
              <a:ext cx="704880" cy="153720"/>
            </a:xfrm>
            <a:custGeom>
              <a:avLst/>
              <a:gdLst/>
              <a:ahLst/>
              <a:rect l="l" t="t" r="r" b="b"/>
              <a:pathLst>
                <a:path w="505" h="115">
                  <a:moveTo>
                    <a:pt x="504" y="0"/>
                  </a:moveTo>
                  <a:lnTo>
                    <a:pt x="133" y="1"/>
                  </a:lnTo>
                  <a:lnTo>
                    <a:pt x="43" y="76"/>
                  </a:lnTo>
                  <a:lnTo>
                    <a:pt x="0" y="114"/>
                  </a:lnTo>
                  <a:lnTo>
                    <a:pt x="397" y="114"/>
                  </a:lnTo>
                  <a:lnTo>
                    <a:pt x="454" y="63"/>
                  </a:lnTo>
                  <a:lnTo>
                    <a:pt x="436" y="58"/>
                  </a:lnTo>
                  <a:lnTo>
                    <a:pt x="442" y="41"/>
                  </a:lnTo>
                  <a:lnTo>
                    <a:pt x="504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"/>
            <p:cNvGrpSpPr/>
            <p:nvPr/>
          </p:nvGrpSpPr>
          <p:grpSpPr>
            <a:xfrm>
              <a:off x="8043120" y="4803480"/>
              <a:ext cx="555480" cy="165960"/>
              <a:chOff x="8043120" y="4803480"/>
              <a:chExt cx="555480" cy="165960"/>
            </a:xfrm>
          </p:grpSpPr>
          <p:sp>
            <p:nvSpPr>
              <p:cNvPr id="1844" name=""/>
              <p:cNvSpPr/>
              <p:nvPr/>
            </p:nvSpPr>
            <p:spPr>
              <a:xfrm>
                <a:off x="8449200" y="4803480"/>
                <a:ext cx="149400" cy="165960"/>
              </a:xfrm>
              <a:custGeom>
                <a:avLst/>
                <a:gdLst/>
                <a:ahLst/>
                <a:rect l="l" t="t" r="r" b="b"/>
                <a:pathLst>
                  <a:path w="107" h="124">
                    <a:moveTo>
                      <a:pt x="106" y="0"/>
                    </a:moveTo>
                    <a:lnTo>
                      <a:pt x="0" y="52"/>
                    </a:lnTo>
                    <a:lnTo>
                      <a:pt x="0" y="123"/>
                    </a:lnTo>
                    <a:lnTo>
                      <a:pt x="106" y="57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043120" y="4803480"/>
                <a:ext cx="552600" cy="64080"/>
              </a:xfrm>
              <a:prstGeom prst="parallelogram">
                <a:avLst>
                  <a:gd name="adj" fmla="val 244016"/>
                </a:avLst>
              </a:prstGeom>
              <a:solidFill>
                <a:srgbClr val="b2b2b2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043120" y="4879440"/>
                <a:ext cx="398880" cy="88560"/>
              </a:xfrm>
              <a:prstGeom prst="rect">
                <a:avLst/>
              </a:prstGeom>
              <a:solidFill>
                <a:srgbClr val="c3c3c3"/>
              </a:solidFill>
              <a:ln w="12600">
                <a:solidFill>
                  <a:srgbClr val="c3c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7" name=""/>
              <p:cNvGrpSpPr/>
              <p:nvPr/>
            </p:nvGrpSpPr>
            <p:grpSpPr>
              <a:xfrm>
                <a:off x="8302680" y="4903920"/>
                <a:ext cx="112680" cy="30600"/>
                <a:chOff x="8302680" y="4903920"/>
                <a:chExt cx="112680" cy="3060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8302680" y="4903920"/>
                  <a:ext cx="112680" cy="30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8312400" y="4919760"/>
                  <a:ext cx="90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8348760" y="4911480"/>
                  <a:ext cx="23400" cy="118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8079480" y="489420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101440" y="489420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22320" y="489420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139240" y="489420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160120" y="489420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181360" y="4894200"/>
                <a:ext cx="0" cy="45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8372520" y="4818600"/>
              <a:ext cx="87840" cy="38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1" y="28"/>
                  </a:moveTo>
                  <a:lnTo>
                    <a:pt x="62" y="0"/>
                  </a:lnTo>
                  <a:lnTo>
                    <a:pt x="0" y="8"/>
                  </a:lnTo>
                  <a:lnTo>
                    <a:pt x="1" y="2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171640" y="4826520"/>
              <a:ext cx="194040" cy="3204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3"/>
                  </a:moveTo>
                  <a:lnTo>
                    <a:pt x="138" y="23"/>
                  </a:lnTo>
                  <a:lnTo>
                    <a:pt x="137" y="0"/>
                  </a:lnTo>
                  <a:lnTo>
                    <a:pt x="0" y="1"/>
                  </a:lnTo>
                  <a:lnTo>
                    <a:pt x="0" y="23"/>
                  </a:lnTo>
                </a:path>
              </a:pathLst>
            </a:custGeom>
            <a:solidFill>
              <a:srgbClr val="bcbcbc"/>
            </a:solidFill>
            <a:ln cap="rnd" w="1260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9" name=""/>
            <p:cNvGrpSpPr/>
            <p:nvPr/>
          </p:nvGrpSpPr>
          <p:grpSpPr>
            <a:xfrm>
              <a:off x="7917120" y="4971240"/>
              <a:ext cx="604440" cy="68040"/>
              <a:chOff x="7917120" y="4971240"/>
              <a:chExt cx="604440" cy="68040"/>
            </a:xfrm>
          </p:grpSpPr>
          <p:sp>
            <p:nvSpPr>
              <p:cNvPr id="1860" name=""/>
              <p:cNvSpPr/>
              <p:nvPr/>
            </p:nvSpPr>
            <p:spPr>
              <a:xfrm>
                <a:off x="7917120" y="4971240"/>
                <a:ext cx="599040" cy="68040"/>
              </a:xfrm>
              <a:prstGeom prst="cube">
                <a:avLst>
                  <a:gd name="adj" fmla="val 85481"/>
                </a:avLst>
              </a:prstGeom>
              <a:solidFill>
                <a:srgbClr val="b2b2b2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92360" y="4979160"/>
                <a:ext cx="481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71480" y="499248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58880" y="5004720"/>
                <a:ext cx="483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43400" y="5018040"/>
                <a:ext cx="481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8451720" y="497376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1" y="46"/>
                    </a:moveTo>
                    <a:lnTo>
                      <a:pt x="0" y="48"/>
                    </a:lnTo>
                    <a:lnTo>
                      <a:pt x="49" y="0"/>
                    </a:lnTo>
                    <a:lnTo>
                      <a:pt x="44" y="9"/>
                    </a:lnTo>
                    <a:lnTo>
                      <a:pt x="1" y="4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6" name=""/>
            <p:cNvSpPr/>
            <p:nvPr/>
          </p:nvSpPr>
          <p:spPr>
            <a:xfrm>
              <a:off x="8087760" y="4569120"/>
              <a:ext cx="350280" cy="24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132400" y="4589280"/>
              <a:ext cx="257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396280" y="4596120"/>
              <a:ext cx="0" cy="181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118360" y="458928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111520" y="4783680"/>
              <a:ext cx="29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 rot="5400000">
              <a:off x="8367120" y="4642920"/>
              <a:ext cx="273240" cy="78120"/>
            </a:xfrm>
            <a:custGeom>
              <a:avLst/>
              <a:gdLst>
                <a:gd name="textAreaLeft" fmla="*/ 47160 w 273240"/>
                <a:gd name="textAreaRight" fmla="*/ 226080 w 273240"/>
                <a:gd name="textAreaTop" fmla="*/ 13320 h 78120"/>
                <a:gd name="textAreaBottom" fmla="*/ 64800 h 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39" y="21600"/>
                  </a:lnTo>
                  <a:lnTo>
                    <a:pt x="3561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69760" y="4826520"/>
              <a:ext cx="383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3" name=""/>
          <p:cNvGraphicFramePr/>
          <p:nvPr/>
        </p:nvGraphicFramePr>
        <p:xfrm>
          <a:off x="7115040" y="1547640"/>
          <a:ext cx="1683000" cy="89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15040" y="1547640"/>
                    <a:ext cx="16830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5" name=""/>
          <p:cNvGrpSpPr/>
          <p:nvPr/>
        </p:nvGrpSpPr>
        <p:grpSpPr>
          <a:xfrm>
            <a:off x="6603840" y="2163600"/>
            <a:ext cx="598320" cy="352440"/>
            <a:chOff x="6603840" y="2163600"/>
            <a:chExt cx="598320" cy="352440"/>
          </a:xfrm>
        </p:grpSpPr>
        <p:sp>
          <p:nvSpPr>
            <p:cNvPr id="1876" name=""/>
            <p:cNvSpPr/>
            <p:nvPr/>
          </p:nvSpPr>
          <p:spPr>
            <a:xfrm>
              <a:off x="6606720" y="222552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609960" y="216360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6670440" y="2233440"/>
              <a:ext cx="195120" cy="100080"/>
              <a:chOff x="6670440" y="2233440"/>
              <a:chExt cx="195120" cy="100080"/>
            </a:xfrm>
          </p:grpSpPr>
          <p:sp>
            <p:nvSpPr>
              <p:cNvPr id="1879" name=""/>
              <p:cNvSpPr/>
              <p:nvPr/>
            </p:nvSpPr>
            <p:spPr>
              <a:xfrm>
                <a:off x="6762240" y="22334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670440" y="223344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670440" y="227304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732360" y="22953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738480" y="229536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38560" y="22507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"/>
            <p:cNvGrpSpPr/>
            <p:nvPr/>
          </p:nvGrpSpPr>
          <p:grpSpPr>
            <a:xfrm>
              <a:off x="6962400" y="2233440"/>
              <a:ext cx="182520" cy="100080"/>
              <a:chOff x="6962400" y="2233440"/>
              <a:chExt cx="182520" cy="100080"/>
            </a:xfrm>
          </p:grpSpPr>
          <p:sp>
            <p:nvSpPr>
              <p:cNvPr id="1886" name=""/>
              <p:cNvSpPr/>
              <p:nvPr/>
            </p:nvSpPr>
            <p:spPr>
              <a:xfrm>
                <a:off x="7043400" y="22334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7" name=""/>
              <p:cNvGrpSpPr/>
              <p:nvPr/>
            </p:nvGrpSpPr>
            <p:grpSpPr>
              <a:xfrm>
                <a:off x="6962400" y="2233440"/>
                <a:ext cx="182520" cy="100080"/>
                <a:chOff x="6962400" y="2233440"/>
                <a:chExt cx="182520" cy="10008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6962400" y="223344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7083000" y="227304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7071840" y="22953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973560" y="229536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962400" y="225072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3" name=""/>
            <p:cNvGrpSpPr/>
            <p:nvPr/>
          </p:nvGrpSpPr>
          <p:grpSpPr>
            <a:xfrm>
              <a:off x="6851520" y="2179440"/>
              <a:ext cx="121680" cy="103320"/>
              <a:chOff x="6851520" y="2179440"/>
              <a:chExt cx="121680" cy="103320"/>
            </a:xfrm>
          </p:grpSpPr>
          <p:sp>
            <p:nvSpPr>
              <p:cNvPr id="1894" name=""/>
              <p:cNvSpPr/>
              <p:nvPr/>
            </p:nvSpPr>
            <p:spPr>
              <a:xfrm>
                <a:off x="6946560" y="2203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851520" y="2203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851520" y="217944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856200" y="225576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6818040" y="2287440"/>
              <a:ext cx="176040" cy="152280"/>
              <a:chOff x="6818040" y="2287440"/>
              <a:chExt cx="176040" cy="152280"/>
            </a:xfrm>
          </p:grpSpPr>
          <p:sp>
            <p:nvSpPr>
              <p:cNvPr id="1899" name=""/>
              <p:cNvSpPr/>
              <p:nvPr/>
            </p:nvSpPr>
            <p:spPr>
              <a:xfrm>
                <a:off x="6818040" y="228744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818040" y="23554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905160" y="235548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7202160" y="23065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03840" y="230184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4902120" y="2031840"/>
            <a:ext cx="1536480" cy="571320"/>
            <a:chOff x="4902120" y="2031840"/>
            <a:chExt cx="1536480" cy="571320"/>
          </a:xfrm>
        </p:grpSpPr>
        <p:sp>
          <p:nvSpPr>
            <p:cNvPr id="1905" name=""/>
            <p:cNvSpPr/>
            <p:nvPr/>
          </p:nvSpPr>
          <p:spPr>
            <a:xfrm>
              <a:off x="4902120" y="2031840"/>
              <a:ext cx="1536480" cy="571320"/>
            </a:xfrm>
            <a:custGeom>
              <a:avLst/>
              <a:gdLst>
                <a:gd name="textAreaLeft" fmla="*/ 240120 w 1536480"/>
                <a:gd name="textAreaRight" fmla="*/ 1344600 w 1536480"/>
                <a:gd name="textAreaTop" fmla="*/ 142920 h 571320"/>
                <a:gd name="textAreaBottom" fmla="*/ 42876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76080" y="21697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7" name=""/>
          <p:cNvSpPr/>
          <p:nvPr/>
        </p:nvSpPr>
        <p:spPr>
          <a:xfrm flipV="1">
            <a:off x="5884920" y="2425320"/>
            <a:ext cx="66816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5851440" y="2565360"/>
            <a:ext cx="7016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867360" y="2830680"/>
            <a:ext cx="119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UDP Ex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870600" y="2540160"/>
            <a:ext cx="0" cy="1003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502400" y="416412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Application 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048440" y="4483080"/>
            <a:ext cx="970200" cy="419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975200" y="2805120"/>
            <a:ext cx="87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Enable Net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A537-48FB-4E43-ACDE-4CB9504571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hy Network Management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17880" y="3468600"/>
          <a:ext cx="9446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7880" y="3468600"/>
                    <a:ext cx="9446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6692760" y="4968720"/>
            <a:ext cx="2092320" cy="770040"/>
            <a:chOff x="6692760" y="4968720"/>
            <a:chExt cx="2092320" cy="77004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683480" y="5045040"/>
              <a:ext cx="1101600" cy="67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6692760" y="4968720"/>
              <a:ext cx="914400" cy="770040"/>
              <a:chOff x="6692760" y="4968720"/>
              <a:chExt cx="914400" cy="770040"/>
            </a:xfrm>
          </p:grpSpPr>
          <p:sp>
            <p:nvSpPr>
              <p:cNvPr id="57" name=""/>
              <p:cNvSpPr/>
              <p:nvPr/>
            </p:nvSpPr>
            <p:spPr>
              <a:xfrm rot="5400000">
                <a:off x="7025400" y="5154120"/>
                <a:ext cx="46800" cy="1980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95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9"/>
                    </a:lnTo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5400000">
                <a:off x="7053840" y="5153760"/>
                <a:ext cx="46800" cy="208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9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40"/>
                    </a:lnTo>
                  </a:path>
                </a:pathLst>
              </a:custGeom>
              <a:solidFill>
                <a:srgbClr val="4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5400000">
                <a:off x="7081560" y="5154120"/>
                <a:ext cx="46800" cy="198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9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8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7109640" y="5154120"/>
                <a:ext cx="46800" cy="198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9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8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7138800" y="5154120"/>
                <a:ext cx="46800" cy="198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9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8"/>
                    </a:lnTo>
                  </a:path>
                </a:pathLst>
              </a:custGeom>
              <a:solidFill>
                <a:srgbClr val="77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5400000">
                <a:off x="7167600" y="5154120"/>
                <a:ext cx="46800" cy="2016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9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8"/>
                    </a:lnTo>
                  </a:path>
                </a:pathLst>
              </a:custGeom>
              <a:solidFill>
                <a:srgbClr val="ad9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7194960" y="5154120"/>
                <a:ext cx="46800" cy="19800"/>
              </a:xfrm>
              <a:custGeom>
                <a:avLst/>
                <a:gdLst/>
                <a:ahLst/>
                <a:rect l="l" t="t" r="r" b="b"/>
                <a:pathLst>
                  <a:path w="96" h="38">
                    <a:moveTo>
                      <a:pt x="95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7"/>
                    </a:lnTo>
                  </a:path>
                </a:pathLst>
              </a:custGeom>
              <a:solidFill>
                <a:srgbClr val="cbb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7223760" y="5154120"/>
                <a:ext cx="46800" cy="2016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9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8"/>
                    </a:lnTo>
                  </a:path>
                </a:pathLst>
              </a:custGeom>
              <a:solidFill>
                <a:srgbClr val="ccb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400000">
                <a:off x="6853680" y="4939560"/>
                <a:ext cx="561240" cy="619560"/>
              </a:xfrm>
              <a:custGeom>
                <a:avLst/>
                <a:gdLst/>
                <a:ahLst/>
                <a:rect l="l" t="t" r="r" b="b"/>
                <a:pathLst>
                  <a:path w="1153" h="1214">
                    <a:moveTo>
                      <a:pt x="0" y="1213"/>
                    </a:moveTo>
                    <a:lnTo>
                      <a:pt x="0" y="0"/>
                    </a:lnTo>
                    <a:lnTo>
                      <a:pt x="1152" y="0"/>
                    </a:lnTo>
                    <a:lnTo>
                      <a:pt x="1152" y="1213"/>
                    </a:lnTo>
                    <a:lnTo>
                      <a:pt x="0" y="1213"/>
                    </a:lnTo>
                  </a:path>
                </a:pathLst>
              </a:custGeom>
              <a:solidFill>
                <a:srgbClr val="ccb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400000">
                <a:off x="6923160" y="4980960"/>
                <a:ext cx="421920" cy="525240"/>
              </a:xfrm>
              <a:custGeom>
                <a:avLst/>
                <a:gdLst/>
                <a:ahLst/>
                <a:rect l="l" t="t" r="r" b="b"/>
                <a:pathLst>
                  <a:path w="869" h="1029">
                    <a:moveTo>
                      <a:pt x="868" y="1028"/>
                    </a:moveTo>
                    <a:lnTo>
                      <a:pt x="0" y="1028"/>
                    </a:lnTo>
                    <a:lnTo>
                      <a:pt x="0" y="0"/>
                    </a:lnTo>
                    <a:lnTo>
                      <a:pt x="868" y="0"/>
                    </a:lnTo>
                    <a:lnTo>
                      <a:pt x="868" y="1028"/>
                    </a:lnTo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400000">
                <a:off x="7097760" y="5268600"/>
                <a:ext cx="69840" cy="586440"/>
              </a:xfrm>
              <a:custGeom>
                <a:avLst/>
                <a:gdLst/>
                <a:ahLst/>
                <a:rect l="l" t="t" r="r" b="b"/>
                <a:pathLst>
                  <a:path w="143" h="1148">
                    <a:moveTo>
                      <a:pt x="0" y="1147"/>
                    </a:moveTo>
                    <a:lnTo>
                      <a:pt x="142" y="1147"/>
                    </a:lnTo>
                    <a:lnTo>
                      <a:pt x="142" y="0"/>
                    </a:lnTo>
                    <a:lnTo>
                      <a:pt x="0" y="0"/>
                    </a:lnTo>
                    <a:lnTo>
                      <a:pt x="0" y="1147"/>
                    </a:lnTo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400000">
                <a:off x="6653880" y="5230080"/>
                <a:ext cx="447120" cy="27720"/>
              </a:xfrm>
              <a:custGeom>
                <a:avLst/>
                <a:gdLst/>
                <a:ahLst/>
                <a:rect l="l" t="t" r="r" b="b"/>
                <a:pathLst>
                  <a:path w="918" h="55">
                    <a:moveTo>
                      <a:pt x="0" y="54"/>
                    </a:moveTo>
                    <a:lnTo>
                      <a:pt x="62" y="0"/>
                    </a:lnTo>
                    <a:lnTo>
                      <a:pt x="84" y="3"/>
                    </a:lnTo>
                    <a:lnTo>
                      <a:pt x="176" y="8"/>
                    </a:lnTo>
                    <a:lnTo>
                      <a:pt x="269" y="12"/>
                    </a:lnTo>
                    <a:lnTo>
                      <a:pt x="363" y="15"/>
                    </a:lnTo>
                    <a:lnTo>
                      <a:pt x="461" y="15"/>
                    </a:lnTo>
                    <a:lnTo>
                      <a:pt x="559" y="15"/>
                    </a:lnTo>
                    <a:lnTo>
                      <a:pt x="654" y="12"/>
                    </a:lnTo>
                    <a:lnTo>
                      <a:pt x="746" y="8"/>
                    </a:lnTo>
                    <a:lnTo>
                      <a:pt x="837" y="3"/>
                    </a:lnTo>
                    <a:lnTo>
                      <a:pt x="852" y="0"/>
                    </a:lnTo>
                    <a:lnTo>
                      <a:pt x="917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77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5400000">
                <a:off x="7168320" y="5228640"/>
                <a:ext cx="447120" cy="30960"/>
              </a:xfrm>
              <a:custGeom>
                <a:avLst/>
                <a:gdLst/>
                <a:ahLst/>
                <a:rect l="l" t="t" r="r" b="b"/>
                <a:pathLst>
                  <a:path w="918" h="61">
                    <a:moveTo>
                      <a:pt x="0" y="0"/>
                    </a:moveTo>
                    <a:lnTo>
                      <a:pt x="62" y="60"/>
                    </a:lnTo>
                    <a:lnTo>
                      <a:pt x="84" y="57"/>
                    </a:lnTo>
                    <a:lnTo>
                      <a:pt x="176" y="52"/>
                    </a:lnTo>
                    <a:lnTo>
                      <a:pt x="269" y="46"/>
                    </a:lnTo>
                    <a:lnTo>
                      <a:pt x="363" y="45"/>
                    </a:lnTo>
                    <a:lnTo>
                      <a:pt x="461" y="44"/>
                    </a:lnTo>
                    <a:lnTo>
                      <a:pt x="559" y="45"/>
                    </a:lnTo>
                    <a:lnTo>
                      <a:pt x="654" y="46"/>
                    </a:lnTo>
                    <a:lnTo>
                      <a:pt x="746" y="52"/>
                    </a:lnTo>
                    <a:lnTo>
                      <a:pt x="837" y="57"/>
                    </a:lnTo>
                    <a:lnTo>
                      <a:pt x="852" y="60"/>
                    </a:lnTo>
                    <a:lnTo>
                      <a:pt x="9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d9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400000">
                <a:off x="7121520" y="5182200"/>
                <a:ext cx="27000" cy="544320"/>
              </a:xfrm>
              <a:custGeom>
                <a:avLst/>
                <a:gdLst/>
                <a:ahLst/>
                <a:rect l="l" t="t" r="r" b="b"/>
                <a:pathLst>
                  <a:path w="55" h="1067">
                    <a:moveTo>
                      <a:pt x="51" y="1066"/>
                    </a:moveTo>
                    <a:lnTo>
                      <a:pt x="0" y="1003"/>
                    </a:lnTo>
                    <a:lnTo>
                      <a:pt x="5" y="886"/>
                    </a:lnTo>
                    <a:lnTo>
                      <a:pt x="8" y="770"/>
                    </a:lnTo>
                    <a:lnTo>
                      <a:pt x="11" y="651"/>
                    </a:lnTo>
                    <a:lnTo>
                      <a:pt x="11" y="532"/>
                    </a:lnTo>
                    <a:lnTo>
                      <a:pt x="11" y="415"/>
                    </a:lnTo>
                    <a:lnTo>
                      <a:pt x="8" y="296"/>
                    </a:lnTo>
                    <a:lnTo>
                      <a:pt x="5" y="178"/>
                    </a:lnTo>
                    <a:lnTo>
                      <a:pt x="0" y="63"/>
                    </a:lnTo>
                    <a:lnTo>
                      <a:pt x="54" y="0"/>
                    </a:lnTo>
                    <a:lnTo>
                      <a:pt x="51" y="1066"/>
                    </a:lnTo>
                  </a:path>
                </a:pathLst>
              </a:custGeom>
              <a:solidFill>
                <a:srgbClr val="cbb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400000">
                <a:off x="7122240" y="4761360"/>
                <a:ext cx="25920" cy="544320"/>
              </a:xfrm>
              <a:custGeom>
                <a:avLst/>
                <a:gdLst/>
                <a:ahLst/>
                <a:rect l="l" t="t" r="r" b="b"/>
                <a:pathLst>
                  <a:path w="53" h="1067">
                    <a:moveTo>
                      <a:pt x="0" y="1066"/>
                    </a:moveTo>
                    <a:lnTo>
                      <a:pt x="52" y="1003"/>
                    </a:lnTo>
                    <a:lnTo>
                      <a:pt x="47" y="886"/>
                    </a:lnTo>
                    <a:lnTo>
                      <a:pt x="44" y="770"/>
                    </a:lnTo>
                    <a:lnTo>
                      <a:pt x="43" y="651"/>
                    </a:lnTo>
                    <a:lnTo>
                      <a:pt x="43" y="532"/>
                    </a:lnTo>
                    <a:lnTo>
                      <a:pt x="41" y="415"/>
                    </a:lnTo>
                    <a:lnTo>
                      <a:pt x="44" y="296"/>
                    </a:lnTo>
                    <a:lnTo>
                      <a:pt x="47" y="178"/>
                    </a:lnTo>
                    <a:lnTo>
                      <a:pt x="52" y="69"/>
                    </a:lnTo>
                    <a:lnTo>
                      <a:pt x="0" y="0"/>
                    </a:lnTo>
                    <a:lnTo>
                      <a:pt x="0" y="106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5400000">
                <a:off x="6913080" y="4971240"/>
                <a:ext cx="451080" cy="549360"/>
              </a:xfrm>
              <a:custGeom>
                <a:avLst/>
                <a:gdLst/>
                <a:ahLst/>
                <a:rect l="l" t="t" r="r" b="b"/>
                <a:pathLst>
                  <a:path w="926" h="1077">
                    <a:moveTo>
                      <a:pt x="0" y="0"/>
                    </a:moveTo>
                    <a:lnTo>
                      <a:pt x="0" y="1076"/>
                    </a:lnTo>
                    <a:lnTo>
                      <a:pt x="925" y="1076"/>
                    </a:lnTo>
                    <a:lnTo>
                      <a:pt x="925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b43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5400000">
                <a:off x="7087320" y="5192640"/>
                <a:ext cx="125280" cy="914400"/>
              </a:xfrm>
              <a:custGeom>
                <a:avLst/>
                <a:gdLst/>
                <a:ahLst/>
                <a:rect l="l" t="t" r="r" b="b"/>
                <a:pathLst>
                  <a:path w="259" h="1791">
                    <a:moveTo>
                      <a:pt x="0" y="1675"/>
                    </a:moveTo>
                    <a:lnTo>
                      <a:pt x="0" y="138"/>
                    </a:lnTo>
                    <a:lnTo>
                      <a:pt x="258" y="0"/>
                    </a:lnTo>
                    <a:lnTo>
                      <a:pt x="258" y="1790"/>
                    </a:lnTo>
                    <a:lnTo>
                      <a:pt x="0" y="1675"/>
                    </a:lnTo>
                  </a:path>
                </a:pathLst>
              </a:custGeom>
              <a:solidFill>
                <a:srgbClr val="ccb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7139520" y="5271120"/>
                <a:ext cx="20880" cy="914400"/>
              </a:xfrm>
              <a:custGeom>
                <a:avLst/>
                <a:gdLst/>
                <a:ahLst/>
                <a:rect l="l" t="t" r="r" b="b"/>
                <a:pathLst>
                  <a:path w="43" h="1791">
                    <a:moveTo>
                      <a:pt x="0" y="179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1790"/>
                    </a:lnTo>
                    <a:lnTo>
                      <a:pt x="0" y="1790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5400000">
                <a:off x="6865560" y="5507280"/>
                <a:ext cx="9000" cy="173160"/>
              </a:xfrm>
              <a:custGeom>
                <a:avLst/>
                <a:gdLst/>
                <a:ahLst/>
                <a:rect l="l" t="t" r="r" b="b"/>
                <a:pathLst>
                  <a:path w="17" h="340">
                    <a:moveTo>
                      <a:pt x="0" y="333"/>
                    </a:moveTo>
                    <a:lnTo>
                      <a:pt x="5" y="331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6" y="74"/>
                    </a:lnTo>
                    <a:lnTo>
                      <a:pt x="13" y="76"/>
                    </a:lnTo>
                    <a:lnTo>
                      <a:pt x="13" y="339"/>
                    </a:lnTo>
                    <a:lnTo>
                      <a:pt x="0" y="333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5400000">
                <a:off x="6840720" y="5536440"/>
                <a:ext cx="12960" cy="141120"/>
              </a:xfrm>
              <a:custGeom>
                <a:avLst/>
                <a:gdLst/>
                <a:ahLst/>
                <a:rect l="l" t="t" r="r" b="b"/>
                <a:pathLst>
                  <a:path w="27" h="276">
                    <a:moveTo>
                      <a:pt x="7" y="266"/>
                    </a:moveTo>
                    <a:lnTo>
                      <a:pt x="7" y="223"/>
                    </a:lnTo>
                    <a:lnTo>
                      <a:pt x="0" y="217"/>
                    </a:lnTo>
                    <a:lnTo>
                      <a:pt x="7" y="211"/>
                    </a:lnTo>
                    <a:lnTo>
                      <a:pt x="7" y="171"/>
                    </a:lnTo>
                    <a:lnTo>
                      <a:pt x="0" y="167"/>
                    </a:lnTo>
                    <a:lnTo>
                      <a:pt x="7" y="162"/>
                    </a:lnTo>
                    <a:lnTo>
                      <a:pt x="7" y="116"/>
                    </a:lnTo>
                    <a:lnTo>
                      <a:pt x="0" y="110"/>
                    </a:lnTo>
                    <a:lnTo>
                      <a:pt x="7" y="105"/>
                    </a:lnTo>
                    <a:lnTo>
                      <a:pt x="7" y="61"/>
                    </a:lnTo>
                    <a:lnTo>
                      <a:pt x="0" y="57"/>
                    </a:lnTo>
                    <a:lnTo>
                      <a:pt x="7" y="52"/>
                    </a:lnTo>
                    <a:lnTo>
                      <a:pt x="7" y="3"/>
                    </a:lnTo>
                    <a:lnTo>
                      <a:pt x="25" y="0"/>
                    </a:lnTo>
                    <a:lnTo>
                      <a:pt x="25" y="58"/>
                    </a:lnTo>
                    <a:lnTo>
                      <a:pt x="26" y="72"/>
                    </a:lnTo>
                    <a:lnTo>
                      <a:pt x="23" y="87"/>
                    </a:lnTo>
                    <a:lnTo>
                      <a:pt x="22" y="116"/>
                    </a:lnTo>
                    <a:lnTo>
                      <a:pt x="26" y="127"/>
                    </a:lnTo>
                    <a:lnTo>
                      <a:pt x="26" y="138"/>
                    </a:lnTo>
                    <a:lnTo>
                      <a:pt x="25" y="139"/>
                    </a:lnTo>
                    <a:lnTo>
                      <a:pt x="22" y="202"/>
                    </a:lnTo>
                    <a:lnTo>
                      <a:pt x="25" y="234"/>
                    </a:lnTo>
                    <a:lnTo>
                      <a:pt x="26" y="235"/>
                    </a:lnTo>
                    <a:lnTo>
                      <a:pt x="25" y="275"/>
                    </a:lnTo>
                    <a:lnTo>
                      <a:pt x="7" y="26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7007040" y="5519160"/>
                <a:ext cx="11880" cy="174600"/>
              </a:xfrm>
              <a:custGeom>
                <a:avLst/>
                <a:gdLst/>
                <a:ahLst/>
                <a:rect l="l" t="t" r="r" b="b"/>
                <a:pathLst>
                  <a:path w="26" h="342">
                    <a:moveTo>
                      <a:pt x="7" y="341"/>
                    </a:moveTo>
                    <a:lnTo>
                      <a:pt x="7" y="229"/>
                    </a:lnTo>
                    <a:lnTo>
                      <a:pt x="0" y="223"/>
                    </a:lnTo>
                    <a:lnTo>
                      <a:pt x="7" y="218"/>
                    </a:lnTo>
                    <a:lnTo>
                      <a:pt x="7" y="5"/>
                    </a:lnTo>
                    <a:lnTo>
                      <a:pt x="25" y="0"/>
                    </a:lnTo>
                    <a:lnTo>
                      <a:pt x="25" y="280"/>
                    </a:lnTo>
                    <a:lnTo>
                      <a:pt x="9" y="276"/>
                    </a:lnTo>
                    <a:lnTo>
                      <a:pt x="7" y="341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400000">
                <a:off x="7187040" y="5520240"/>
                <a:ext cx="10800" cy="172440"/>
              </a:xfrm>
              <a:custGeom>
                <a:avLst/>
                <a:gdLst/>
                <a:ahLst/>
                <a:rect l="l" t="t" r="r" b="b"/>
                <a:pathLst>
                  <a:path w="24" h="337">
                    <a:moveTo>
                      <a:pt x="5" y="336"/>
                    </a:moveTo>
                    <a:lnTo>
                      <a:pt x="5" y="273"/>
                    </a:lnTo>
                    <a:lnTo>
                      <a:pt x="0" y="270"/>
                    </a:lnTo>
                    <a:lnTo>
                      <a:pt x="5" y="265"/>
                    </a:lnTo>
                    <a:lnTo>
                      <a:pt x="5" y="222"/>
                    </a:lnTo>
                    <a:lnTo>
                      <a:pt x="0" y="218"/>
                    </a:lnTo>
                    <a:lnTo>
                      <a:pt x="5" y="213"/>
                    </a:lnTo>
                    <a:lnTo>
                      <a:pt x="5" y="167"/>
                    </a:lnTo>
                    <a:lnTo>
                      <a:pt x="0" y="163"/>
                    </a:lnTo>
                    <a:lnTo>
                      <a:pt x="5" y="158"/>
                    </a:lnTo>
                    <a:lnTo>
                      <a:pt x="5" y="114"/>
                    </a:lnTo>
                    <a:lnTo>
                      <a:pt x="0" y="109"/>
                    </a:lnTo>
                    <a:lnTo>
                      <a:pt x="5" y="103"/>
                    </a:lnTo>
                    <a:lnTo>
                      <a:pt x="5" y="0"/>
                    </a:lnTo>
                    <a:lnTo>
                      <a:pt x="9" y="58"/>
                    </a:lnTo>
                    <a:lnTo>
                      <a:pt x="23" y="58"/>
                    </a:lnTo>
                    <a:lnTo>
                      <a:pt x="23" y="272"/>
                    </a:lnTo>
                    <a:lnTo>
                      <a:pt x="9" y="275"/>
                    </a:lnTo>
                    <a:lnTo>
                      <a:pt x="5" y="33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400000">
                <a:off x="7336800" y="5550120"/>
                <a:ext cx="9000" cy="117000"/>
              </a:xfrm>
              <a:custGeom>
                <a:avLst/>
                <a:gdLst/>
                <a:ahLst/>
                <a:rect l="l" t="t" r="r" b="b"/>
                <a:pathLst>
                  <a:path w="17" h="229">
                    <a:moveTo>
                      <a:pt x="0" y="219"/>
                    </a:moveTo>
                    <a:lnTo>
                      <a:pt x="0" y="175"/>
                    </a:lnTo>
                    <a:lnTo>
                      <a:pt x="6" y="170"/>
                    </a:lnTo>
                    <a:lnTo>
                      <a:pt x="0" y="166"/>
                    </a:lnTo>
                    <a:lnTo>
                      <a:pt x="0" y="0"/>
                    </a:lnTo>
                    <a:lnTo>
                      <a:pt x="3" y="46"/>
                    </a:lnTo>
                    <a:lnTo>
                      <a:pt x="16" y="44"/>
                    </a:lnTo>
                    <a:lnTo>
                      <a:pt x="16" y="225"/>
                    </a:lnTo>
                    <a:lnTo>
                      <a:pt x="16" y="228"/>
                    </a:lnTo>
                    <a:lnTo>
                      <a:pt x="0" y="219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5400000">
                <a:off x="7454520" y="5550840"/>
                <a:ext cx="11880" cy="112320"/>
              </a:xfrm>
              <a:custGeom>
                <a:avLst/>
                <a:gdLst/>
                <a:ahLst/>
                <a:rect l="l" t="t" r="r" b="b"/>
                <a:pathLst>
                  <a:path w="25" h="220">
                    <a:moveTo>
                      <a:pt x="5" y="211"/>
                    </a:moveTo>
                    <a:lnTo>
                      <a:pt x="5" y="171"/>
                    </a:lnTo>
                    <a:lnTo>
                      <a:pt x="0" y="166"/>
                    </a:lnTo>
                    <a:lnTo>
                      <a:pt x="5" y="162"/>
                    </a:lnTo>
                    <a:lnTo>
                      <a:pt x="5" y="118"/>
                    </a:lnTo>
                    <a:lnTo>
                      <a:pt x="0" y="113"/>
                    </a:lnTo>
                    <a:lnTo>
                      <a:pt x="5" y="109"/>
                    </a:lnTo>
                    <a:lnTo>
                      <a:pt x="5" y="65"/>
                    </a:lnTo>
                    <a:lnTo>
                      <a:pt x="0" y="59"/>
                    </a:lnTo>
                    <a:lnTo>
                      <a:pt x="5" y="53"/>
                    </a:lnTo>
                    <a:lnTo>
                      <a:pt x="5" y="9"/>
                    </a:lnTo>
                    <a:lnTo>
                      <a:pt x="24" y="0"/>
                    </a:lnTo>
                    <a:lnTo>
                      <a:pt x="24" y="219"/>
                    </a:lnTo>
                    <a:lnTo>
                      <a:pt x="5" y="211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5400000">
                <a:off x="6800400" y="5622480"/>
                <a:ext cx="9000" cy="1692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0" y="28"/>
                    </a:moveTo>
                    <a:lnTo>
                      <a:pt x="0" y="1"/>
                    </a:lnTo>
                    <a:lnTo>
                      <a:pt x="16" y="0"/>
                    </a:lnTo>
                    <a:lnTo>
                      <a:pt x="16" y="33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5400000">
                <a:off x="6765120" y="565092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36"/>
                    </a:moveTo>
                    <a:lnTo>
                      <a:pt x="0" y="5"/>
                    </a:lnTo>
                    <a:lnTo>
                      <a:pt x="16" y="0"/>
                    </a:lnTo>
                    <a:lnTo>
                      <a:pt x="16" y="4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5400000">
                <a:off x="6782040" y="5641200"/>
                <a:ext cx="28800" cy="89280"/>
              </a:xfrm>
              <a:custGeom>
                <a:avLst/>
                <a:gdLst/>
                <a:ahLst/>
                <a:rect l="l" t="t" r="r" b="b"/>
                <a:pathLst>
                  <a:path w="60" h="176">
                    <a:moveTo>
                      <a:pt x="0" y="166"/>
                    </a:moveTo>
                    <a:lnTo>
                      <a:pt x="0" y="75"/>
                    </a:lnTo>
                    <a:lnTo>
                      <a:pt x="16" y="67"/>
                    </a:lnTo>
                    <a:lnTo>
                      <a:pt x="16" y="94"/>
                    </a:lnTo>
                    <a:lnTo>
                      <a:pt x="33" y="96"/>
                    </a:lnTo>
                    <a:lnTo>
                      <a:pt x="33" y="1"/>
                    </a:lnTo>
                    <a:lnTo>
                      <a:pt x="59" y="0"/>
                    </a:lnTo>
                    <a:lnTo>
                      <a:pt x="59" y="109"/>
                    </a:lnTo>
                    <a:lnTo>
                      <a:pt x="22" y="105"/>
                    </a:lnTo>
                    <a:lnTo>
                      <a:pt x="22" y="175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5400000">
                <a:off x="6797160" y="5616720"/>
                <a:ext cx="47880" cy="66960"/>
              </a:xfrm>
              <a:custGeom>
                <a:avLst/>
                <a:gdLst/>
                <a:ahLst/>
                <a:rect l="l" t="t" r="r" b="b"/>
                <a:pathLst>
                  <a:path w="99" h="132">
                    <a:moveTo>
                      <a:pt x="0" y="62"/>
                    </a:moveTo>
                    <a:lnTo>
                      <a:pt x="0" y="24"/>
                    </a:lnTo>
                    <a:lnTo>
                      <a:pt x="12" y="19"/>
                    </a:lnTo>
                    <a:lnTo>
                      <a:pt x="12" y="37"/>
                    </a:lnTo>
                    <a:lnTo>
                      <a:pt x="27" y="40"/>
                    </a:lnTo>
                    <a:lnTo>
                      <a:pt x="27" y="3"/>
                    </a:lnTo>
                    <a:lnTo>
                      <a:pt x="45" y="0"/>
                    </a:lnTo>
                    <a:lnTo>
                      <a:pt x="45" y="29"/>
                    </a:lnTo>
                    <a:lnTo>
                      <a:pt x="56" y="37"/>
                    </a:lnTo>
                    <a:lnTo>
                      <a:pt x="45" y="47"/>
                    </a:lnTo>
                    <a:lnTo>
                      <a:pt x="45" y="112"/>
                    </a:lnTo>
                    <a:lnTo>
                      <a:pt x="53" y="118"/>
                    </a:lnTo>
                    <a:lnTo>
                      <a:pt x="53" y="54"/>
                    </a:lnTo>
                    <a:lnTo>
                      <a:pt x="68" y="52"/>
                    </a:lnTo>
                    <a:lnTo>
                      <a:pt x="68" y="71"/>
                    </a:lnTo>
                    <a:lnTo>
                      <a:pt x="80" y="71"/>
                    </a:lnTo>
                    <a:lnTo>
                      <a:pt x="80" y="40"/>
                    </a:lnTo>
                    <a:lnTo>
                      <a:pt x="98" y="32"/>
                    </a:lnTo>
                    <a:lnTo>
                      <a:pt x="98" y="82"/>
                    </a:lnTo>
                    <a:lnTo>
                      <a:pt x="80" y="78"/>
                    </a:lnTo>
                    <a:lnTo>
                      <a:pt x="68" y="88"/>
                    </a:lnTo>
                    <a:lnTo>
                      <a:pt x="68" y="122"/>
                    </a:lnTo>
                    <a:lnTo>
                      <a:pt x="53" y="124"/>
                    </a:lnTo>
                    <a:lnTo>
                      <a:pt x="45" y="131"/>
                    </a:lnTo>
                    <a:lnTo>
                      <a:pt x="27" y="127"/>
                    </a:lnTo>
                    <a:lnTo>
                      <a:pt x="27" y="53"/>
                    </a:lnTo>
                    <a:lnTo>
                      <a:pt x="12" y="47"/>
                    </a:lnTo>
                    <a:lnTo>
                      <a:pt x="12" y="6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400000">
                <a:off x="6969240" y="5526720"/>
                <a:ext cx="43920" cy="303480"/>
              </a:xfrm>
              <a:custGeom>
                <a:avLst/>
                <a:gdLst/>
                <a:ahLst/>
                <a:rect l="l" t="t" r="r" b="b"/>
                <a:pathLst>
                  <a:path w="90" h="595">
                    <a:moveTo>
                      <a:pt x="0" y="589"/>
                    </a:moveTo>
                    <a:lnTo>
                      <a:pt x="0" y="555"/>
                    </a:lnTo>
                    <a:lnTo>
                      <a:pt x="15" y="554"/>
                    </a:lnTo>
                    <a:lnTo>
                      <a:pt x="15" y="572"/>
                    </a:lnTo>
                    <a:lnTo>
                      <a:pt x="26" y="574"/>
                    </a:lnTo>
                    <a:lnTo>
                      <a:pt x="26" y="535"/>
                    </a:lnTo>
                    <a:lnTo>
                      <a:pt x="44" y="522"/>
                    </a:lnTo>
                    <a:lnTo>
                      <a:pt x="44" y="560"/>
                    </a:lnTo>
                    <a:lnTo>
                      <a:pt x="60" y="544"/>
                    </a:lnTo>
                    <a:lnTo>
                      <a:pt x="60" y="16"/>
                    </a:lnTo>
                    <a:lnTo>
                      <a:pt x="89" y="0"/>
                    </a:lnTo>
                    <a:lnTo>
                      <a:pt x="89" y="574"/>
                    </a:lnTo>
                    <a:lnTo>
                      <a:pt x="60" y="569"/>
                    </a:lnTo>
                    <a:lnTo>
                      <a:pt x="44" y="582"/>
                    </a:lnTo>
                    <a:lnTo>
                      <a:pt x="26" y="578"/>
                    </a:lnTo>
                    <a:lnTo>
                      <a:pt x="15" y="589"/>
                    </a:lnTo>
                    <a:lnTo>
                      <a:pt x="15" y="594"/>
                    </a:lnTo>
                    <a:lnTo>
                      <a:pt x="0" y="589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5400000">
                <a:off x="6856920" y="562824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0" y="82"/>
                    </a:moveTo>
                    <a:lnTo>
                      <a:pt x="0" y="54"/>
                    </a:lnTo>
                    <a:lnTo>
                      <a:pt x="12" y="48"/>
                    </a:lnTo>
                    <a:lnTo>
                      <a:pt x="12" y="62"/>
                    </a:lnTo>
                    <a:lnTo>
                      <a:pt x="28" y="67"/>
                    </a:lnTo>
                    <a:lnTo>
                      <a:pt x="28" y="30"/>
                    </a:lnTo>
                    <a:lnTo>
                      <a:pt x="45" y="30"/>
                    </a:lnTo>
                    <a:lnTo>
                      <a:pt x="45" y="52"/>
                    </a:lnTo>
                    <a:lnTo>
                      <a:pt x="53" y="58"/>
                    </a:lnTo>
                    <a:lnTo>
                      <a:pt x="53" y="27"/>
                    </a:lnTo>
                    <a:lnTo>
                      <a:pt x="68" y="21"/>
                    </a:lnTo>
                    <a:lnTo>
                      <a:pt x="68" y="38"/>
                    </a:lnTo>
                    <a:lnTo>
                      <a:pt x="80" y="43"/>
                    </a:lnTo>
                    <a:lnTo>
                      <a:pt x="80" y="4"/>
                    </a:lnTo>
                    <a:lnTo>
                      <a:pt x="98" y="0"/>
                    </a:lnTo>
                    <a:lnTo>
                      <a:pt x="98" y="45"/>
                    </a:lnTo>
                    <a:lnTo>
                      <a:pt x="90" y="44"/>
                    </a:lnTo>
                    <a:lnTo>
                      <a:pt x="68" y="54"/>
                    </a:lnTo>
                    <a:lnTo>
                      <a:pt x="68" y="62"/>
                    </a:lnTo>
                    <a:lnTo>
                      <a:pt x="48" y="71"/>
                    </a:lnTo>
                    <a:lnTo>
                      <a:pt x="33" y="69"/>
                    </a:lnTo>
                    <a:lnTo>
                      <a:pt x="12" y="79"/>
                    </a:lnTo>
                    <a:lnTo>
                      <a:pt x="12" y="85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5400000">
                <a:off x="6885360" y="5627880"/>
                <a:ext cx="47880" cy="4500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86"/>
                    </a:moveTo>
                    <a:lnTo>
                      <a:pt x="0" y="50"/>
                    </a:lnTo>
                    <a:lnTo>
                      <a:pt x="12" y="47"/>
                    </a:lnTo>
                    <a:lnTo>
                      <a:pt x="12" y="66"/>
                    </a:lnTo>
                    <a:lnTo>
                      <a:pt x="28" y="66"/>
                    </a:lnTo>
                    <a:lnTo>
                      <a:pt x="28" y="30"/>
                    </a:lnTo>
                    <a:lnTo>
                      <a:pt x="45" y="27"/>
                    </a:lnTo>
                    <a:lnTo>
                      <a:pt x="45" y="53"/>
                    </a:lnTo>
                    <a:lnTo>
                      <a:pt x="53" y="56"/>
                    </a:lnTo>
                    <a:lnTo>
                      <a:pt x="53" y="23"/>
                    </a:lnTo>
                    <a:lnTo>
                      <a:pt x="68" y="20"/>
                    </a:lnTo>
                    <a:lnTo>
                      <a:pt x="68" y="33"/>
                    </a:lnTo>
                    <a:lnTo>
                      <a:pt x="80" y="40"/>
                    </a:lnTo>
                    <a:lnTo>
                      <a:pt x="80" y="3"/>
                    </a:lnTo>
                    <a:lnTo>
                      <a:pt x="98" y="0"/>
                    </a:lnTo>
                    <a:lnTo>
                      <a:pt x="98" y="42"/>
                    </a:lnTo>
                    <a:lnTo>
                      <a:pt x="90" y="42"/>
                    </a:lnTo>
                    <a:lnTo>
                      <a:pt x="68" y="53"/>
                    </a:lnTo>
                    <a:lnTo>
                      <a:pt x="68" y="65"/>
                    </a:lnTo>
                    <a:lnTo>
                      <a:pt x="45" y="72"/>
                    </a:lnTo>
                    <a:lnTo>
                      <a:pt x="27" y="75"/>
                    </a:lnTo>
                    <a:lnTo>
                      <a:pt x="12" y="79"/>
                    </a:lnTo>
                    <a:lnTo>
                      <a:pt x="12" y="89"/>
                    </a:lnTo>
                    <a:lnTo>
                      <a:pt x="0" y="8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5400000">
                <a:off x="6921000" y="562284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0" y="31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9" y="14"/>
                    </a:lnTo>
                    <a:lnTo>
                      <a:pt x="21" y="19"/>
                    </a:lnTo>
                    <a:lnTo>
                      <a:pt x="9" y="29"/>
                    </a:lnTo>
                    <a:lnTo>
                      <a:pt x="9" y="35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5400000">
                <a:off x="6929280" y="5640120"/>
                <a:ext cx="32040" cy="36720"/>
              </a:xfrm>
              <a:custGeom>
                <a:avLst/>
                <a:gdLst/>
                <a:ahLst/>
                <a:rect l="l" t="t" r="r" b="b"/>
                <a:pathLst>
                  <a:path w="66" h="74">
                    <a:moveTo>
                      <a:pt x="0" y="67"/>
                    </a:moveTo>
                    <a:lnTo>
                      <a:pt x="0" y="32"/>
                    </a:lnTo>
                    <a:lnTo>
                      <a:pt x="15" y="29"/>
                    </a:lnTo>
                    <a:lnTo>
                      <a:pt x="15" y="53"/>
                    </a:lnTo>
                    <a:lnTo>
                      <a:pt x="19" y="58"/>
                    </a:lnTo>
                    <a:lnTo>
                      <a:pt x="23" y="59"/>
                    </a:lnTo>
                    <a:lnTo>
                      <a:pt x="23" y="21"/>
                    </a:lnTo>
                    <a:lnTo>
                      <a:pt x="37" y="20"/>
                    </a:lnTo>
                    <a:lnTo>
                      <a:pt x="37" y="35"/>
                    </a:lnTo>
                    <a:lnTo>
                      <a:pt x="43" y="41"/>
                    </a:lnTo>
                    <a:lnTo>
                      <a:pt x="50" y="37"/>
                    </a:lnTo>
                    <a:lnTo>
                      <a:pt x="50" y="3"/>
                    </a:lnTo>
                    <a:lnTo>
                      <a:pt x="65" y="0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37" y="53"/>
                    </a:lnTo>
                    <a:lnTo>
                      <a:pt x="28" y="67"/>
                    </a:lnTo>
                    <a:lnTo>
                      <a:pt x="15" y="73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5400000">
                <a:off x="6950160" y="56232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0" y="99"/>
                    </a:moveTo>
                    <a:lnTo>
                      <a:pt x="0" y="64"/>
                    </a:lnTo>
                    <a:lnTo>
                      <a:pt x="12" y="61"/>
                    </a:lnTo>
                    <a:lnTo>
                      <a:pt x="12" y="77"/>
                    </a:lnTo>
                    <a:lnTo>
                      <a:pt x="28" y="80"/>
                    </a:lnTo>
                    <a:lnTo>
                      <a:pt x="28" y="76"/>
                    </a:lnTo>
                    <a:lnTo>
                      <a:pt x="28" y="41"/>
                    </a:lnTo>
                    <a:lnTo>
                      <a:pt x="45" y="38"/>
                    </a:lnTo>
                    <a:lnTo>
                      <a:pt x="45" y="66"/>
                    </a:lnTo>
                    <a:lnTo>
                      <a:pt x="53" y="66"/>
                    </a:lnTo>
                    <a:lnTo>
                      <a:pt x="53" y="28"/>
                    </a:lnTo>
                    <a:lnTo>
                      <a:pt x="68" y="26"/>
                    </a:lnTo>
                    <a:lnTo>
                      <a:pt x="68" y="44"/>
                    </a:lnTo>
                    <a:lnTo>
                      <a:pt x="81" y="47"/>
                    </a:lnTo>
                    <a:lnTo>
                      <a:pt x="81" y="6"/>
                    </a:lnTo>
                    <a:lnTo>
                      <a:pt x="98" y="0"/>
                    </a:lnTo>
                    <a:lnTo>
                      <a:pt x="98" y="50"/>
                    </a:lnTo>
                    <a:lnTo>
                      <a:pt x="90" y="50"/>
                    </a:lnTo>
                    <a:lnTo>
                      <a:pt x="68" y="61"/>
                    </a:lnTo>
                    <a:lnTo>
                      <a:pt x="68" y="74"/>
                    </a:lnTo>
                    <a:lnTo>
                      <a:pt x="45" y="80"/>
                    </a:lnTo>
                    <a:lnTo>
                      <a:pt x="40" y="80"/>
                    </a:lnTo>
                    <a:lnTo>
                      <a:pt x="33" y="88"/>
                    </a:lnTo>
                    <a:lnTo>
                      <a:pt x="12" y="96"/>
                    </a:lnTo>
                    <a:lnTo>
                      <a:pt x="12" y="105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5400000">
                <a:off x="6980400" y="5623920"/>
                <a:ext cx="47880" cy="52920"/>
              </a:xfrm>
              <a:custGeom>
                <a:avLst/>
                <a:gdLst/>
                <a:ahLst/>
                <a:rect l="l" t="t" r="r" b="b"/>
                <a:pathLst>
                  <a:path w="99" h="104">
                    <a:moveTo>
                      <a:pt x="0" y="100"/>
                    </a:moveTo>
                    <a:lnTo>
                      <a:pt x="0" y="64"/>
                    </a:lnTo>
                    <a:lnTo>
                      <a:pt x="12" y="59"/>
                    </a:lnTo>
                    <a:lnTo>
                      <a:pt x="12" y="75"/>
                    </a:lnTo>
                    <a:lnTo>
                      <a:pt x="22" y="80"/>
                    </a:lnTo>
                    <a:lnTo>
                      <a:pt x="28" y="77"/>
                    </a:lnTo>
                    <a:lnTo>
                      <a:pt x="28" y="41"/>
                    </a:lnTo>
                    <a:lnTo>
                      <a:pt x="45" y="38"/>
                    </a:lnTo>
                    <a:lnTo>
                      <a:pt x="45" y="59"/>
                    </a:lnTo>
                    <a:lnTo>
                      <a:pt x="50" y="64"/>
                    </a:lnTo>
                    <a:lnTo>
                      <a:pt x="53" y="61"/>
                    </a:lnTo>
                    <a:lnTo>
                      <a:pt x="53" y="28"/>
                    </a:lnTo>
                    <a:lnTo>
                      <a:pt x="68" y="26"/>
                    </a:lnTo>
                    <a:lnTo>
                      <a:pt x="68" y="38"/>
                    </a:lnTo>
                    <a:lnTo>
                      <a:pt x="78" y="45"/>
                    </a:lnTo>
                    <a:lnTo>
                      <a:pt x="81" y="41"/>
                    </a:lnTo>
                    <a:lnTo>
                      <a:pt x="81" y="4"/>
                    </a:lnTo>
                    <a:lnTo>
                      <a:pt x="98" y="0"/>
                    </a:lnTo>
                    <a:lnTo>
                      <a:pt x="98" y="46"/>
                    </a:lnTo>
                    <a:lnTo>
                      <a:pt x="83" y="49"/>
                    </a:lnTo>
                    <a:lnTo>
                      <a:pt x="68" y="58"/>
                    </a:lnTo>
                    <a:lnTo>
                      <a:pt x="68" y="71"/>
                    </a:lnTo>
                    <a:lnTo>
                      <a:pt x="43" y="78"/>
                    </a:lnTo>
                    <a:lnTo>
                      <a:pt x="25" y="86"/>
                    </a:lnTo>
                    <a:lnTo>
                      <a:pt x="12" y="94"/>
                    </a:lnTo>
                    <a:lnTo>
                      <a:pt x="12" y="103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5400000">
                <a:off x="7013520" y="5623920"/>
                <a:ext cx="47880" cy="52920"/>
              </a:xfrm>
              <a:custGeom>
                <a:avLst/>
                <a:gdLst/>
                <a:ahLst/>
                <a:rect l="l" t="t" r="r" b="b"/>
                <a:pathLst>
                  <a:path w="99" h="105">
                    <a:moveTo>
                      <a:pt x="0" y="100"/>
                    </a:moveTo>
                    <a:lnTo>
                      <a:pt x="0" y="66"/>
                    </a:lnTo>
                    <a:lnTo>
                      <a:pt x="12" y="64"/>
                    </a:lnTo>
                    <a:lnTo>
                      <a:pt x="12" y="79"/>
                    </a:lnTo>
                    <a:lnTo>
                      <a:pt x="27" y="79"/>
                    </a:lnTo>
                    <a:lnTo>
                      <a:pt x="28" y="78"/>
                    </a:lnTo>
                    <a:lnTo>
                      <a:pt x="28" y="45"/>
                    </a:lnTo>
                    <a:lnTo>
                      <a:pt x="45" y="42"/>
                    </a:lnTo>
                    <a:lnTo>
                      <a:pt x="45" y="64"/>
                    </a:lnTo>
                    <a:lnTo>
                      <a:pt x="53" y="66"/>
                    </a:lnTo>
                    <a:lnTo>
                      <a:pt x="53" y="32"/>
                    </a:lnTo>
                    <a:lnTo>
                      <a:pt x="68" y="29"/>
                    </a:lnTo>
                    <a:lnTo>
                      <a:pt x="68" y="42"/>
                    </a:lnTo>
                    <a:lnTo>
                      <a:pt x="81" y="45"/>
                    </a:lnTo>
                    <a:lnTo>
                      <a:pt x="81" y="42"/>
                    </a:lnTo>
                    <a:lnTo>
                      <a:pt x="81" y="4"/>
                    </a:lnTo>
                    <a:lnTo>
                      <a:pt x="98" y="0"/>
                    </a:lnTo>
                    <a:lnTo>
                      <a:pt x="98" y="48"/>
                    </a:lnTo>
                    <a:lnTo>
                      <a:pt x="81" y="52"/>
                    </a:lnTo>
                    <a:lnTo>
                      <a:pt x="68" y="62"/>
                    </a:lnTo>
                    <a:lnTo>
                      <a:pt x="68" y="72"/>
                    </a:lnTo>
                    <a:lnTo>
                      <a:pt x="40" y="8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400000">
                <a:off x="7043760" y="5622840"/>
                <a:ext cx="47880" cy="55080"/>
              </a:xfrm>
              <a:custGeom>
                <a:avLst/>
                <a:gdLst/>
                <a:ahLst/>
                <a:rect l="l" t="t" r="r" b="b"/>
                <a:pathLst>
                  <a:path w="99" h="108">
                    <a:moveTo>
                      <a:pt x="0" y="103"/>
                    </a:moveTo>
                    <a:lnTo>
                      <a:pt x="0" y="69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30" y="81"/>
                    </a:lnTo>
                    <a:lnTo>
                      <a:pt x="28" y="81"/>
                    </a:lnTo>
                    <a:lnTo>
                      <a:pt x="28" y="43"/>
                    </a:lnTo>
                    <a:lnTo>
                      <a:pt x="45" y="42"/>
                    </a:lnTo>
                    <a:lnTo>
                      <a:pt x="45" y="65"/>
                    </a:lnTo>
                    <a:lnTo>
                      <a:pt x="53" y="71"/>
                    </a:lnTo>
                    <a:lnTo>
                      <a:pt x="53" y="30"/>
                    </a:lnTo>
                    <a:lnTo>
                      <a:pt x="68" y="27"/>
                    </a:lnTo>
                    <a:lnTo>
                      <a:pt x="68" y="43"/>
                    </a:lnTo>
                    <a:lnTo>
                      <a:pt x="75" y="43"/>
                    </a:lnTo>
                    <a:lnTo>
                      <a:pt x="81" y="39"/>
                    </a:lnTo>
                    <a:lnTo>
                      <a:pt x="81" y="1"/>
                    </a:lnTo>
                    <a:lnTo>
                      <a:pt x="98" y="0"/>
                    </a:lnTo>
                    <a:lnTo>
                      <a:pt x="98" y="45"/>
                    </a:lnTo>
                    <a:lnTo>
                      <a:pt x="81" y="51"/>
                    </a:lnTo>
                    <a:lnTo>
                      <a:pt x="68" y="64"/>
                    </a:lnTo>
                    <a:lnTo>
                      <a:pt x="68" y="77"/>
                    </a:lnTo>
                    <a:lnTo>
                      <a:pt x="27" y="91"/>
                    </a:lnTo>
                    <a:lnTo>
                      <a:pt x="10" y="106"/>
                    </a:lnTo>
                    <a:lnTo>
                      <a:pt x="12" y="107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7077600" y="5622120"/>
                <a:ext cx="47880" cy="5616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07"/>
                    </a:moveTo>
                    <a:lnTo>
                      <a:pt x="0" y="75"/>
                    </a:lnTo>
                    <a:lnTo>
                      <a:pt x="12" y="71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28" y="83"/>
                    </a:lnTo>
                    <a:lnTo>
                      <a:pt x="28" y="49"/>
                    </a:lnTo>
                    <a:lnTo>
                      <a:pt x="45" y="45"/>
                    </a:lnTo>
                    <a:lnTo>
                      <a:pt x="45" y="68"/>
                    </a:lnTo>
                    <a:lnTo>
                      <a:pt x="53" y="71"/>
                    </a:lnTo>
                    <a:lnTo>
                      <a:pt x="53" y="30"/>
                    </a:lnTo>
                    <a:lnTo>
                      <a:pt x="68" y="28"/>
                    </a:lnTo>
                    <a:lnTo>
                      <a:pt x="68" y="41"/>
                    </a:lnTo>
                    <a:lnTo>
                      <a:pt x="73" y="45"/>
                    </a:lnTo>
                    <a:lnTo>
                      <a:pt x="81" y="38"/>
                    </a:lnTo>
                    <a:lnTo>
                      <a:pt x="81" y="6"/>
                    </a:lnTo>
                    <a:lnTo>
                      <a:pt x="98" y="0"/>
                    </a:lnTo>
                    <a:lnTo>
                      <a:pt x="98" y="43"/>
                    </a:lnTo>
                    <a:lnTo>
                      <a:pt x="83" y="54"/>
                    </a:lnTo>
                    <a:lnTo>
                      <a:pt x="68" y="65"/>
                    </a:lnTo>
                    <a:lnTo>
                      <a:pt x="68" y="77"/>
                    </a:lnTo>
                    <a:lnTo>
                      <a:pt x="30" y="94"/>
                    </a:lnTo>
                    <a:lnTo>
                      <a:pt x="12" y="101"/>
                    </a:lnTo>
                    <a:lnTo>
                      <a:pt x="12" y="110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7104600" y="562392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79"/>
                    </a:moveTo>
                    <a:lnTo>
                      <a:pt x="0" y="41"/>
                    </a:lnTo>
                    <a:lnTo>
                      <a:pt x="11" y="41"/>
                    </a:lnTo>
                    <a:lnTo>
                      <a:pt x="11" y="58"/>
                    </a:lnTo>
                    <a:lnTo>
                      <a:pt x="24" y="59"/>
                    </a:lnTo>
                    <a:lnTo>
                      <a:pt x="27" y="53"/>
                    </a:lnTo>
                    <a:lnTo>
                      <a:pt x="27" y="24"/>
                    </a:lnTo>
                    <a:lnTo>
                      <a:pt x="44" y="20"/>
                    </a:lnTo>
                    <a:lnTo>
                      <a:pt x="44" y="39"/>
                    </a:lnTo>
                    <a:lnTo>
                      <a:pt x="52" y="46"/>
                    </a:lnTo>
                    <a:lnTo>
                      <a:pt x="52" y="8"/>
                    </a:lnTo>
                    <a:lnTo>
                      <a:pt x="58" y="4"/>
                    </a:lnTo>
                    <a:lnTo>
                      <a:pt x="66" y="0"/>
                    </a:lnTo>
                    <a:lnTo>
                      <a:pt x="66" y="14"/>
                    </a:lnTo>
                    <a:lnTo>
                      <a:pt x="76" y="25"/>
                    </a:lnTo>
                    <a:lnTo>
                      <a:pt x="66" y="32"/>
                    </a:lnTo>
                    <a:lnTo>
                      <a:pt x="66" y="48"/>
                    </a:lnTo>
                    <a:lnTo>
                      <a:pt x="39" y="59"/>
                    </a:lnTo>
                    <a:lnTo>
                      <a:pt x="31" y="65"/>
                    </a:lnTo>
                    <a:lnTo>
                      <a:pt x="11" y="73"/>
                    </a:lnTo>
                    <a:lnTo>
                      <a:pt x="11" y="83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5400000">
                <a:off x="7133400" y="5628240"/>
                <a:ext cx="43920" cy="39960"/>
              </a:xfrm>
              <a:custGeom>
                <a:avLst/>
                <a:gdLst/>
                <a:ahLst/>
                <a:rect l="l" t="t" r="r" b="b"/>
                <a:pathLst>
                  <a:path w="90" h="79">
                    <a:moveTo>
                      <a:pt x="0" y="77"/>
                    </a:moveTo>
                    <a:lnTo>
                      <a:pt x="0" y="44"/>
                    </a:lnTo>
                    <a:lnTo>
                      <a:pt x="12" y="43"/>
                    </a:lnTo>
                    <a:lnTo>
                      <a:pt x="12" y="58"/>
                    </a:lnTo>
                    <a:lnTo>
                      <a:pt x="28" y="57"/>
                    </a:lnTo>
                    <a:lnTo>
                      <a:pt x="28" y="31"/>
                    </a:lnTo>
                    <a:lnTo>
                      <a:pt x="45" y="24"/>
                    </a:lnTo>
                    <a:lnTo>
                      <a:pt x="45" y="33"/>
                    </a:lnTo>
                    <a:lnTo>
                      <a:pt x="45" y="40"/>
                    </a:lnTo>
                    <a:lnTo>
                      <a:pt x="53" y="43"/>
                    </a:lnTo>
                    <a:lnTo>
                      <a:pt x="53" y="1"/>
                    </a:lnTo>
                    <a:lnTo>
                      <a:pt x="68" y="0"/>
                    </a:lnTo>
                    <a:lnTo>
                      <a:pt x="68" y="13"/>
                    </a:lnTo>
                    <a:lnTo>
                      <a:pt x="89" y="17"/>
                    </a:lnTo>
                    <a:lnTo>
                      <a:pt x="68" y="33"/>
                    </a:lnTo>
                    <a:lnTo>
                      <a:pt x="68" y="48"/>
                    </a:lnTo>
                    <a:lnTo>
                      <a:pt x="43" y="58"/>
                    </a:lnTo>
                    <a:lnTo>
                      <a:pt x="36" y="64"/>
                    </a:lnTo>
                    <a:lnTo>
                      <a:pt x="12" y="71"/>
                    </a:lnTo>
                    <a:lnTo>
                      <a:pt x="12" y="78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5400000">
                <a:off x="7168320" y="5621400"/>
                <a:ext cx="32040" cy="42120"/>
              </a:xfrm>
              <a:custGeom>
                <a:avLst/>
                <a:gdLst/>
                <a:ahLst/>
                <a:rect l="l" t="t" r="r" b="b"/>
                <a:pathLst>
                  <a:path w="66" h="82">
                    <a:moveTo>
                      <a:pt x="0" y="77"/>
                    </a:moveTo>
                    <a:lnTo>
                      <a:pt x="0" y="47"/>
                    </a:lnTo>
                    <a:lnTo>
                      <a:pt x="11" y="43"/>
                    </a:lnTo>
                    <a:lnTo>
                      <a:pt x="11" y="55"/>
                    </a:lnTo>
                    <a:lnTo>
                      <a:pt x="27" y="58"/>
                    </a:lnTo>
                    <a:lnTo>
                      <a:pt x="27" y="45"/>
                    </a:lnTo>
                    <a:lnTo>
                      <a:pt x="27" y="20"/>
                    </a:lnTo>
                    <a:lnTo>
                      <a:pt x="43" y="11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1" y="0"/>
                    </a:lnTo>
                    <a:lnTo>
                      <a:pt x="65" y="0"/>
                    </a:lnTo>
                    <a:lnTo>
                      <a:pt x="65" y="38"/>
                    </a:lnTo>
                    <a:lnTo>
                      <a:pt x="57" y="50"/>
                    </a:lnTo>
                    <a:lnTo>
                      <a:pt x="38" y="54"/>
                    </a:lnTo>
                    <a:lnTo>
                      <a:pt x="32" y="64"/>
                    </a:lnTo>
                    <a:lnTo>
                      <a:pt x="11" y="74"/>
                    </a:lnTo>
                    <a:lnTo>
                      <a:pt x="11" y="81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7159320" y="5605920"/>
                <a:ext cx="64080" cy="105120"/>
              </a:xfrm>
              <a:custGeom>
                <a:avLst/>
                <a:gdLst/>
                <a:ahLst/>
                <a:rect l="l" t="t" r="r" b="b"/>
                <a:pathLst>
                  <a:path w="132" h="208">
                    <a:moveTo>
                      <a:pt x="0" y="101"/>
                    </a:moveTo>
                    <a:lnTo>
                      <a:pt x="0" y="38"/>
                    </a:lnTo>
                    <a:lnTo>
                      <a:pt x="12" y="38"/>
                    </a:lnTo>
                    <a:lnTo>
                      <a:pt x="12" y="76"/>
                    </a:lnTo>
                    <a:lnTo>
                      <a:pt x="29" y="71"/>
                    </a:lnTo>
                    <a:lnTo>
                      <a:pt x="29" y="60"/>
                    </a:lnTo>
                    <a:lnTo>
                      <a:pt x="54" y="57"/>
                    </a:lnTo>
                    <a:lnTo>
                      <a:pt x="54" y="20"/>
                    </a:lnTo>
                    <a:lnTo>
                      <a:pt x="31" y="11"/>
                    </a:lnTo>
                    <a:lnTo>
                      <a:pt x="83" y="0"/>
                    </a:lnTo>
                    <a:lnTo>
                      <a:pt x="83" y="35"/>
                    </a:lnTo>
                    <a:lnTo>
                      <a:pt x="121" y="35"/>
                    </a:lnTo>
                    <a:lnTo>
                      <a:pt x="121" y="187"/>
                    </a:lnTo>
                    <a:lnTo>
                      <a:pt x="131" y="190"/>
                    </a:lnTo>
                    <a:lnTo>
                      <a:pt x="105" y="207"/>
                    </a:lnTo>
                    <a:lnTo>
                      <a:pt x="83" y="198"/>
                    </a:lnTo>
                    <a:lnTo>
                      <a:pt x="83" y="162"/>
                    </a:lnTo>
                    <a:lnTo>
                      <a:pt x="102" y="148"/>
                    </a:lnTo>
                    <a:lnTo>
                      <a:pt x="83" y="141"/>
                    </a:lnTo>
                    <a:lnTo>
                      <a:pt x="83" y="47"/>
                    </a:lnTo>
                    <a:lnTo>
                      <a:pt x="73" y="47"/>
                    </a:lnTo>
                    <a:lnTo>
                      <a:pt x="54" y="70"/>
                    </a:lnTo>
                    <a:lnTo>
                      <a:pt x="46" y="76"/>
                    </a:lnTo>
                    <a:lnTo>
                      <a:pt x="29" y="88"/>
                    </a:lnTo>
                    <a:lnTo>
                      <a:pt x="12" y="95"/>
                    </a:lnTo>
                    <a:lnTo>
                      <a:pt x="12" y="107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7326000" y="5592240"/>
                <a:ext cx="9000" cy="7704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146"/>
                    </a:moveTo>
                    <a:lnTo>
                      <a:pt x="0" y="107"/>
                    </a:lnTo>
                    <a:lnTo>
                      <a:pt x="5" y="97"/>
                    </a:lnTo>
                    <a:lnTo>
                      <a:pt x="0" y="92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34"/>
                    </a:lnTo>
                    <a:lnTo>
                      <a:pt x="16" y="42"/>
                    </a:lnTo>
                    <a:lnTo>
                      <a:pt x="11" y="56"/>
                    </a:lnTo>
                    <a:lnTo>
                      <a:pt x="11" y="89"/>
                    </a:lnTo>
                    <a:lnTo>
                      <a:pt x="14" y="97"/>
                    </a:lnTo>
                    <a:lnTo>
                      <a:pt x="9" y="111"/>
                    </a:lnTo>
                    <a:lnTo>
                      <a:pt x="9" y="150"/>
                    </a:lnTo>
                    <a:lnTo>
                      <a:pt x="0" y="14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400000">
                <a:off x="7327800" y="5606640"/>
                <a:ext cx="9000" cy="81000"/>
              </a:xfrm>
              <a:custGeom>
                <a:avLst/>
                <a:gdLst/>
                <a:ahLst/>
                <a:rect l="l" t="t" r="r" b="b"/>
                <a:pathLst>
                  <a:path w="17" h="160">
                    <a:moveTo>
                      <a:pt x="16" y="159"/>
                    </a:moveTo>
                    <a:lnTo>
                      <a:pt x="0" y="155"/>
                    </a:lnTo>
                    <a:lnTo>
                      <a:pt x="0" y="114"/>
                    </a:lnTo>
                    <a:lnTo>
                      <a:pt x="11" y="103"/>
                    </a:lnTo>
                    <a:lnTo>
                      <a:pt x="9" y="106"/>
                    </a:lnTo>
                    <a:lnTo>
                      <a:pt x="0" y="95"/>
                    </a:lnTo>
                    <a:lnTo>
                      <a:pt x="0" y="58"/>
                    </a:lnTo>
                    <a:lnTo>
                      <a:pt x="11" y="49"/>
                    </a:lnTo>
                    <a:lnTo>
                      <a:pt x="0" y="39"/>
                    </a:lnTo>
                    <a:lnTo>
                      <a:pt x="0" y="3"/>
                    </a:lnTo>
                    <a:lnTo>
                      <a:pt x="16" y="0"/>
                    </a:lnTo>
                    <a:lnTo>
                      <a:pt x="16" y="43"/>
                    </a:lnTo>
                    <a:lnTo>
                      <a:pt x="16" y="68"/>
                    </a:lnTo>
                    <a:lnTo>
                      <a:pt x="16" y="92"/>
                    </a:lnTo>
                    <a:lnTo>
                      <a:pt x="16" y="132"/>
                    </a:lnTo>
                    <a:lnTo>
                      <a:pt x="16" y="159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7328160" y="5627520"/>
                <a:ext cx="29880" cy="88200"/>
              </a:xfrm>
              <a:custGeom>
                <a:avLst/>
                <a:gdLst/>
                <a:ahLst/>
                <a:rect l="l" t="t" r="r" b="b"/>
                <a:pathLst>
                  <a:path w="61" h="172">
                    <a:moveTo>
                      <a:pt x="0" y="111"/>
                    </a:moveTo>
                    <a:lnTo>
                      <a:pt x="0" y="75"/>
                    </a:lnTo>
                    <a:lnTo>
                      <a:pt x="14" y="71"/>
                    </a:lnTo>
                    <a:lnTo>
                      <a:pt x="14" y="104"/>
                    </a:lnTo>
                    <a:lnTo>
                      <a:pt x="35" y="98"/>
                    </a:lnTo>
                    <a:lnTo>
                      <a:pt x="35" y="65"/>
                    </a:lnTo>
                    <a:lnTo>
                      <a:pt x="45" y="54"/>
                    </a:lnTo>
                    <a:lnTo>
                      <a:pt x="35" y="47"/>
                    </a:lnTo>
                    <a:lnTo>
                      <a:pt x="35" y="8"/>
                    </a:lnTo>
                    <a:lnTo>
                      <a:pt x="60" y="0"/>
                    </a:lnTo>
                    <a:lnTo>
                      <a:pt x="60" y="171"/>
                    </a:lnTo>
                    <a:lnTo>
                      <a:pt x="35" y="167"/>
                    </a:lnTo>
                    <a:lnTo>
                      <a:pt x="35" y="117"/>
                    </a:lnTo>
                    <a:lnTo>
                      <a:pt x="49" y="116"/>
                    </a:lnTo>
                    <a:lnTo>
                      <a:pt x="35" y="110"/>
                    </a:lnTo>
                    <a:lnTo>
                      <a:pt x="14" y="116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7415640" y="5621760"/>
                <a:ext cx="10800" cy="1980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0" y="29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9" y="30"/>
                    </a:lnTo>
                    <a:lnTo>
                      <a:pt x="21" y="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7476120" y="5591520"/>
                <a:ext cx="9000" cy="78840"/>
              </a:xfrm>
              <a:custGeom>
                <a:avLst/>
                <a:gdLst/>
                <a:ahLst/>
                <a:rect l="l" t="t" r="r" b="b"/>
                <a:pathLst>
                  <a:path w="18" h="156">
                    <a:moveTo>
                      <a:pt x="0" y="137"/>
                    </a:moveTo>
                    <a:lnTo>
                      <a:pt x="0" y="115"/>
                    </a:lnTo>
                    <a:lnTo>
                      <a:pt x="8" y="98"/>
                    </a:lnTo>
                    <a:lnTo>
                      <a:pt x="0" y="94"/>
                    </a:lnTo>
                    <a:lnTo>
                      <a:pt x="0" y="60"/>
                    </a:lnTo>
                    <a:lnTo>
                      <a:pt x="8" y="48"/>
                    </a:lnTo>
                    <a:lnTo>
                      <a:pt x="0" y="43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39"/>
                    </a:lnTo>
                    <a:lnTo>
                      <a:pt x="8" y="57"/>
                    </a:lnTo>
                    <a:lnTo>
                      <a:pt x="8" y="58"/>
                    </a:lnTo>
                    <a:lnTo>
                      <a:pt x="8" y="92"/>
                    </a:lnTo>
                    <a:lnTo>
                      <a:pt x="17" y="103"/>
                    </a:lnTo>
                    <a:lnTo>
                      <a:pt x="8" y="118"/>
                    </a:lnTo>
                    <a:lnTo>
                      <a:pt x="8" y="146"/>
                    </a:lnTo>
                    <a:lnTo>
                      <a:pt x="14" y="155"/>
                    </a:lnTo>
                    <a:lnTo>
                      <a:pt x="0" y="137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400000">
                <a:off x="7470720" y="5590080"/>
                <a:ext cx="9000" cy="114120"/>
              </a:xfrm>
              <a:custGeom>
                <a:avLst/>
                <a:gdLst/>
                <a:ahLst/>
                <a:rect l="l" t="t" r="r" b="b"/>
                <a:pathLst>
                  <a:path w="17" h="223">
                    <a:moveTo>
                      <a:pt x="0" y="217"/>
                    </a:moveTo>
                    <a:lnTo>
                      <a:pt x="0" y="178"/>
                    </a:lnTo>
                    <a:lnTo>
                      <a:pt x="9" y="168"/>
                    </a:lnTo>
                    <a:lnTo>
                      <a:pt x="0" y="156"/>
                    </a:lnTo>
                    <a:lnTo>
                      <a:pt x="0" y="118"/>
                    </a:lnTo>
                    <a:lnTo>
                      <a:pt x="9" y="106"/>
                    </a:lnTo>
                    <a:lnTo>
                      <a:pt x="0" y="98"/>
                    </a:lnTo>
                    <a:lnTo>
                      <a:pt x="0" y="63"/>
                    </a:lnTo>
                    <a:lnTo>
                      <a:pt x="9" y="54"/>
                    </a:lnTo>
                    <a:lnTo>
                      <a:pt x="0" y="35"/>
                    </a:lnTo>
                    <a:lnTo>
                      <a:pt x="0" y="9"/>
                    </a:lnTo>
                    <a:lnTo>
                      <a:pt x="16" y="0"/>
                    </a:lnTo>
                    <a:lnTo>
                      <a:pt x="16" y="222"/>
                    </a:lnTo>
                    <a:lnTo>
                      <a:pt x="0" y="217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400000">
                <a:off x="7449480" y="5633280"/>
                <a:ext cx="28800" cy="77040"/>
              </a:xfrm>
              <a:custGeom>
                <a:avLst/>
                <a:gdLst/>
                <a:ahLst/>
                <a:rect l="l" t="t" r="r" b="b"/>
                <a:pathLst>
                  <a:path w="58" h="152">
                    <a:moveTo>
                      <a:pt x="0" y="136"/>
                    </a:moveTo>
                    <a:lnTo>
                      <a:pt x="0" y="107"/>
                    </a:lnTo>
                    <a:lnTo>
                      <a:pt x="11" y="92"/>
                    </a:lnTo>
                    <a:lnTo>
                      <a:pt x="0" y="76"/>
                    </a:lnTo>
                    <a:lnTo>
                      <a:pt x="0" y="46"/>
                    </a:lnTo>
                    <a:lnTo>
                      <a:pt x="11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8" y="31"/>
                    </a:lnTo>
                    <a:lnTo>
                      <a:pt x="43" y="16"/>
                    </a:lnTo>
                    <a:lnTo>
                      <a:pt x="43" y="136"/>
                    </a:lnTo>
                    <a:lnTo>
                      <a:pt x="57" y="151"/>
                    </a:lnTo>
                    <a:lnTo>
                      <a:pt x="28" y="136"/>
                    </a:lnTo>
                    <a:lnTo>
                      <a:pt x="28" y="92"/>
                    </a:lnTo>
                    <a:lnTo>
                      <a:pt x="39" y="76"/>
                    </a:lnTo>
                    <a:lnTo>
                      <a:pt x="28" y="61"/>
                    </a:lnTo>
                    <a:lnTo>
                      <a:pt x="28" y="33"/>
                    </a:lnTo>
                    <a:lnTo>
                      <a:pt x="14" y="46"/>
                    </a:lnTo>
                    <a:lnTo>
                      <a:pt x="14" y="151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400000">
                <a:off x="7484040" y="5620320"/>
                <a:ext cx="25920" cy="132120"/>
              </a:xfrm>
              <a:custGeom>
                <a:avLst/>
                <a:gdLst/>
                <a:ahLst/>
                <a:rect l="l" t="t" r="r" b="b"/>
                <a:pathLst>
                  <a:path w="52" h="259">
                    <a:moveTo>
                      <a:pt x="26" y="250"/>
                    </a:moveTo>
                    <a:lnTo>
                      <a:pt x="26" y="137"/>
                    </a:lnTo>
                    <a:lnTo>
                      <a:pt x="15" y="124"/>
                    </a:lnTo>
                    <a:lnTo>
                      <a:pt x="0" y="124"/>
                    </a:lnTo>
                    <a:lnTo>
                      <a:pt x="0" y="82"/>
                    </a:lnTo>
                    <a:lnTo>
                      <a:pt x="15" y="82"/>
                    </a:lnTo>
                    <a:lnTo>
                      <a:pt x="15" y="110"/>
                    </a:lnTo>
                    <a:lnTo>
                      <a:pt x="26" y="124"/>
                    </a:lnTo>
                    <a:lnTo>
                      <a:pt x="45" y="110"/>
                    </a:lnTo>
                    <a:lnTo>
                      <a:pt x="26" y="96"/>
                    </a:lnTo>
                    <a:lnTo>
                      <a:pt x="26" y="69"/>
                    </a:lnTo>
                    <a:lnTo>
                      <a:pt x="45" y="55"/>
                    </a:lnTo>
                    <a:lnTo>
                      <a:pt x="26" y="41"/>
                    </a:lnTo>
                    <a:lnTo>
                      <a:pt x="26" y="14"/>
                    </a:lnTo>
                    <a:lnTo>
                      <a:pt x="51" y="0"/>
                    </a:lnTo>
                    <a:lnTo>
                      <a:pt x="51" y="258"/>
                    </a:lnTo>
                    <a:lnTo>
                      <a:pt x="26" y="250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7114320" y="5580360"/>
                <a:ext cx="9000" cy="3276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0" y="61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62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7260840" y="558000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6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7385400" y="558000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65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5f5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7318080" y="5422680"/>
                <a:ext cx="21960" cy="140400"/>
              </a:xfrm>
              <a:custGeom>
                <a:avLst/>
                <a:gdLst/>
                <a:ahLst/>
                <a:rect l="l" t="t" r="r" b="b"/>
                <a:pathLst>
                  <a:path w="44" h="275">
                    <a:moveTo>
                      <a:pt x="28" y="274"/>
                    </a:moveTo>
                    <a:lnTo>
                      <a:pt x="28" y="164"/>
                    </a:lnTo>
                    <a:lnTo>
                      <a:pt x="43" y="164"/>
                    </a:lnTo>
                    <a:lnTo>
                      <a:pt x="43" y="110"/>
                    </a:lnTo>
                    <a:lnTo>
                      <a:pt x="28" y="11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5" y="110"/>
                    </a:lnTo>
                    <a:lnTo>
                      <a:pt x="0" y="110"/>
                    </a:lnTo>
                    <a:lnTo>
                      <a:pt x="0" y="164"/>
                    </a:lnTo>
                    <a:lnTo>
                      <a:pt x="15" y="164"/>
                    </a:lnTo>
                    <a:lnTo>
                      <a:pt x="15" y="274"/>
                    </a:lnTo>
                    <a:lnTo>
                      <a:pt x="28" y="274"/>
                    </a:lnTo>
                  </a:path>
                </a:pathLst>
              </a:custGeom>
              <a:solidFill>
                <a:srgbClr val="575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400000">
                <a:off x="7322400" y="5426640"/>
                <a:ext cx="20880" cy="141120"/>
              </a:xfrm>
              <a:custGeom>
                <a:avLst/>
                <a:gdLst/>
                <a:ahLst/>
                <a:rect l="l" t="t" r="r" b="b"/>
                <a:pathLst>
                  <a:path w="44" h="278">
                    <a:moveTo>
                      <a:pt x="28" y="277"/>
                    </a:moveTo>
                    <a:lnTo>
                      <a:pt x="28" y="165"/>
                    </a:lnTo>
                    <a:lnTo>
                      <a:pt x="43" y="165"/>
                    </a:lnTo>
                    <a:lnTo>
                      <a:pt x="43" y="110"/>
                    </a:lnTo>
                    <a:lnTo>
                      <a:pt x="28" y="11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5" y="110"/>
                    </a:lnTo>
                    <a:lnTo>
                      <a:pt x="0" y="110"/>
                    </a:lnTo>
                    <a:lnTo>
                      <a:pt x="0" y="165"/>
                    </a:lnTo>
                    <a:lnTo>
                      <a:pt x="15" y="165"/>
                    </a:lnTo>
                    <a:lnTo>
                      <a:pt x="15" y="277"/>
                    </a:lnTo>
                    <a:lnTo>
                      <a:pt x="28" y="277"/>
                    </a:lnTo>
                  </a:path>
                </a:pathLst>
              </a:custGeom>
              <a:solidFill>
                <a:srgbClr val="978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7320240" y="5423040"/>
                <a:ext cx="20880" cy="142200"/>
              </a:xfrm>
              <a:custGeom>
                <a:avLst/>
                <a:gdLst/>
                <a:ahLst/>
                <a:rect l="l" t="t" r="r" b="b"/>
                <a:pathLst>
                  <a:path w="43" h="278">
                    <a:moveTo>
                      <a:pt x="29" y="277"/>
                    </a:moveTo>
                    <a:lnTo>
                      <a:pt x="29" y="165"/>
                    </a:lnTo>
                    <a:lnTo>
                      <a:pt x="42" y="165"/>
                    </a:lnTo>
                    <a:lnTo>
                      <a:pt x="42" y="110"/>
                    </a:lnTo>
                    <a:lnTo>
                      <a:pt x="29" y="110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14" y="110"/>
                    </a:lnTo>
                    <a:lnTo>
                      <a:pt x="0" y="110"/>
                    </a:lnTo>
                    <a:lnTo>
                      <a:pt x="0" y="165"/>
                    </a:lnTo>
                    <a:lnTo>
                      <a:pt x="14" y="165"/>
                    </a:lnTo>
                    <a:lnTo>
                      <a:pt x="14" y="277"/>
                    </a:lnTo>
                    <a:lnTo>
                      <a:pt x="29" y="2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7125840" y="5224680"/>
                <a:ext cx="16920" cy="619560"/>
              </a:xfrm>
              <a:custGeom>
                <a:avLst/>
                <a:gdLst/>
                <a:ahLst/>
                <a:rect l="l" t="t" r="r" b="b"/>
                <a:pathLst>
                  <a:path w="36" h="1214">
                    <a:moveTo>
                      <a:pt x="0" y="1213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35" y="1213"/>
                    </a:lnTo>
                    <a:lnTo>
                      <a:pt x="0" y="1213"/>
                    </a:lnTo>
                  </a:path>
                </a:pathLst>
              </a:custGeom>
              <a:solidFill>
                <a:srgbClr val="77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00000">
                <a:off x="7124400" y="5225040"/>
                <a:ext cx="23040" cy="624600"/>
              </a:xfrm>
              <a:custGeom>
                <a:avLst/>
                <a:gdLst/>
                <a:ahLst/>
                <a:rect l="l" t="t" r="r" b="b"/>
                <a:pathLst>
                  <a:path w="47" h="1224">
                    <a:moveTo>
                      <a:pt x="46" y="1223"/>
                    </a:moveTo>
                    <a:lnTo>
                      <a:pt x="0" y="1223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2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00000">
                <a:off x="7212600" y="5293440"/>
                <a:ext cx="27000" cy="230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7093440" y="5298120"/>
                <a:ext cx="25920" cy="2268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228440" y="5217120"/>
                <a:ext cx="6120" cy="86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7107840" y="5305320"/>
                <a:ext cx="110160" cy="7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106040" y="5213880"/>
                <a:ext cx="124200" cy="9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48880" y="5146920"/>
                <a:ext cx="79200" cy="59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400000">
                <a:off x="7134480" y="5126760"/>
                <a:ext cx="27000" cy="230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400000">
                <a:off x="6988680" y="5333760"/>
                <a:ext cx="27000" cy="237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012440" y="5312160"/>
                <a:ext cx="92880" cy="29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400000">
                <a:off x="7307280" y="5254920"/>
                <a:ext cx="27000" cy="237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7230240" y="5263200"/>
                <a:ext cx="96120" cy="41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20520" y="5197320"/>
                <a:ext cx="27000" cy="22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094200" y="2838600"/>
            <a:ext cx="35686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mand for acces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11840" y="4273560"/>
            <a:ext cx="2984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formation sprea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4160" y="1441440"/>
            <a:ext cx="24559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rowing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346040" y="1965240"/>
            <a:ext cx="1184400" cy="10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CD68-5D22-4FFB-9C27-C831D4213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tFlow Benef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32880" y="1438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ervice Provi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Peering Arrange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Network Plan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Traffic Engineer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Accounting and Bill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Security Monitor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635360" y="143820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Internet Access Moni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User Moni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Application Moni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Security Moni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C22F-BBD2-486C-BB34-DCD2DE6F6B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tFlow ver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802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isco (and oth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Standard and most comm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Specific to 6500 and 7600 switch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Aggregation schem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ETF (IPFIX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Flexible, extensible expor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B59F-4C37-42EB-B1C3-B78B448031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ata Ex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861840" y="3927240"/>
            <a:ext cx="802656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ired flows are grouped together into “Netflow Export” UDP datagrams for export to a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DP is used for speed and simpli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1" name="" descr=""/>
          <p:cNvPicPr/>
          <p:nvPr/>
        </p:nvPicPr>
        <p:blipFill>
          <a:blip r:embed="rId1"/>
          <a:stretch/>
        </p:blipFill>
        <p:spPr>
          <a:xfrm>
            <a:off x="1257480" y="1359000"/>
            <a:ext cx="1617480" cy="955440"/>
          </a:xfrm>
          <a:prstGeom prst="rect">
            <a:avLst/>
          </a:prstGeom>
          <a:ln w="0">
            <a:noFill/>
          </a:ln>
        </p:spPr>
      </p:pic>
      <p:sp>
        <p:nvSpPr>
          <p:cNvPr id="1922" name=""/>
          <p:cNvSpPr/>
          <p:nvPr/>
        </p:nvSpPr>
        <p:spPr>
          <a:xfrm>
            <a:off x="2643120" y="2408400"/>
            <a:ext cx="733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643120" y="2629080"/>
            <a:ext cx="733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643120" y="2859120"/>
            <a:ext cx="733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43120" y="3086280"/>
            <a:ext cx="733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774800" y="1889280"/>
            <a:ext cx="714240" cy="53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424160" y="1955880"/>
            <a:ext cx="1341360" cy="1633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060200" y="3603600"/>
            <a:ext cx="20124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Flow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9" name=""/>
          <p:cNvGraphicFramePr/>
          <p:nvPr/>
        </p:nvGraphicFramePr>
        <p:xfrm>
          <a:off x="1806480" y="2035080"/>
          <a:ext cx="569880" cy="62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2035080"/>
                    <a:ext cx="569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1" name=""/>
          <p:cNvSpPr/>
          <p:nvPr/>
        </p:nvSpPr>
        <p:spPr>
          <a:xfrm>
            <a:off x="1650960" y="2608200"/>
            <a:ext cx="774720" cy="23652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720800" y="2658960"/>
            <a:ext cx="115920" cy="11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93960" y="2658960"/>
            <a:ext cx="115920" cy="11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066760" y="2658960"/>
            <a:ext cx="115920" cy="11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259000" y="2658960"/>
            <a:ext cx="115920" cy="11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650960" y="2936880"/>
            <a:ext cx="774720" cy="23508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720800" y="2986200"/>
            <a:ext cx="11592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893960" y="2986200"/>
            <a:ext cx="11592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066760" y="2986200"/>
            <a:ext cx="11592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259000" y="2986200"/>
            <a:ext cx="11592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650960" y="3265560"/>
            <a:ext cx="774720" cy="23472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720800" y="3314880"/>
            <a:ext cx="115920" cy="115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893960" y="3314880"/>
            <a:ext cx="115920" cy="115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066760" y="3314880"/>
            <a:ext cx="115920" cy="115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259000" y="3314880"/>
            <a:ext cx="115920" cy="115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3657600" y="1562040"/>
            <a:ext cx="3758400" cy="2500560"/>
            <a:chOff x="3657600" y="1562040"/>
            <a:chExt cx="3758400" cy="2500560"/>
          </a:xfrm>
        </p:grpSpPr>
        <p:sp>
          <p:nvSpPr>
            <p:cNvPr id="1947" name=""/>
            <p:cNvSpPr/>
            <p:nvPr/>
          </p:nvSpPr>
          <p:spPr>
            <a:xfrm>
              <a:off x="3657600" y="1562040"/>
              <a:ext cx="3758400" cy="2500560"/>
            </a:xfrm>
            <a:custGeom>
              <a:avLst/>
              <a:gdLst>
                <a:gd name="textAreaLeft" fmla="*/ 587160 w 3758400"/>
                <a:gd name="textAreaRight" fmla="*/ 3288600 w 3758400"/>
                <a:gd name="textAreaTop" fmla="*/ 624960 h 2500560"/>
                <a:gd name="textAreaBottom" fmla="*/ 1875600 h 250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331520" y="2013840"/>
              <a:ext cx="2007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quence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rd 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sio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08EA-A805-4E69-88BA-9F121FE1F21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Flow Age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861840" y="1514160"/>
            <a:ext cx="80265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is a flow expir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ransport is completed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 (TCP FIN or RST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fter 15 sec of traffic inactivity (the only way for UDP)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 The inactive tim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fter 30 min of traffic activity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 The active tim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he cache is becoming ful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48E7-C46F-43E0-90EF-0DC247FEA2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tFlow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861840" y="1514160"/>
            <a:ext cx="80265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 switching pa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 flow identifier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ngr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ffic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low is unidirect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 unicast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0876-3FF2-4010-81F3-8882DDCF3E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hy SNMP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03800" y="2522520"/>
            <a:ext cx="884160" cy="681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56320" y="1424160"/>
            <a:ext cx="4356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ifferent kind of equi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672240" y="2514600"/>
          <a:ext cx="57780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72240" y="2514600"/>
                    <a:ext cx="5778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7761240" y="2335320"/>
            <a:ext cx="598320" cy="352440"/>
            <a:chOff x="7761240" y="2335320"/>
            <a:chExt cx="598320" cy="352440"/>
          </a:xfrm>
        </p:grpSpPr>
        <p:sp>
          <p:nvSpPr>
            <p:cNvPr id="137" name=""/>
            <p:cNvSpPr/>
            <p:nvPr/>
          </p:nvSpPr>
          <p:spPr>
            <a:xfrm>
              <a:off x="7764120" y="239724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67360" y="233532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827840" y="2405160"/>
              <a:ext cx="195120" cy="100080"/>
              <a:chOff x="7827840" y="2405160"/>
              <a:chExt cx="195120" cy="100080"/>
            </a:xfrm>
          </p:grpSpPr>
          <p:sp>
            <p:nvSpPr>
              <p:cNvPr id="140" name=""/>
              <p:cNvSpPr/>
              <p:nvPr/>
            </p:nvSpPr>
            <p:spPr>
              <a:xfrm>
                <a:off x="7919640" y="240516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27840" y="240516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27840" y="244476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89760" y="246708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95880" y="246708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95960" y="242244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19800" y="2405160"/>
              <a:ext cx="182520" cy="100080"/>
              <a:chOff x="8119800" y="2405160"/>
              <a:chExt cx="182520" cy="100080"/>
            </a:xfrm>
          </p:grpSpPr>
          <p:sp>
            <p:nvSpPr>
              <p:cNvPr id="147" name=""/>
              <p:cNvSpPr/>
              <p:nvPr/>
            </p:nvSpPr>
            <p:spPr>
              <a:xfrm>
                <a:off x="8200800" y="240516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119800" y="2405160"/>
                <a:ext cx="182520" cy="100080"/>
                <a:chOff x="8119800" y="2405160"/>
                <a:chExt cx="182520" cy="100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19800" y="240516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240400" y="244476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229240" y="246708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0960" y="246708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119800" y="242244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8008920" y="2351160"/>
              <a:ext cx="121680" cy="103320"/>
              <a:chOff x="8008920" y="2351160"/>
              <a:chExt cx="121680" cy="103320"/>
            </a:xfrm>
          </p:grpSpPr>
          <p:sp>
            <p:nvSpPr>
              <p:cNvPr id="155" name=""/>
              <p:cNvSpPr/>
              <p:nvPr/>
            </p:nvSpPr>
            <p:spPr>
              <a:xfrm>
                <a:off x="8103960" y="23749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08920" y="23749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08920" y="235116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13600" y="242748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7975440" y="2459160"/>
              <a:ext cx="176040" cy="152280"/>
              <a:chOff x="7975440" y="2459160"/>
              <a:chExt cx="176040" cy="152280"/>
            </a:xfrm>
          </p:grpSpPr>
          <p:sp>
            <p:nvSpPr>
              <p:cNvPr id="160" name=""/>
              <p:cNvSpPr/>
              <p:nvPr/>
            </p:nvSpPr>
            <p:spPr>
              <a:xfrm>
                <a:off x="7975440" y="245916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975440" y="252720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62560" y="252720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8359560" y="247824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61240" y="247356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378400" y="3786120"/>
            <a:ext cx="862200" cy="209520"/>
            <a:chOff x="5378400" y="3786120"/>
            <a:chExt cx="862200" cy="209520"/>
          </a:xfrm>
        </p:grpSpPr>
        <p:sp>
          <p:nvSpPr>
            <p:cNvPr id="166" name=""/>
            <p:cNvSpPr/>
            <p:nvPr/>
          </p:nvSpPr>
          <p:spPr>
            <a:xfrm>
              <a:off x="5378400" y="3786120"/>
              <a:ext cx="862200" cy="209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83440" y="3828960"/>
              <a:ext cx="852480" cy="34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418360" y="3884400"/>
              <a:ext cx="247680" cy="111240"/>
              <a:chOff x="5418360" y="3884400"/>
              <a:chExt cx="247680" cy="111240"/>
            </a:xfrm>
          </p:grpSpPr>
          <p:sp>
            <p:nvSpPr>
              <p:cNvPr id="169" name=""/>
              <p:cNvSpPr/>
              <p:nvPr/>
            </p:nvSpPr>
            <p:spPr>
              <a:xfrm>
                <a:off x="5418360" y="3884400"/>
                <a:ext cx="230040" cy="96840"/>
              </a:xfrm>
              <a:custGeom>
                <a:avLst/>
                <a:gdLst/>
                <a:ahLst/>
                <a:rect l="l" t="t" r="r" b="b"/>
                <a:pathLst>
                  <a:path w="145" h="61">
                    <a:moveTo>
                      <a:pt x="144" y="55"/>
                    </a:moveTo>
                    <a:lnTo>
                      <a:pt x="144" y="55"/>
                    </a:lnTo>
                    <a:lnTo>
                      <a:pt x="144" y="56"/>
                    </a:lnTo>
                    <a:lnTo>
                      <a:pt x="144" y="56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2" y="57"/>
                    </a:lnTo>
                    <a:lnTo>
                      <a:pt x="142" y="58"/>
                    </a:lnTo>
                    <a:lnTo>
                      <a:pt x="141" y="58"/>
                    </a:lnTo>
                    <a:lnTo>
                      <a:pt x="140" y="58"/>
                    </a:lnTo>
                    <a:lnTo>
                      <a:pt x="139" y="59"/>
                    </a:lnTo>
                    <a:lnTo>
                      <a:pt x="137" y="59"/>
                    </a:lnTo>
                    <a:lnTo>
                      <a:pt x="136" y="59"/>
                    </a:lnTo>
                    <a:lnTo>
                      <a:pt x="135" y="59"/>
                    </a:lnTo>
                    <a:lnTo>
                      <a:pt x="134" y="60"/>
                    </a:lnTo>
                    <a:lnTo>
                      <a:pt x="133" y="60"/>
                    </a:lnTo>
                    <a:lnTo>
                      <a:pt x="132" y="60"/>
                    </a:lnTo>
                    <a:lnTo>
                      <a:pt x="131" y="60"/>
                    </a:lnTo>
                    <a:lnTo>
                      <a:pt x="131" y="6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129" y="58"/>
                    </a:lnTo>
                    <a:lnTo>
                      <a:pt x="129" y="58"/>
                    </a:lnTo>
                    <a:lnTo>
                      <a:pt x="129" y="57"/>
                    </a:lnTo>
                    <a:lnTo>
                      <a:pt x="129" y="3"/>
                    </a:lnTo>
                    <a:lnTo>
                      <a:pt x="129" y="3"/>
                    </a:lnTo>
                    <a:lnTo>
                      <a:pt x="129" y="2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5" y="1"/>
                    </a:lnTo>
                    <a:lnTo>
                      <a:pt x="136" y="1"/>
                    </a:lnTo>
                    <a:lnTo>
                      <a:pt x="137" y="1"/>
                    </a:lnTo>
                    <a:lnTo>
                      <a:pt x="139" y="1"/>
                    </a:lnTo>
                    <a:lnTo>
                      <a:pt x="140" y="2"/>
                    </a:lnTo>
                    <a:lnTo>
                      <a:pt x="141" y="2"/>
                    </a:lnTo>
                    <a:lnTo>
                      <a:pt x="142" y="2"/>
                    </a:lnTo>
                    <a:lnTo>
                      <a:pt x="142" y="3"/>
                    </a:lnTo>
                    <a:lnTo>
                      <a:pt x="143" y="3"/>
                    </a:lnTo>
                    <a:lnTo>
                      <a:pt x="143" y="3"/>
                    </a:lnTo>
                    <a:lnTo>
                      <a:pt x="143" y="3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5"/>
                    </a:lnTo>
                    <a:lnTo>
                      <a:pt x="112" y="55"/>
                    </a:lnTo>
                    <a:lnTo>
                      <a:pt x="112" y="55"/>
                    </a:lnTo>
                    <a:lnTo>
                      <a:pt x="112" y="56"/>
                    </a:lnTo>
                    <a:lnTo>
                      <a:pt x="111" y="56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09" y="58"/>
                    </a:lnTo>
                    <a:lnTo>
                      <a:pt x="108" y="58"/>
                    </a:lnTo>
                    <a:lnTo>
                      <a:pt x="107" y="58"/>
                    </a:lnTo>
                    <a:lnTo>
                      <a:pt x="106" y="59"/>
                    </a:lnTo>
                    <a:lnTo>
                      <a:pt x="105" y="59"/>
                    </a:lnTo>
                    <a:lnTo>
                      <a:pt x="104" y="59"/>
                    </a:lnTo>
                    <a:lnTo>
                      <a:pt x="103" y="59"/>
                    </a:lnTo>
                    <a:lnTo>
                      <a:pt x="102" y="60"/>
                    </a:lnTo>
                    <a:lnTo>
                      <a:pt x="101" y="60"/>
                    </a:lnTo>
                    <a:lnTo>
                      <a:pt x="100" y="60"/>
                    </a:lnTo>
                    <a:lnTo>
                      <a:pt x="99" y="60"/>
                    </a:lnTo>
                    <a:lnTo>
                      <a:pt x="98" y="60"/>
                    </a:lnTo>
                    <a:lnTo>
                      <a:pt x="98" y="59"/>
                    </a:lnTo>
                    <a:lnTo>
                      <a:pt x="97" y="59"/>
                    </a:lnTo>
                    <a:lnTo>
                      <a:pt x="97" y="58"/>
                    </a:lnTo>
                    <a:lnTo>
                      <a:pt x="97" y="58"/>
                    </a:lnTo>
                    <a:lnTo>
                      <a:pt x="97" y="57"/>
                    </a:lnTo>
                    <a:lnTo>
                      <a:pt x="97" y="3"/>
                    </a:lnTo>
                    <a:lnTo>
                      <a:pt x="97" y="3"/>
                    </a:lnTo>
                    <a:lnTo>
                      <a:pt x="97" y="2"/>
                    </a:lnTo>
                    <a:lnTo>
                      <a:pt x="97" y="1"/>
                    </a:lnTo>
                    <a:lnTo>
                      <a:pt x="98" y="1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1"/>
                    </a:lnTo>
                    <a:lnTo>
                      <a:pt x="104" y="1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7" y="2"/>
                    </a:lnTo>
                    <a:lnTo>
                      <a:pt x="108" y="2"/>
                    </a:lnTo>
                    <a:lnTo>
                      <a:pt x="109" y="2"/>
                    </a:lnTo>
                    <a:lnTo>
                      <a:pt x="110" y="3"/>
                    </a:lnTo>
                    <a:lnTo>
                      <a:pt x="110" y="3"/>
                    </a:lnTo>
                    <a:lnTo>
                      <a:pt x="111" y="3"/>
                    </a:lnTo>
                    <a:lnTo>
                      <a:pt x="111" y="3"/>
                    </a:lnTo>
                    <a:lnTo>
                      <a:pt x="111" y="4"/>
                    </a:lnTo>
                    <a:lnTo>
                      <a:pt x="112" y="4"/>
                    </a:lnTo>
                    <a:lnTo>
                      <a:pt x="112" y="5"/>
                    </a:lnTo>
                    <a:lnTo>
                      <a:pt x="112" y="5"/>
                    </a:lnTo>
                    <a:lnTo>
                      <a:pt x="112" y="55"/>
                    </a:lnTo>
                    <a:lnTo>
                      <a:pt x="80" y="55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7" y="58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59"/>
                    </a:lnTo>
                    <a:lnTo>
                      <a:pt x="71" y="59"/>
                    </a:lnTo>
                    <a:lnTo>
                      <a:pt x="69" y="60"/>
                    </a:lnTo>
                    <a:lnTo>
                      <a:pt x="68" y="60"/>
                    </a:lnTo>
                    <a:lnTo>
                      <a:pt x="67" y="60"/>
                    </a:lnTo>
                    <a:lnTo>
                      <a:pt x="67" y="60"/>
                    </a:lnTo>
                    <a:lnTo>
                      <a:pt x="66" y="60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1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4" y="1"/>
                    </a:lnTo>
                    <a:lnTo>
                      <a:pt x="75" y="2"/>
                    </a:lnTo>
                    <a:lnTo>
                      <a:pt x="76" y="2"/>
                    </a:lnTo>
                    <a:lnTo>
                      <a:pt x="77" y="2"/>
                    </a:lnTo>
                    <a:lnTo>
                      <a:pt x="78" y="3"/>
                    </a:lnTo>
                    <a:lnTo>
                      <a:pt x="78" y="3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80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6"/>
                    </a:lnTo>
                    <a:lnTo>
                      <a:pt x="47" y="56"/>
                    </a:lnTo>
                    <a:lnTo>
                      <a:pt x="47" y="57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5" y="57"/>
                    </a:lnTo>
                    <a:lnTo>
                      <a:pt x="45" y="58"/>
                    </a:lnTo>
                    <a:lnTo>
                      <a:pt x="44" y="58"/>
                    </a:lnTo>
                    <a:lnTo>
                      <a:pt x="43" y="58"/>
                    </a:lnTo>
                    <a:lnTo>
                      <a:pt x="42" y="59"/>
                    </a:lnTo>
                    <a:lnTo>
                      <a:pt x="41" y="59"/>
                    </a:lnTo>
                    <a:lnTo>
                      <a:pt x="39" y="59"/>
                    </a:lnTo>
                    <a:lnTo>
                      <a:pt x="38" y="59"/>
                    </a:lnTo>
                    <a:lnTo>
                      <a:pt x="37" y="60"/>
                    </a:lnTo>
                    <a:lnTo>
                      <a:pt x="36" y="60"/>
                    </a:lnTo>
                    <a:lnTo>
                      <a:pt x="35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3" y="58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3" y="58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5"/>
                    </a:lnTo>
                    <a:lnTo>
                      <a:pt x="144" y="5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26080" y="3884400"/>
                <a:ext cx="27000" cy="9864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6" y="56"/>
                    </a:moveTo>
                    <a:lnTo>
                      <a:pt x="16" y="56"/>
                    </a:lnTo>
                    <a:lnTo>
                      <a:pt x="16" y="56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3" y="58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1" y="61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573880" y="3884400"/>
                <a:ext cx="27000" cy="9864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6" y="56"/>
                    </a:moveTo>
                    <a:lnTo>
                      <a:pt x="16" y="56"/>
                    </a:lnTo>
                    <a:lnTo>
                      <a:pt x="16" y="56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3" y="58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21320" y="3884400"/>
                <a:ext cx="27000" cy="9864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6" y="56"/>
                    </a:moveTo>
                    <a:lnTo>
                      <a:pt x="16" y="56"/>
                    </a:lnTo>
                    <a:lnTo>
                      <a:pt x="16" y="56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3" y="58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69120" y="3884400"/>
                <a:ext cx="27000" cy="9864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6" y="56"/>
                    </a:moveTo>
                    <a:lnTo>
                      <a:pt x="16" y="56"/>
                    </a:lnTo>
                    <a:lnTo>
                      <a:pt x="16" y="56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3" y="58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18360" y="3884400"/>
                <a:ext cx="27000" cy="9864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6" y="56"/>
                    </a:moveTo>
                    <a:lnTo>
                      <a:pt x="16" y="56"/>
                    </a:lnTo>
                    <a:lnTo>
                      <a:pt x="16" y="56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3" y="58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30960" y="3886200"/>
                <a:ext cx="217440" cy="93600"/>
              </a:xfrm>
              <a:custGeom>
                <a:avLst/>
                <a:gdLst/>
                <a:ahLst/>
                <a:rect l="l" t="t" r="r" b="b"/>
                <a:pathLst>
                  <a:path w="137" h="59">
                    <a:moveTo>
                      <a:pt x="136" y="54"/>
                    </a:moveTo>
                    <a:lnTo>
                      <a:pt x="136" y="54"/>
                    </a:lnTo>
                    <a:lnTo>
                      <a:pt x="136" y="55"/>
                    </a:lnTo>
                    <a:lnTo>
                      <a:pt x="136" y="55"/>
                    </a:lnTo>
                    <a:lnTo>
                      <a:pt x="135" y="56"/>
                    </a:lnTo>
                    <a:lnTo>
                      <a:pt x="135" y="56"/>
                    </a:lnTo>
                    <a:lnTo>
                      <a:pt x="135" y="56"/>
                    </a:lnTo>
                    <a:lnTo>
                      <a:pt x="134" y="56"/>
                    </a:lnTo>
                    <a:lnTo>
                      <a:pt x="134" y="57"/>
                    </a:lnTo>
                    <a:lnTo>
                      <a:pt x="133" y="57"/>
                    </a:lnTo>
                    <a:lnTo>
                      <a:pt x="133" y="57"/>
                    </a:lnTo>
                    <a:lnTo>
                      <a:pt x="132" y="57"/>
                    </a:lnTo>
                    <a:lnTo>
                      <a:pt x="132" y="57"/>
                    </a:lnTo>
                    <a:lnTo>
                      <a:pt x="131" y="58"/>
                    </a:lnTo>
                    <a:lnTo>
                      <a:pt x="131" y="58"/>
                    </a:lnTo>
                    <a:lnTo>
                      <a:pt x="130" y="58"/>
                    </a:lnTo>
                    <a:lnTo>
                      <a:pt x="129" y="58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1" y="1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3" y="1"/>
                    </a:lnTo>
                    <a:lnTo>
                      <a:pt x="134" y="1"/>
                    </a:lnTo>
                    <a:lnTo>
                      <a:pt x="134" y="2"/>
                    </a:lnTo>
                    <a:lnTo>
                      <a:pt x="135" y="2"/>
                    </a:lnTo>
                    <a:lnTo>
                      <a:pt x="135" y="2"/>
                    </a:lnTo>
                    <a:lnTo>
                      <a:pt x="135" y="2"/>
                    </a:lnTo>
                    <a:lnTo>
                      <a:pt x="136" y="3"/>
                    </a:lnTo>
                    <a:lnTo>
                      <a:pt x="136" y="3"/>
                    </a:lnTo>
                    <a:lnTo>
                      <a:pt x="136" y="4"/>
                    </a:lnTo>
                    <a:lnTo>
                      <a:pt x="136" y="4"/>
                    </a:lnTo>
                    <a:lnTo>
                      <a:pt x="136" y="54"/>
                    </a:lnTo>
                    <a:lnTo>
                      <a:pt x="104" y="54"/>
                    </a:lnTo>
                    <a:lnTo>
                      <a:pt x="104" y="54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6"/>
                    </a:lnTo>
                    <a:lnTo>
                      <a:pt x="103" y="56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01" y="57"/>
                    </a:lnTo>
                    <a:lnTo>
                      <a:pt x="101" y="57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99" y="57"/>
                    </a:lnTo>
                    <a:lnTo>
                      <a:pt x="99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7" y="58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9" y="1"/>
                    </a:lnTo>
                    <a:lnTo>
                      <a:pt x="99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1" y="56"/>
                    </a:lnTo>
                    <a:lnTo>
                      <a:pt x="70" y="56"/>
                    </a:lnTo>
                    <a:lnTo>
                      <a:pt x="70" y="56"/>
                    </a:lnTo>
                    <a:lnTo>
                      <a:pt x="70" y="56"/>
                    </a:lnTo>
                    <a:lnTo>
                      <a:pt x="69" y="57"/>
                    </a:lnTo>
                    <a:lnTo>
                      <a:pt x="68" y="57"/>
                    </a:lnTo>
                    <a:lnTo>
                      <a:pt x="68" y="57"/>
                    </a:lnTo>
                    <a:lnTo>
                      <a:pt x="68" y="57"/>
                    </a:lnTo>
                    <a:lnTo>
                      <a:pt x="67" y="57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1" y="2"/>
                    </a:lnTo>
                    <a:lnTo>
                      <a:pt x="71" y="3"/>
                    </a:lnTo>
                    <a:lnTo>
                      <a:pt x="71" y="3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54"/>
                    </a:lnTo>
                    <a:lnTo>
                      <a:pt x="39" y="54"/>
                    </a:lnTo>
                    <a:lnTo>
                      <a:pt x="39" y="54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7" y="56"/>
                    </a:lnTo>
                    <a:lnTo>
                      <a:pt x="37" y="57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4" y="58"/>
                    </a:lnTo>
                    <a:lnTo>
                      <a:pt x="34" y="58"/>
                    </a:lnTo>
                    <a:lnTo>
                      <a:pt x="33" y="58"/>
                    </a:lnTo>
                    <a:lnTo>
                      <a:pt x="32" y="58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4"/>
                    </a:lnTo>
                    <a:lnTo>
                      <a:pt x="136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39040" y="3886200"/>
                <a:ext cx="27000" cy="950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6" y="55"/>
                    </a:move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2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86480" y="3886200"/>
                <a:ext cx="27000" cy="950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6" y="55"/>
                    </a:move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4280" y="3886200"/>
                <a:ext cx="27000" cy="950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6" y="55"/>
                    </a:move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2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83160" y="3886200"/>
                <a:ext cx="27000" cy="950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6" y="55"/>
                    </a:move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30960" y="3886200"/>
                <a:ext cx="27000" cy="950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6" y="55"/>
                    </a:move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19800" y="3886200"/>
                <a:ext cx="228600" cy="93600"/>
              </a:xfrm>
              <a:custGeom>
                <a:avLst/>
                <a:gdLst/>
                <a:ahLst/>
                <a:rect l="l" t="t" r="r" b="b"/>
                <a:pathLst>
                  <a:path w="144" h="59">
                    <a:moveTo>
                      <a:pt x="143" y="53"/>
                    </a:moveTo>
                    <a:lnTo>
                      <a:pt x="143" y="54"/>
                    </a:lnTo>
                    <a:lnTo>
                      <a:pt x="143" y="54"/>
                    </a:lnTo>
                    <a:lnTo>
                      <a:pt x="143" y="54"/>
                    </a:lnTo>
                    <a:lnTo>
                      <a:pt x="142" y="55"/>
                    </a:lnTo>
                    <a:lnTo>
                      <a:pt x="142" y="55"/>
                    </a:lnTo>
                    <a:lnTo>
                      <a:pt x="142" y="55"/>
                    </a:lnTo>
                    <a:lnTo>
                      <a:pt x="141" y="56"/>
                    </a:lnTo>
                    <a:lnTo>
                      <a:pt x="141" y="56"/>
                    </a:lnTo>
                    <a:lnTo>
                      <a:pt x="140" y="56"/>
                    </a:lnTo>
                    <a:lnTo>
                      <a:pt x="139" y="56"/>
                    </a:lnTo>
                    <a:lnTo>
                      <a:pt x="138" y="57"/>
                    </a:lnTo>
                    <a:lnTo>
                      <a:pt x="137" y="57"/>
                    </a:lnTo>
                    <a:lnTo>
                      <a:pt x="136" y="57"/>
                    </a:lnTo>
                    <a:lnTo>
                      <a:pt x="135" y="57"/>
                    </a:lnTo>
                    <a:lnTo>
                      <a:pt x="134" y="58"/>
                    </a:lnTo>
                    <a:lnTo>
                      <a:pt x="133" y="58"/>
                    </a:lnTo>
                    <a:lnTo>
                      <a:pt x="133" y="58"/>
                    </a:lnTo>
                    <a:lnTo>
                      <a:pt x="132" y="58"/>
                    </a:lnTo>
                    <a:lnTo>
                      <a:pt x="131" y="58"/>
                    </a:lnTo>
                    <a:lnTo>
                      <a:pt x="131" y="57"/>
                    </a:lnTo>
                    <a:lnTo>
                      <a:pt x="130" y="57"/>
                    </a:lnTo>
                    <a:lnTo>
                      <a:pt x="130" y="56"/>
                    </a:lnTo>
                    <a:lnTo>
                      <a:pt x="130" y="56"/>
                    </a:lnTo>
                    <a:lnTo>
                      <a:pt x="130" y="55"/>
                    </a:lnTo>
                    <a:lnTo>
                      <a:pt x="130" y="3"/>
                    </a:lnTo>
                    <a:lnTo>
                      <a:pt x="130" y="2"/>
                    </a:lnTo>
                    <a:lnTo>
                      <a:pt x="130" y="2"/>
                    </a:lnTo>
                    <a:lnTo>
                      <a:pt x="130" y="1"/>
                    </a:lnTo>
                    <a:lnTo>
                      <a:pt x="131" y="1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5" y="1"/>
                    </a:lnTo>
                    <a:lnTo>
                      <a:pt x="136" y="1"/>
                    </a:lnTo>
                    <a:lnTo>
                      <a:pt x="137" y="1"/>
                    </a:lnTo>
                    <a:lnTo>
                      <a:pt x="138" y="1"/>
                    </a:lnTo>
                    <a:lnTo>
                      <a:pt x="139" y="2"/>
                    </a:lnTo>
                    <a:lnTo>
                      <a:pt x="140" y="2"/>
                    </a:lnTo>
                    <a:lnTo>
                      <a:pt x="141" y="2"/>
                    </a:lnTo>
                    <a:lnTo>
                      <a:pt x="141" y="3"/>
                    </a:lnTo>
                    <a:lnTo>
                      <a:pt x="142" y="3"/>
                    </a:lnTo>
                    <a:lnTo>
                      <a:pt x="142" y="3"/>
                    </a:lnTo>
                    <a:lnTo>
                      <a:pt x="142" y="3"/>
                    </a:lnTo>
                    <a:lnTo>
                      <a:pt x="143" y="4"/>
                    </a:lnTo>
                    <a:lnTo>
                      <a:pt x="143" y="4"/>
                    </a:lnTo>
                    <a:lnTo>
                      <a:pt x="143" y="5"/>
                    </a:lnTo>
                    <a:lnTo>
                      <a:pt x="143" y="5"/>
                    </a:lnTo>
                    <a:lnTo>
                      <a:pt x="143" y="53"/>
                    </a:lnTo>
                    <a:lnTo>
                      <a:pt x="110" y="53"/>
                    </a:lnTo>
                    <a:lnTo>
                      <a:pt x="110" y="54"/>
                    </a:lnTo>
                    <a:lnTo>
                      <a:pt x="110" y="54"/>
                    </a:lnTo>
                    <a:lnTo>
                      <a:pt x="110" y="54"/>
                    </a:lnTo>
                    <a:lnTo>
                      <a:pt x="110" y="55"/>
                    </a:lnTo>
                    <a:lnTo>
                      <a:pt x="110" y="55"/>
                    </a:lnTo>
                    <a:lnTo>
                      <a:pt x="109" y="55"/>
                    </a:lnTo>
                    <a:lnTo>
                      <a:pt x="109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7" y="56"/>
                    </a:lnTo>
                    <a:lnTo>
                      <a:pt x="106" y="57"/>
                    </a:lnTo>
                    <a:lnTo>
                      <a:pt x="105" y="57"/>
                    </a:lnTo>
                    <a:lnTo>
                      <a:pt x="104" y="57"/>
                    </a:lnTo>
                    <a:lnTo>
                      <a:pt x="103" y="57"/>
                    </a:lnTo>
                    <a:lnTo>
                      <a:pt x="102" y="58"/>
                    </a:lnTo>
                    <a:lnTo>
                      <a:pt x="101" y="58"/>
                    </a:lnTo>
                    <a:lnTo>
                      <a:pt x="100" y="58"/>
                    </a:lnTo>
                    <a:lnTo>
                      <a:pt x="99" y="58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7" y="55"/>
                    </a:lnTo>
                    <a:lnTo>
                      <a:pt x="97" y="3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1"/>
                    </a:lnTo>
                    <a:lnTo>
                      <a:pt x="104" y="1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7" y="2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9" y="3"/>
                    </a:lnTo>
                    <a:lnTo>
                      <a:pt x="109" y="3"/>
                    </a:lnTo>
                    <a:lnTo>
                      <a:pt x="110" y="3"/>
                    </a:lnTo>
                    <a:lnTo>
                      <a:pt x="110" y="3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3"/>
                    </a:lnTo>
                    <a:lnTo>
                      <a:pt x="78" y="53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6" y="56"/>
                    </a:lnTo>
                    <a:lnTo>
                      <a:pt x="76" y="56"/>
                    </a:lnTo>
                    <a:lnTo>
                      <a:pt x="75" y="56"/>
                    </a:lnTo>
                    <a:lnTo>
                      <a:pt x="74" y="56"/>
                    </a:lnTo>
                    <a:lnTo>
                      <a:pt x="73" y="57"/>
                    </a:lnTo>
                    <a:lnTo>
                      <a:pt x="72" y="57"/>
                    </a:lnTo>
                    <a:lnTo>
                      <a:pt x="71" y="57"/>
                    </a:lnTo>
                    <a:lnTo>
                      <a:pt x="70" y="57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5" y="57"/>
                    </a:lnTo>
                    <a:lnTo>
                      <a:pt x="65" y="56"/>
                    </a:lnTo>
                    <a:lnTo>
                      <a:pt x="65" y="56"/>
                    </a:lnTo>
                    <a:lnTo>
                      <a:pt x="65" y="55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4" y="2"/>
                    </a:lnTo>
                    <a:lnTo>
                      <a:pt x="75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5"/>
                    </a:lnTo>
                    <a:lnTo>
                      <a:pt x="78" y="5"/>
                    </a:lnTo>
                    <a:lnTo>
                      <a:pt x="78" y="53"/>
                    </a:lnTo>
                    <a:lnTo>
                      <a:pt x="45" y="53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2" y="56"/>
                    </a:lnTo>
                    <a:lnTo>
                      <a:pt x="41" y="57"/>
                    </a:lnTo>
                    <a:lnTo>
                      <a:pt x="40" y="57"/>
                    </a:lnTo>
                    <a:lnTo>
                      <a:pt x="39" y="57"/>
                    </a:lnTo>
                    <a:lnTo>
                      <a:pt x="38" y="57"/>
                    </a:lnTo>
                    <a:lnTo>
                      <a:pt x="37" y="58"/>
                    </a:lnTo>
                    <a:lnTo>
                      <a:pt x="36" y="58"/>
                    </a:lnTo>
                    <a:lnTo>
                      <a:pt x="35" y="58"/>
                    </a:lnTo>
                    <a:lnTo>
                      <a:pt x="34" y="58"/>
                    </a:lnTo>
                    <a:lnTo>
                      <a:pt x="34" y="58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2" y="55"/>
                    </a:lnTo>
                    <a:lnTo>
                      <a:pt x="32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3"/>
                    </a:lnTo>
                    <a:lnTo>
                      <a:pt x="13" y="53"/>
                    </a:lnTo>
                    <a:lnTo>
                      <a:pt x="13" y="54"/>
                    </a:lnTo>
                    <a:lnTo>
                      <a:pt x="13" y="54"/>
                    </a:lnTo>
                    <a:lnTo>
                      <a:pt x="13" y="54"/>
                    </a:lnTo>
                    <a:lnTo>
                      <a:pt x="13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0" y="56"/>
                    </a:lnTo>
                    <a:lnTo>
                      <a:pt x="9" y="56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3"/>
                    </a:lnTo>
                    <a:lnTo>
                      <a:pt x="143" y="53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19800" y="388620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133" y="58"/>
                    </a:moveTo>
                    <a:lnTo>
                      <a:pt x="133" y="58"/>
                    </a:lnTo>
                    <a:lnTo>
                      <a:pt x="132" y="57"/>
                    </a:lnTo>
                    <a:lnTo>
                      <a:pt x="132" y="57"/>
                    </a:lnTo>
                    <a:lnTo>
                      <a:pt x="132" y="57"/>
                    </a:lnTo>
                    <a:lnTo>
                      <a:pt x="131" y="56"/>
                    </a:lnTo>
                    <a:lnTo>
                      <a:pt x="131" y="56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3"/>
                    </a:lnTo>
                    <a:lnTo>
                      <a:pt x="131" y="3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2"/>
                    </a:lnTo>
                    <a:lnTo>
                      <a:pt x="130" y="2"/>
                    </a:lnTo>
                    <a:lnTo>
                      <a:pt x="129" y="3"/>
                    </a:lnTo>
                    <a:lnTo>
                      <a:pt x="129" y="55"/>
                    </a:lnTo>
                    <a:lnTo>
                      <a:pt x="130" y="56"/>
                    </a:lnTo>
                    <a:lnTo>
                      <a:pt x="130" y="56"/>
                    </a:lnTo>
                    <a:lnTo>
                      <a:pt x="130" y="57"/>
                    </a:lnTo>
                    <a:lnTo>
                      <a:pt x="130" y="57"/>
                    </a:lnTo>
                    <a:lnTo>
                      <a:pt x="131" y="58"/>
                    </a:lnTo>
                    <a:lnTo>
                      <a:pt x="131" y="58"/>
                    </a:lnTo>
                    <a:lnTo>
                      <a:pt x="132" y="58"/>
                    </a:lnTo>
                    <a:lnTo>
                      <a:pt x="133" y="58"/>
                    </a:lnTo>
                    <a:lnTo>
                      <a:pt x="101" y="58"/>
                    </a:lnTo>
                    <a:lnTo>
                      <a:pt x="100" y="58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99" y="57"/>
                    </a:lnTo>
                    <a:lnTo>
                      <a:pt x="99" y="56"/>
                    </a:lnTo>
                    <a:lnTo>
                      <a:pt x="99" y="56"/>
                    </a:lnTo>
                    <a:lnTo>
                      <a:pt x="99" y="55"/>
                    </a:lnTo>
                    <a:lnTo>
                      <a:pt x="99" y="55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0" y="0"/>
                    </a:lnTo>
                    <a:lnTo>
                      <a:pt x="99" y="0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7" y="1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7" y="3"/>
                    </a:lnTo>
                    <a:lnTo>
                      <a:pt x="97" y="55"/>
                    </a:lnTo>
                    <a:lnTo>
                      <a:pt x="97" y="56"/>
                    </a:lnTo>
                    <a:lnTo>
                      <a:pt x="97" y="56"/>
                    </a:lnTo>
                    <a:lnTo>
                      <a:pt x="97" y="57"/>
                    </a:lnTo>
                    <a:lnTo>
                      <a:pt x="98" y="57"/>
                    </a:lnTo>
                    <a:lnTo>
                      <a:pt x="98" y="58"/>
                    </a:lnTo>
                    <a:lnTo>
                      <a:pt x="99" y="58"/>
                    </a:lnTo>
                    <a:lnTo>
                      <a:pt x="100" y="58"/>
                    </a:lnTo>
                    <a:lnTo>
                      <a:pt x="101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7"/>
                    </a:lnTo>
                    <a:lnTo>
                      <a:pt x="67" y="57"/>
                    </a:lnTo>
                    <a:lnTo>
                      <a:pt x="67" y="57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5"/>
                    </a:lnTo>
                    <a:lnTo>
                      <a:pt x="66" y="55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3"/>
                    </a:lnTo>
                    <a:lnTo>
                      <a:pt x="65" y="55"/>
                    </a:lnTo>
                    <a:lnTo>
                      <a:pt x="65" y="56"/>
                    </a:lnTo>
                    <a:lnTo>
                      <a:pt x="65" y="56"/>
                    </a:lnTo>
                    <a:lnTo>
                      <a:pt x="65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8" y="58"/>
                    </a:lnTo>
                    <a:lnTo>
                      <a:pt x="36" y="58"/>
                    </a:lnTo>
                    <a:lnTo>
                      <a:pt x="36" y="58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55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4" y="58"/>
                    </a:lnTo>
                    <a:lnTo>
                      <a:pt x="34" y="58"/>
                    </a:lnTo>
                    <a:lnTo>
                      <a:pt x="35" y="58"/>
                    </a:lnTo>
                    <a:lnTo>
                      <a:pt x="36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133" y="5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24480" y="389412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244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4480" y="396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2448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24480" y="3949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2448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2448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2448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2448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24480" y="391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24480" y="391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2448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24480" y="390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2448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30960" y="389736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43"/>
                    </a:moveTo>
                    <a:lnTo>
                      <a:pt x="0" y="43"/>
                    </a:lnTo>
                    <a:lnTo>
                      <a:pt x="0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8" y="28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3096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30960" y="395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3096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30960" y="3946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30960" y="3940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30960" y="3935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30960" y="392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3096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3096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30960" y="390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960" y="39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3096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77040" y="389412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7704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77040" y="396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7704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77040" y="3949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7704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7704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7704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704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77040" y="391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77040" y="391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704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77040" y="390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7704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83160" y="389736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43"/>
                    </a:move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8316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83160" y="395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8316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83160" y="3946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83160" y="3940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83160" y="3935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83160" y="392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8316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8316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83160" y="390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3160" y="39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316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29240" y="389412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2924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29240" y="396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2924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29240" y="3949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2924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2924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2924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2924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29240" y="391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29240" y="391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2924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29240" y="390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2924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35720" y="3897360"/>
                <a:ext cx="1440" cy="71280"/>
              </a:xfrm>
              <a:custGeom>
                <a:avLst/>
                <a:gdLst/>
                <a:ahLst/>
                <a:rect l="l" t="t" r="r" b="b"/>
                <a:pathLst>
                  <a:path w="1" h="45">
                    <a:moveTo>
                      <a:pt x="0" y="43"/>
                    </a:move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3572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35720" y="395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3572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35720" y="3946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35720" y="3940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35720" y="3935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35720" y="392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3572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3572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35720" y="390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35720" y="39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3572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81800" y="389412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8180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81800" y="396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8180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81800" y="3949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8180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8180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818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818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81800" y="391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81800" y="391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8180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581800" y="390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8180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86480" y="389736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43"/>
                    </a:move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8648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86480" y="395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58648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586480" y="3946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586480" y="3940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586480" y="3935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86480" y="392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8648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8648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86480" y="390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86480" y="39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8648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632560" y="389412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3256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632560" y="396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3256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2560" y="3949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3256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3256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256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256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32560" y="391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32560" y="391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3256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32560" y="390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3256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639040" y="389736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43"/>
                    </a:move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3904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639040" y="395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6390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39040" y="3946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39040" y="3940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39040" y="3935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639040" y="392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3904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904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39040" y="390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39040" y="39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3904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042240" y="3875040"/>
              <a:ext cx="98280" cy="117360"/>
              <a:chOff x="6042240" y="3875040"/>
              <a:chExt cx="98280" cy="117360"/>
            </a:xfrm>
          </p:grpSpPr>
          <p:sp>
            <p:nvSpPr>
              <p:cNvPr id="319" name=""/>
              <p:cNvSpPr/>
              <p:nvPr/>
            </p:nvSpPr>
            <p:spPr>
              <a:xfrm>
                <a:off x="6042240" y="3875040"/>
                <a:ext cx="82440" cy="10620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51" y="60"/>
                    </a:moveTo>
                    <a:lnTo>
                      <a:pt x="51" y="61"/>
                    </a:lnTo>
                    <a:lnTo>
                      <a:pt x="51" y="61"/>
                    </a:lnTo>
                    <a:lnTo>
                      <a:pt x="51" y="62"/>
                    </a:lnTo>
                    <a:lnTo>
                      <a:pt x="50" y="62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5"/>
                    </a:lnTo>
                    <a:lnTo>
                      <a:pt x="44" y="65"/>
                    </a:lnTo>
                    <a:lnTo>
                      <a:pt x="43" y="65"/>
                    </a:lnTo>
                    <a:lnTo>
                      <a:pt x="42" y="65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5" y="64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4"/>
                    </a:lnTo>
                    <a:lnTo>
                      <a:pt x="51" y="4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1" y="60"/>
                    </a:lnTo>
                    <a:lnTo>
                      <a:pt x="16" y="60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5" y="63"/>
                    </a:lnTo>
                    <a:lnTo>
                      <a:pt x="14" y="63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2" y="64"/>
                    </a:lnTo>
                    <a:lnTo>
                      <a:pt x="11" y="64"/>
                    </a:lnTo>
                    <a:lnTo>
                      <a:pt x="10" y="65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6" y="65"/>
                    </a:lnTo>
                    <a:lnTo>
                      <a:pt x="5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0"/>
                    </a:lnTo>
                    <a:lnTo>
                      <a:pt x="51" y="6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99120" y="387504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61"/>
                    </a:move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3"/>
                    </a:lnTo>
                    <a:lnTo>
                      <a:pt x="15" y="63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3" y="65"/>
                    </a:lnTo>
                    <a:lnTo>
                      <a:pt x="11" y="65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6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42240" y="387504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61"/>
                    </a:move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6" y="66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56280" y="3876480"/>
                <a:ext cx="68400" cy="103320"/>
              </a:xfrm>
              <a:custGeom>
                <a:avLst/>
                <a:gdLst/>
                <a:ahLst/>
                <a:rect l="l" t="t" r="r" b="b"/>
                <a:pathLst>
                  <a:path w="43" h="65">
                    <a:moveTo>
                      <a:pt x="42" y="59"/>
                    </a:moveTo>
                    <a:lnTo>
                      <a:pt x="42" y="60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1"/>
                    </a:lnTo>
                    <a:lnTo>
                      <a:pt x="41" y="62"/>
                    </a:lnTo>
                    <a:lnTo>
                      <a:pt x="41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39" y="63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37" y="63"/>
                    </a:lnTo>
                    <a:lnTo>
                      <a:pt x="37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5" y="64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2" y="59"/>
                    </a:lnTo>
                    <a:lnTo>
                      <a:pt x="7" y="59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5" y="63"/>
                    </a:lnTo>
                    <a:lnTo>
                      <a:pt x="4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9"/>
                    </a:lnTo>
                    <a:lnTo>
                      <a:pt x="42" y="5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3520" y="387648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6" y="60"/>
                    </a:moveTo>
                    <a:lnTo>
                      <a:pt x="16" y="60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3" y="62"/>
                    </a:lnTo>
                    <a:lnTo>
                      <a:pt x="13" y="63"/>
                    </a:lnTo>
                    <a:lnTo>
                      <a:pt x="13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9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0" y="6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56280" y="387648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6" y="60"/>
                    </a:moveTo>
                    <a:lnTo>
                      <a:pt x="16" y="60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3" y="62"/>
                    </a:lnTo>
                    <a:lnTo>
                      <a:pt x="13" y="63"/>
                    </a:lnTo>
                    <a:lnTo>
                      <a:pt x="13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9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0" y="6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43680" y="3878280"/>
                <a:ext cx="79560" cy="10152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49" y="58"/>
                    </a:moveTo>
                    <a:lnTo>
                      <a:pt x="49" y="58"/>
                    </a:lnTo>
                    <a:lnTo>
                      <a:pt x="49" y="59"/>
                    </a:lnTo>
                    <a:lnTo>
                      <a:pt x="49" y="59"/>
                    </a:lnTo>
                    <a:lnTo>
                      <a:pt x="48" y="59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7" y="60"/>
                    </a:lnTo>
                    <a:lnTo>
                      <a:pt x="47" y="60"/>
                    </a:lnTo>
                    <a:lnTo>
                      <a:pt x="46" y="61"/>
                    </a:lnTo>
                    <a:lnTo>
                      <a:pt x="45" y="61"/>
                    </a:lnTo>
                    <a:lnTo>
                      <a:pt x="44" y="62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1" y="62"/>
                    </a:lnTo>
                    <a:lnTo>
                      <a:pt x="40" y="63"/>
                    </a:lnTo>
                    <a:lnTo>
                      <a:pt x="39" y="63"/>
                    </a:lnTo>
                    <a:lnTo>
                      <a:pt x="38" y="63"/>
                    </a:lnTo>
                    <a:lnTo>
                      <a:pt x="37" y="63"/>
                    </a:lnTo>
                    <a:lnTo>
                      <a:pt x="37" y="63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5" y="61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9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6" y="62"/>
                    </a:lnTo>
                    <a:lnTo>
                      <a:pt x="5" y="63"/>
                    </a:lnTo>
                    <a:lnTo>
                      <a:pt x="4" y="63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8"/>
                    </a:lnTo>
                    <a:lnTo>
                      <a:pt x="49" y="58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43680" y="387828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39" y="63"/>
                    </a:moveTo>
                    <a:lnTo>
                      <a:pt x="38" y="63"/>
                    </a:lnTo>
                    <a:lnTo>
                      <a:pt x="38" y="63"/>
                    </a:lnTo>
                    <a:lnTo>
                      <a:pt x="38" y="62"/>
                    </a:lnTo>
                    <a:lnTo>
                      <a:pt x="37" y="62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0"/>
                    </a:lnTo>
                    <a:lnTo>
                      <a:pt x="37" y="60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1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7" y="63"/>
                    </a:lnTo>
                    <a:lnTo>
                      <a:pt x="37" y="63"/>
                    </a:lnTo>
                    <a:lnTo>
                      <a:pt x="38" y="63"/>
                    </a:lnTo>
                    <a:lnTo>
                      <a:pt x="39" y="63"/>
                    </a:lnTo>
                    <a:lnTo>
                      <a:pt x="4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39" y="63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53400" y="3878280"/>
                <a:ext cx="61920" cy="101520"/>
              </a:xfrm>
              <a:custGeom>
                <a:avLst/>
                <a:gdLst/>
                <a:ahLst/>
                <a:rect l="l" t="t" r="r" b="b"/>
                <a:pathLst>
                  <a:path w="39" h="64">
                    <a:moveTo>
                      <a:pt x="34" y="63"/>
                    </a:moveTo>
                    <a:lnTo>
                      <a:pt x="34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62"/>
                    </a:lnTo>
                    <a:lnTo>
                      <a:pt x="38" y="62"/>
                    </a:lnTo>
                    <a:lnTo>
                      <a:pt x="37" y="62"/>
                    </a:lnTo>
                    <a:lnTo>
                      <a:pt x="37" y="62"/>
                    </a:lnTo>
                    <a:lnTo>
                      <a:pt x="36" y="63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4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34" y="6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08840" y="3878280"/>
                <a:ext cx="27000" cy="10152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0" y="6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6" y="62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0" y="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53400" y="3878280"/>
                <a:ext cx="27000" cy="10152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0" y="6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0" y="63"/>
                    </a:lnTo>
                    <a:lnTo>
                      <a:pt x="0" y="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46920" y="3887640"/>
                <a:ext cx="27000" cy="8100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0" y="2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16" y="29"/>
                    </a:lnTo>
                    <a:lnTo>
                      <a:pt x="16" y="30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16" y="37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0" y="5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46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46920" y="389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4692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4692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4692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4692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4692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46920" y="3921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4692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46920" y="3929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46920" y="393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4692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4692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4692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4692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4692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46920" y="3960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4692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48360" y="38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9"/>
                    </a:moveTo>
                    <a:lnTo>
                      <a:pt x="0" y="48"/>
                    </a:lnTo>
                    <a:lnTo>
                      <a:pt x="16" y="48"/>
                    </a:lnTo>
                    <a:lnTo>
                      <a:pt x="16" y="49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41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0" y="1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56280" y="3887640"/>
                <a:ext cx="27000" cy="8100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2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6" y="7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6" y="24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6" y="30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16" y="36"/>
                    </a:lnTo>
                    <a:lnTo>
                      <a:pt x="16" y="39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6" y="42"/>
                    </a:lnTo>
                    <a:lnTo>
                      <a:pt x="16" y="44"/>
                    </a:lnTo>
                    <a:lnTo>
                      <a:pt x="16" y="43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16" y="44"/>
                    </a:lnTo>
                    <a:lnTo>
                      <a:pt x="16" y="47"/>
                    </a:lnTo>
                    <a:lnTo>
                      <a:pt x="16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16" y="47"/>
                    </a:lnTo>
                    <a:lnTo>
                      <a:pt x="16" y="50"/>
                    </a:lnTo>
                    <a:lnTo>
                      <a:pt x="16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6" y="50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5628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56280" y="389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5628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5628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5628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628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5628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56280" y="3921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5628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56280" y="3929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56280" y="393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5628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5628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5628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5628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5628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56280" y="3960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5628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04160" y="3887640"/>
                <a:ext cx="27000" cy="8100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0" y="2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16" y="29"/>
                    </a:lnTo>
                    <a:lnTo>
                      <a:pt x="16" y="30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16" y="37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0" y="5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0416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04160" y="389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10416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10416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0416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10416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0416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04160" y="3921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0416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04160" y="3929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04160" y="393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0416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0416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0416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0416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0416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04160" y="3960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0416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05600" y="3889440"/>
                <a:ext cx="1800" cy="79200"/>
              </a:xfrm>
              <a:custGeom>
                <a:avLst/>
                <a:gdLst/>
                <a:ahLst/>
                <a:rect l="l" t="t" r="r" b="b"/>
                <a:pathLst>
                  <a:path w="1" h="50">
                    <a:moveTo>
                      <a:pt x="0" y="49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12080" y="3887640"/>
                <a:ext cx="27000" cy="8100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2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6" y="7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6" y="19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6" y="24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6" y="30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16" y="36"/>
                    </a:lnTo>
                    <a:lnTo>
                      <a:pt x="16" y="39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6" y="42"/>
                    </a:lnTo>
                    <a:lnTo>
                      <a:pt x="16" y="44"/>
                    </a:lnTo>
                    <a:lnTo>
                      <a:pt x="16" y="43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16" y="44"/>
                    </a:lnTo>
                    <a:lnTo>
                      <a:pt x="16" y="47"/>
                    </a:lnTo>
                    <a:lnTo>
                      <a:pt x="16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16" y="47"/>
                    </a:lnTo>
                    <a:lnTo>
                      <a:pt x="16" y="50"/>
                    </a:lnTo>
                    <a:lnTo>
                      <a:pt x="16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6" y="50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1208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12080" y="389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12080" y="3897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1208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12080" y="39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1208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12080" y="391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12080" y="3921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1208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12080" y="3929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12080" y="393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12080" y="39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12080" y="3943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1208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1208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12080" y="395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12080" y="3960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1208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7640640" y="3195720"/>
            <a:ext cx="733320" cy="350640"/>
            <a:chOff x="7640640" y="3195720"/>
            <a:chExt cx="733320" cy="350640"/>
          </a:xfrm>
        </p:grpSpPr>
        <p:graphicFrame>
          <p:nvGraphicFramePr>
            <p:cNvPr id="409" name=""/>
            <p:cNvGraphicFramePr/>
            <p:nvPr/>
          </p:nvGraphicFramePr>
          <p:xfrm>
            <a:off x="7640640" y="3200400"/>
            <a:ext cx="733320" cy="345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40640" y="3200400"/>
                      <a:ext cx="7333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1" name=""/>
            <p:cNvSpPr/>
            <p:nvPr/>
          </p:nvSpPr>
          <p:spPr>
            <a:xfrm>
              <a:off x="7835760" y="3195720"/>
              <a:ext cx="34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992920" y="4341960"/>
            <a:ext cx="2449440" cy="1028520"/>
            <a:chOff x="5992920" y="4341960"/>
            <a:chExt cx="2449440" cy="1028520"/>
          </a:xfrm>
        </p:grpSpPr>
        <p:sp>
          <p:nvSpPr>
            <p:cNvPr id="413" name=""/>
            <p:cNvSpPr/>
            <p:nvPr/>
          </p:nvSpPr>
          <p:spPr>
            <a:xfrm>
              <a:off x="5992920" y="4341960"/>
              <a:ext cx="2449440" cy="10285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7226280" y="4484520"/>
              <a:ext cx="82404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6483600" y="4519440"/>
              <a:ext cx="744480" cy="74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2960" y="1438200"/>
            <a:ext cx="36367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ultiple Vend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is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H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Extr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3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C9AC-D6FF-4FF1-8170-86C1CF9C8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uccessful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143000" y="51674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3892680" y="5149800"/>
            <a:ext cx="342720" cy="362160"/>
          </a:xfrm>
          <a:prstGeom prst="rect">
            <a:avLst/>
          </a:prstGeom>
          <a:ln w="0">
            <a:noFill/>
          </a:ln>
        </p:spPr>
      </p:pic>
      <p:grpSp>
        <p:nvGrpSpPr>
          <p:cNvPr id="420" name=""/>
          <p:cNvGrpSpPr/>
          <p:nvPr/>
        </p:nvGrpSpPr>
        <p:grpSpPr>
          <a:xfrm>
            <a:off x="760320" y="1876320"/>
            <a:ext cx="8035920" cy="2901960"/>
            <a:chOff x="760320" y="1876320"/>
            <a:chExt cx="8035920" cy="2901960"/>
          </a:xfrm>
        </p:grpSpPr>
        <p:sp>
          <p:nvSpPr>
            <p:cNvPr id="421" name=""/>
            <p:cNvSpPr/>
            <p:nvPr/>
          </p:nvSpPr>
          <p:spPr>
            <a:xfrm>
              <a:off x="2278080" y="4197240"/>
              <a:ext cx="188748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618000"/>
              <a:ext cx="1887480" cy="579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78080" y="3036960"/>
              <a:ext cx="188748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78080" y="2457360"/>
              <a:ext cx="188748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78080" y="1876320"/>
              <a:ext cx="188748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Troubleshoo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58040" y="4197240"/>
              <a:ext cx="143820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18240" y="4197240"/>
              <a:ext cx="163980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65560" y="4197240"/>
              <a:ext cx="155268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0320" y="4197240"/>
              <a:ext cx="151776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8040" y="3618000"/>
              <a:ext cx="1438200" cy="579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18240" y="3618000"/>
              <a:ext cx="1639800" cy="579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5560" y="3618000"/>
              <a:ext cx="1552680" cy="579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0320" y="3618000"/>
              <a:ext cx="1517760" cy="579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58040" y="3036960"/>
              <a:ext cx="143820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8240" y="3036960"/>
              <a:ext cx="163980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65560" y="3036960"/>
              <a:ext cx="155268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0320" y="3036960"/>
              <a:ext cx="151776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58040" y="2457360"/>
              <a:ext cx="143820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18240" y="2457360"/>
              <a:ext cx="163980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65560" y="2457360"/>
              <a:ext cx="155268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0320" y="2457360"/>
              <a:ext cx="151776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8040" y="1876320"/>
              <a:ext cx="143820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Bac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8240" y="1876320"/>
              <a:ext cx="163980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65560" y="1876320"/>
              <a:ext cx="155268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320" y="1876320"/>
              <a:ext cx="1517760" cy="58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rmAutofit/>
            </a:bodyPr>
            <a:p>
              <a:pPr algn="ctr">
                <a:lnSpc>
                  <a:spcPct val="10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Arial"/>
                </a:rPr>
                <a:t>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320" y="1876320"/>
              <a:ext cx="803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0320" y="2457360"/>
              <a:ext cx="803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0320" y="3036960"/>
              <a:ext cx="803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320" y="3618000"/>
              <a:ext cx="803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0320" y="4197240"/>
              <a:ext cx="803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0320" y="4778280"/>
              <a:ext cx="803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0320" y="1876320"/>
              <a:ext cx="0" cy="29019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78080" y="1876320"/>
              <a:ext cx="0" cy="290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18240" y="1876320"/>
              <a:ext cx="0" cy="290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58040" y="1876320"/>
              <a:ext cx="0" cy="290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96240" y="1876320"/>
              <a:ext cx="0" cy="29019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65560" y="1876320"/>
              <a:ext cx="0" cy="290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1378080" y="258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3086280" y="2584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3067200" y="322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4754520" y="2570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7"/>
          <a:stretch/>
        </p:blipFill>
        <p:spPr>
          <a:xfrm>
            <a:off x="7850160" y="3784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8"/>
          <a:stretch/>
        </p:blipFill>
        <p:spPr>
          <a:xfrm>
            <a:off x="3917880" y="57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9"/>
          <a:stretch/>
        </p:blipFill>
        <p:spPr>
          <a:xfrm>
            <a:off x="6442200" y="375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0"/>
          <a:stretch/>
        </p:blipFill>
        <p:spPr>
          <a:xfrm>
            <a:off x="6421320" y="431964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1"/>
          <a:stretch/>
        </p:blipFill>
        <p:spPr>
          <a:xfrm>
            <a:off x="7900920" y="3193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2"/>
          <a:stretch/>
        </p:blipFill>
        <p:spPr>
          <a:xfrm>
            <a:off x="3052800" y="430524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532160" y="5118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3"/>
          <a:stretch/>
        </p:blipFill>
        <p:spPr>
          <a:xfrm>
            <a:off x="1150920" y="5705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501200" y="56563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elnet/C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01640" y="5121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Web/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30080" y="5657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TP/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4"/>
          <a:stretch/>
        </p:blipFill>
        <p:spPr>
          <a:xfrm>
            <a:off x="6388200" y="317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B9DC-7C78-47D0-872B-BB1CD9D66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ternatives to SNM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2960" y="1438200"/>
            <a:ext cx="768348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DMTF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Distributed Management Task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In the beginning PC (DM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IM; data model (WM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LI-script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LI-based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CL, Telnet, Perl, Pytho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ORBA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Telecom wor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WS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Methods, WDSL, XML, SO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54E3-A313-4E15-85B0-026A1BDF6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Its hard to be a ven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365960" y="3976560"/>
            <a:ext cx="598320" cy="352440"/>
            <a:chOff x="7365960" y="3976560"/>
            <a:chExt cx="598320" cy="352440"/>
          </a:xfrm>
        </p:grpSpPr>
        <p:sp>
          <p:nvSpPr>
            <p:cNvPr id="478" name=""/>
            <p:cNvSpPr/>
            <p:nvPr/>
          </p:nvSpPr>
          <p:spPr>
            <a:xfrm>
              <a:off x="7368840" y="403848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72080" y="397656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7432560" y="4046400"/>
              <a:ext cx="195120" cy="100080"/>
              <a:chOff x="7432560" y="4046400"/>
              <a:chExt cx="195120" cy="100080"/>
            </a:xfrm>
          </p:grpSpPr>
          <p:sp>
            <p:nvSpPr>
              <p:cNvPr id="481" name=""/>
              <p:cNvSpPr/>
              <p:nvPr/>
            </p:nvSpPr>
            <p:spPr>
              <a:xfrm>
                <a:off x="7524360" y="4046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32560" y="404640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32560" y="408600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494480" y="410832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500600" y="410832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600680" y="406368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7724520" y="4046400"/>
              <a:ext cx="182520" cy="100080"/>
              <a:chOff x="7724520" y="4046400"/>
              <a:chExt cx="182520" cy="100080"/>
            </a:xfrm>
          </p:grpSpPr>
          <p:sp>
            <p:nvSpPr>
              <p:cNvPr id="488" name=""/>
              <p:cNvSpPr/>
              <p:nvPr/>
            </p:nvSpPr>
            <p:spPr>
              <a:xfrm>
                <a:off x="7805520" y="4046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7724520" y="4046400"/>
                <a:ext cx="182520" cy="100080"/>
                <a:chOff x="7724520" y="4046400"/>
                <a:chExt cx="182520" cy="1000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724520" y="404640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845120" y="408600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833960" y="410832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735680" y="410832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24520" y="406368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" name=""/>
            <p:cNvGrpSpPr/>
            <p:nvPr/>
          </p:nvGrpSpPr>
          <p:grpSpPr>
            <a:xfrm>
              <a:off x="7613640" y="3992400"/>
              <a:ext cx="121680" cy="103320"/>
              <a:chOff x="7613640" y="3992400"/>
              <a:chExt cx="121680" cy="103320"/>
            </a:xfrm>
          </p:grpSpPr>
          <p:sp>
            <p:nvSpPr>
              <p:cNvPr id="496" name=""/>
              <p:cNvSpPr/>
              <p:nvPr/>
            </p:nvSpPr>
            <p:spPr>
              <a:xfrm>
                <a:off x="7708680" y="4016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13640" y="4016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13640" y="399240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18320" y="406872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580160" y="4100400"/>
              <a:ext cx="176040" cy="152280"/>
              <a:chOff x="7580160" y="4100400"/>
              <a:chExt cx="176040" cy="152280"/>
            </a:xfrm>
          </p:grpSpPr>
          <p:sp>
            <p:nvSpPr>
              <p:cNvPr id="501" name=""/>
              <p:cNvSpPr/>
              <p:nvPr/>
            </p:nvSpPr>
            <p:spPr>
              <a:xfrm>
                <a:off x="7580160" y="410040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580160" y="416844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67280" y="416844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7964280" y="4119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65960" y="41148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6" name=""/>
          <p:cNvGraphicFramePr/>
          <p:nvPr/>
        </p:nvGraphicFramePr>
        <p:xfrm>
          <a:off x="1460520" y="3243240"/>
          <a:ext cx="9446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3243240"/>
                    <a:ext cx="9446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2787480" y="4122720"/>
            <a:ext cx="4035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52760" y="1855800"/>
            <a:ext cx="2336760" cy="798480"/>
          </a:xfrm>
          <a:prstGeom prst="wedgeRoundRectCallout">
            <a:avLst>
              <a:gd name="adj1" fmla="val -41166"/>
              <a:gd name="adj2" fmla="val 1168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Can we use the Web interface toda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5760" y="1719360"/>
            <a:ext cx="19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elne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T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(COR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Web Servi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DD09-C687-49DC-8E1F-4343A23A7E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ore focus on funtiona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305840" y="4105440"/>
            <a:ext cx="598320" cy="352440"/>
            <a:chOff x="7305840" y="4105440"/>
            <a:chExt cx="598320" cy="352440"/>
          </a:xfrm>
        </p:grpSpPr>
        <p:sp>
          <p:nvSpPr>
            <p:cNvPr id="513" name=""/>
            <p:cNvSpPr/>
            <p:nvPr/>
          </p:nvSpPr>
          <p:spPr>
            <a:xfrm>
              <a:off x="7308720" y="4167360"/>
              <a:ext cx="590760" cy="29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1960" y="4105440"/>
              <a:ext cx="584280" cy="28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372440" y="4175280"/>
              <a:ext cx="195120" cy="100080"/>
              <a:chOff x="7372440" y="4175280"/>
              <a:chExt cx="195120" cy="100080"/>
            </a:xfrm>
          </p:grpSpPr>
          <p:sp>
            <p:nvSpPr>
              <p:cNvPr id="516" name=""/>
              <p:cNvSpPr/>
              <p:nvPr/>
            </p:nvSpPr>
            <p:spPr>
              <a:xfrm>
                <a:off x="7464240" y="41752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72440" y="4175280"/>
                <a:ext cx="180720" cy="79200"/>
              </a:xfrm>
              <a:custGeom>
                <a:avLst/>
                <a:gdLst/>
                <a:ahLst/>
                <a:rect l="l" t="t" r="r" b="b"/>
                <a:pathLst>
                  <a:path w="114" h="50">
                    <a:moveTo>
                      <a:pt x="63" y="0"/>
                    </a:moveTo>
                    <a:lnTo>
                      <a:pt x="0" y="25"/>
                    </a:lnTo>
                    <a:lnTo>
                      <a:pt x="38" y="49"/>
                    </a:lnTo>
                    <a:lnTo>
                      <a:pt x="43" y="38"/>
                    </a:lnTo>
                    <a:lnTo>
                      <a:pt x="107" y="38"/>
                    </a:lnTo>
                    <a:lnTo>
                      <a:pt x="113" y="11"/>
                    </a:lnTo>
                    <a:lnTo>
                      <a:pt x="58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72440" y="421488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0" y="0"/>
                    </a:moveTo>
                    <a:lnTo>
                      <a:pt x="39" y="26"/>
                    </a:lnTo>
                    <a:lnTo>
                      <a:pt x="39" y="3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34360" y="423720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12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40480" y="423720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0" y="16"/>
                    </a:lnTo>
                    <a:lnTo>
                      <a:pt x="63" y="16"/>
                    </a:lnTo>
                    <a:lnTo>
                      <a:pt x="6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40560" y="419256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0" y="27"/>
                    </a:lnTo>
                    <a:lnTo>
                      <a:pt x="0" y="38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664400" y="4175280"/>
              <a:ext cx="182520" cy="100080"/>
              <a:chOff x="7664400" y="4175280"/>
              <a:chExt cx="182520" cy="100080"/>
            </a:xfrm>
          </p:grpSpPr>
          <p:sp>
            <p:nvSpPr>
              <p:cNvPr id="523" name=""/>
              <p:cNvSpPr/>
              <p:nvPr/>
            </p:nvSpPr>
            <p:spPr>
              <a:xfrm>
                <a:off x="7745400" y="41752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16" y="10"/>
                    </a:lnTo>
                    <a:lnTo>
                      <a:pt x="16" y="2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664400" y="4175280"/>
                <a:ext cx="182520" cy="100080"/>
                <a:chOff x="7664400" y="4175280"/>
                <a:chExt cx="182520" cy="1000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664400" y="417528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115" h="50">
                      <a:moveTo>
                        <a:pt x="50" y="0"/>
                      </a:moveTo>
                      <a:lnTo>
                        <a:pt x="114" y="25"/>
                      </a:lnTo>
                      <a:lnTo>
                        <a:pt x="75" y="49"/>
                      </a:lnTo>
                      <a:lnTo>
                        <a:pt x="70" y="38"/>
                      </a:lnTo>
                      <a:lnTo>
                        <a:pt x="7" y="38"/>
                      </a:lnTo>
                      <a:lnTo>
                        <a:pt x="0" y="11"/>
                      </a:lnTo>
                      <a:lnTo>
                        <a:pt x="55" y="1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785000" y="4214880"/>
                  <a:ext cx="61920" cy="6048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8" y="0"/>
                      </a:move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38" y="1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773840" y="423720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1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6" y="23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675560" y="423720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62" y="1"/>
                      </a:move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62" y="1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664400" y="419256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16" y="3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0" name=""/>
            <p:cNvGrpSpPr/>
            <p:nvPr/>
          </p:nvGrpSpPr>
          <p:grpSpPr>
            <a:xfrm>
              <a:off x="7553520" y="4121280"/>
              <a:ext cx="121680" cy="103320"/>
              <a:chOff x="7553520" y="4121280"/>
              <a:chExt cx="121680" cy="103320"/>
            </a:xfrm>
          </p:grpSpPr>
          <p:sp>
            <p:nvSpPr>
              <p:cNvPr id="531" name=""/>
              <p:cNvSpPr/>
              <p:nvPr/>
            </p:nvSpPr>
            <p:spPr>
              <a:xfrm>
                <a:off x="7648560" y="41450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553520" y="41450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553520" y="4121280"/>
                <a:ext cx="112320" cy="7776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35" y="0"/>
                    </a:moveTo>
                    <a:lnTo>
                      <a:pt x="0" y="15"/>
                    </a:lnTo>
                    <a:lnTo>
                      <a:pt x="10" y="15"/>
                    </a:lnTo>
                    <a:lnTo>
                      <a:pt x="3" y="48"/>
                    </a:lnTo>
                    <a:lnTo>
                      <a:pt x="67" y="48"/>
                    </a:lnTo>
                    <a:lnTo>
                      <a:pt x="60" y="15"/>
                    </a:lnTo>
                    <a:lnTo>
                      <a:pt x="70" y="1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558200" y="4197600"/>
                <a:ext cx="99360" cy="2700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62" y="0"/>
                    </a:lnTo>
                    <a:lnTo>
                      <a:pt x="6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7520040" y="4229280"/>
              <a:ext cx="176040" cy="152280"/>
              <a:chOff x="7520040" y="4229280"/>
              <a:chExt cx="176040" cy="152280"/>
            </a:xfrm>
          </p:grpSpPr>
          <p:sp>
            <p:nvSpPr>
              <p:cNvPr id="536" name=""/>
              <p:cNvSpPr/>
              <p:nvPr/>
            </p:nvSpPr>
            <p:spPr>
              <a:xfrm>
                <a:off x="7520040" y="422928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23" y="0"/>
                    </a:moveTo>
                    <a:lnTo>
                      <a:pt x="87" y="0"/>
                    </a:lnTo>
                    <a:lnTo>
                      <a:pt x="93" y="44"/>
                    </a:lnTo>
                    <a:lnTo>
                      <a:pt x="110" y="44"/>
                    </a:lnTo>
                    <a:lnTo>
                      <a:pt x="55" y="80"/>
                    </a:lnTo>
                    <a:lnTo>
                      <a:pt x="0" y="44"/>
                    </a:lnTo>
                    <a:lnTo>
                      <a:pt x="17" y="4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520040" y="429732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55" y="37"/>
                    </a:lnTo>
                    <a:lnTo>
                      <a:pt x="55" y="5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07160" y="4297320"/>
                <a:ext cx="88920" cy="842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37"/>
                    </a:moveTo>
                    <a:lnTo>
                      <a:pt x="0" y="52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7904160" y="42483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05840" y="424368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1400040" y="3459240"/>
          <a:ext cx="9446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3459240"/>
                    <a:ext cx="9446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2727360" y="4237200"/>
            <a:ext cx="4035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92280" y="2071800"/>
            <a:ext cx="2336760" cy="798480"/>
          </a:xfrm>
          <a:prstGeom prst="wedgeRoundRectCallout">
            <a:avLst>
              <a:gd name="adj1" fmla="val -29347"/>
              <a:gd name="adj2" fmla="val 1168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Do we have any problems toda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59720" y="2251080"/>
            <a:ext cx="20682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67400" indent="-1674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One single interace (SN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un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F096-6943-4F13-ACAE-3D190250E2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20:16Z</dcterms:modified>
  <cp:revision>56</cp:revision>
  <dc:subject/>
  <dc:title>PowerPoint Presentation</dc:title>
</cp:coreProperties>
</file>