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E385-5075-4992-A766-15F32208A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0557-8277-490D-82FD-2714F5639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10A8-6DEE-47E6-8220-6534021DE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E2DF-3D2A-4BFB-856A-077ACB8024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16E2-52A9-4BFB-B734-2A8D6A995C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2E78-046E-4B6A-9519-5D6ED4A95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F06C-D5A5-4022-A3E1-8463FDE90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FAA9B-CFA0-4AA0-BA0C-85A166366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88720"/>
            <a:ext cx="86040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22B5-CDEF-463F-9444-31EBB853A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99C2-D089-4460-A2B9-630D13C50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102E-AD9E-44B7-BDA3-DF2BE6C75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0995-FF08-4AEE-A999-263420CA2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7460" r="29497" b="0"/>
          <a:stretch/>
        </p:blipFill>
        <p:spPr>
          <a:xfrm>
            <a:off x="7905600" y="0"/>
            <a:ext cx="1947960" cy="110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058160" y="6305400"/>
            <a:ext cx="218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.</a:t>
            </a:r>
            <a:fld id="{0E3817DF-312F-4D42-A2EA-69823B0601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47640" y="6305400"/>
            <a:ext cx="598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SNMP &amp; Network Management, ©</a:t>
            </a:r>
            <a:r>
              <a:rPr b="0" lang="sv-SE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2010 Easy Software AB, version 6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2960" y="1150920"/>
            <a:ext cx="8364600" cy="0"/>
          </a:xfrm>
          <a:prstGeom prst="line">
            <a:avLst/>
          </a:prstGeom>
          <a:ln w="38160">
            <a:solidFill>
              <a:srgbClr val="ff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4360"/>
            <a:ext cx="9906120" cy="0"/>
          </a:xfrm>
          <a:prstGeom prst="line">
            <a:avLst/>
          </a:prstGeom>
          <a:ln w="93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276960"/>
            <a:ext cx="9906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3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190800">
              <a:spcAft>
                <a:spcPts val="675"/>
              </a:spcAft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9. Reference Literat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13280" y="1514520"/>
            <a:ext cx="3773520" cy="2449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eference Litera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636B-3164-4051-B0CF-7601F72354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Reference Literature  1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61840" y="1425600"/>
            <a:ext cx="743112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General About SNMP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itle: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otal SNMP, Exploring the 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Network Management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uthor: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Harnedy, Sean J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ublisher: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rentice-H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SBN: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0136469949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7C3B-1CBA-4ACE-9752-A3A4FD4D65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Reference Literature  2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1840" y="1425600"/>
            <a:ext cx="743112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General About SNMP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itle: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he Simple Book, An Introdu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o Network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uthor: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Rose, Marshall 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ublisher: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rentice-H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SBN: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48BE-191E-43BD-9FB7-F07061810A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Reference Literature  3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1840" y="1425600"/>
            <a:ext cx="743112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MI and MIBs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itle: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Understanding Snmp Mib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uthor: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erkins, Davi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ublisher: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rentice-H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SBN: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013437708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024E-F25C-4BD7-9637-0BC0721789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Reference Literature  4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61840" y="1425600"/>
            <a:ext cx="743112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v3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itle: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ractical Guide to SNMPv3 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Network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uthor: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Zeltserman, Da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ublisher: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rentice-H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SBN: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01302145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2AD8-1403-4BE3-B419-2925D1BB4B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8:28:40Z</dcterms:created>
  <dc:creator>Leif Hagman</dc:creator>
  <dc:description/>
  <dc:language>en-US</dc:language>
  <cp:lastModifiedBy>Leif</cp:lastModifiedBy>
  <dcterms:modified xsi:type="dcterms:W3CDTF">2010-02-12T16:28:48Z</dcterms:modified>
  <cp:revision>53</cp:revision>
  <dc:subject/>
  <dc:title>PowerPoint Presentation</dc:title>
</cp:coreProperties>
</file>