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907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00808-A4E0-453A-A2E3-A739FC79E4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DCC2D-DE05-4E6D-98EC-BF87297272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92171-91DE-4581-A126-6B12C9EBC6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408B4-9B22-44EB-AE5E-BF068F19FB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46768-9DB4-437C-BE8B-9F64AAE3AC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5D980-E745-4BE7-9ECA-2B8FEAEE64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6BB6B-95E2-4481-AE79-4F2E99BF20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27765-C7CC-49C0-8F35-3CB77DF497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360" y="288720"/>
            <a:ext cx="8604000" cy="30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26689-5030-4F68-B28D-5648DD6DB3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C1116-42FC-4718-9BA7-6BC19F04B8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0182E-A97C-4AB3-9EA9-8DD33DB614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78FE9-7EE3-4EA5-898E-D37E112C87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17460" r="29497" b="0"/>
          <a:stretch/>
        </p:blipFill>
        <p:spPr>
          <a:xfrm>
            <a:off x="7905600" y="0"/>
            <a:ext cx="1947960" cy="1101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7058160" y="6305400"/>
            <a:ext cx="218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.</a:t>
            </a:r>
            <a:fld id="{2072BD14-B7A4-4C0B-AE25-4691ADA9C53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47640" y="6305400"/>
            <a:ext cx="598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SNMP &amp; Network Management, ©</a:t>
            </a:r>
            <a:r>
              <a:rPr b="0" lang="sv-SE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 2010 Easy Software AB, version 6.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42960" y="1150920"/>
            <a:ext cx="8364600" cy="0"/>
          </a:xfrm>
          <a:prstGeom prst="line">
            <a:avLst/>
          </a:prstGeom>
          <a:ln w="38160">
            <a:solidFill>
              <a:srgbClr val="ff00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64360"/>
            <a:ext cx="9906120" cy="0"/>
          </a:xfrm>
          <a:prstGeom prst="line">
            <a:avLst/>
          </a:prstGeom>
          <a:ln w="93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276960"/>
            <a:ext cx="99061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190800">
              <a:lnSpc>
                <a:spcPct val="105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19044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33440" indent="-19044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14680" indent="-190800">
              <a:spcAft>
                <a:spcPts val="675"/>
              </a:spcAft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714680" indent="-190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714680" indent="-190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4. Management Information Bas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13280" y="1514520"/>
            <a:ext cx="3773520" cy="2449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Standard MIB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Private MIB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MIBs You Should Know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89BE8-B393-4747-9CEB-75A26A5DB33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ff"/>
                </a:solidFill>
                <a:latin typeface="Arial"/>
              </a:rPr>
              <a:t>MIB Root Tre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0480" y="5410080"/>
            <a:ext cx="330120" cy="430200"/>
          </a:xfrm>
          <a:prstGeom prst="flowChartDocumen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14800" y="1879560"/>
            <a:ext cx="1104840" cy="317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51240" y="1879560"/>
            <a:ext cx="1104840" cy="317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ccitt (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65760" y="1879560"/>
            <a:ext cx="1486080" cy="317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joint-iso-ccitt (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76440" y="4267080"/>
            <a:ext cx="1270080" cy="317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91320" y="4267080"/>
            <a:ext cx="1269720" cy="317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600440" y="1247760"/>
            <a:ext cx="165240" cy="165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945880" y="1346040"/>
            <a:ext cx="1714680" cy="50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673520" y="1371600"/>
            <a:ext cx="0" cy="482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62440" y="1359000"/>
            <a:ext cx="1600200" cy="495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673520" y="2222640"/>
            <a:ext cx="0" cy="203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035160" y="3873600"/>
            <a:ext cx="1376640" cy="393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944960" y="3873600"/>
            <a:ext cx="1392480" cy="406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14800" y="2438280"/>
            <a:ext cx="1104840" cy="317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14800" y="2984400"/>
            <a:ext cx="1104840" cy="317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3543480"/>
            <a:ext cx="1104840" cy="31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73520" y="2781360"/>
            <a:ext cx="0" cy="203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673520" y="3327480"/>
            <a:ext cx="0" cy="203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476440" y="4788000"/>
            <a:ext cx="1270080" cy="317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91320" y="4788000"/>
            <a:ext cx="1269720" cy="317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59200" y="5410080"/>
            <a:ext cx="330120" cy="430200"/>
          </a:xfrm>
          <a:prstGeom prst="flowChartDocumen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15000" y="5410080"/>
            <a:ext cx="330120" cy="430200"/>
          </a:xfrm>
          <a:prstGeom prst="flowChartDocumen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222960" y="5410080"/>
            <a:ext cx="330120" cy="430200"/>
          </a:xfrm>
          <a:prstGeom prst="flowChartDocumen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98880" y="4584600"/>
            <a:ext cx="0" cy="203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38960" y="4584600"/>
            <a:ext cx="0" cy="203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577600" y="5118120"/>
            <a:ext cx="368280" cy="279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73320" y="5118120"/>
            <a:ext cx="50760" cy="279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5841720" y="5118120"/>
            <a:ext cx="368280" cy="279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337440" y="5118120"/>
            <a:ext cx="50760" cy="279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4F5F0-929B-475C-8C73-989F013A31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Enterprise OI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68320" y="1996920"/>
            <a:ext cx="6623280" cy="2870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609560" y="1852560"/>
          <a:ext cx="6705720" cy="293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9560" y="1852560"/>
                    <a:ext cx="6705720" cy="29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644CF-41D4-4752-A81B-E0871BC075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Standard MIB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2960" y="1603080"/>
            <a:ext cx="6821280" cy="40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MIB-I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IF-MIB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Transmission MIB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BRIDGE-MIB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UPS-MIB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HOST-RESOURCES-MIB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RMON-MIB, RMON2-MIB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SNMP Framework MIB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CCF38-6168-426D-AC41-58ED29F9CAD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Private MIBs - Cisc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2960" y="1603080"/>
            <a:ext cx="6821280" cy="40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MIB-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ffffff"/>
                </a:solidFill>
                <a:latin typeface="Arial"/>
              </a:rPr>
              <a:t>../private/cisco/loca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ffffff"/>
                </a:solidFill>
                <a:latin typeface="Arial"/>
              </a:rPr>
              <a:t>../private/cisco/ciscoMgm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ftp://ftp.cisco.com/pub/mib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4AB61-33A9-4E90-AEBE-97E46A9343A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Private MIBs – Microsoft  1(2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2960" y="1603080"/>
            <a:ext cx="6821280" cy="40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MIB-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ffffff"/>
                </a:solidFill>
                <a:latin typeface="Arial"/>
              </a:rPr>
              <a:t>../private/lanmanage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81240">
              <a:lnSpc>
                <a:spcPct val="105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ffffff"/>
                </a:solidFill>
                <a:latin typeface="Arial"/>
              </a:rPr>
              <a:t>LANMAN-MIB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C68E4-F930-487A-9546-0215F248A8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Private MIBs – Microsoft  2(2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2960" y="1603080"/>
            <a:ext cx="6821280" cy="40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MIB-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ffffff"/>
                </a:solidFill>
                <a:latin typeface="Arial"/>
              </a:rPr>
              <a:t>../private/microsof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81240">
              <a:lnSpc>
                <a:spcPct val="105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ffffff"/>
                </a:solidFill>
                <a:latin typeface="Arial"/>
              </a:rPr>
              <a:t>DHCP-MIB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81240">
              <a:lnSpc>
                <a:spcPct val="105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ffffff"/>
                </a:solidFill>
                <a:latin typeface="Arial"/>
              </a:rPr>
              <a:t>HttpServer-MIB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81240">
              <a:lnSpc>
                <a:spcPct val="105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ffffff"/>
                </a:solidFill>
                <a:latin typeface="Arial"/>
              </a:rPr>
              <a:t>FtpServer-MIB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81240">
              <a:lnSpc>
                <a:spcPct val="105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ffffff"/>
                </a:solidFill>
                <a:latin typeface="Arial"/>
              </a:rPr>
              <a:t>ProxyCache-MIB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81240">
              <a:lnSpc>
                <a:spcPct val="105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ffffff"/>
                </a:solidFill>
                <a:latin typeface="Arial"/>
              </a:rPr>
              <a:t>MSSQLSERVER-MIB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81240">
              <a:lnSpc>
                <a:spcPct val="105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ffffff"/>
                </a:solidFill>
                <a:latin typeface="Arial"/>
              </a:rPr>
              <a:t>EXCHANGE-MIB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A3151-2553-40DD-B3AB-668A427C786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MIB Inform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2600" y="1603080"/>
            <a:ext cx="8459640" cy="30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Standard and Private MIB fi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http://www.oidview.com/mib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Enterprise Numb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http://www.iana.org/assignments/enterprise-numb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80CDE-F45C-4359-B158-796F17CA9A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0T08:28:40Z</dcterms:created>
  <dc:creator>Leif Hagman</dc:creator>
  <dc:description/>
  <dc:language>en-US</dc:language>
  <cp:lastModifiedBy>Leif</cp:lastModifiedBy>
  <dcterms:modified xsi:type="dcterms:W3CDTF">2010-02-12T16:23:38Z</dcterms:modified>
  <cp:revision>60</cp:revision>
  <dc:subject/>
  <dc:title>PowerPoint Presentation</dc:title>
</cp:coreProperties>
</file>